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8840" y="115920"/>
            <a:ext cx="9726840" cy="436680"/>
            <a:chOff x="-798840" y="115920"/>
            <a:chExt cx="9726840" cy="436680"/>
          </a:xfrm>
        </p:grpSpPr>
        <p:sp>
          <p:nvSpPr>
            <p:cNvPr id="1" name="Rectangle 111"/>
            <p:cNvSpPr/>
            <p:nvPr/>
          </p:nvSpPr>
          <p:spPr>
            <a:xfrm>
              <a:off x="1834920" y="189000"/>
              <a:ext cx="5616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" name="Rectangle 112"/>
            <p:cNvSpPr/>
            <p:nvPr/>
          </p:nvSpPr>
          <p:spPr>
            <a:xfrm>
              <a:off x="-798840" y="135000"/>
              <a:ext cx="350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Dotum"/>
                  <a:ea typeface="Dotum"/>
                </a:rPr>
                <a:t>Powerdiagram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179280" y="549360"/>
              <a:ext cx="8748720" cy="1440"/>
              <a:chOff x="179280" y="549360"/>
              <a:chExt cx="8748720" cy="1440"/>
            </a:xfrm>
          </p:grpSpPr>
          <p:sp>
            <p:nvSpPr>
              <p:cNvPr id="4" name="Line 113"/>
              <p:cNvSpPr/>
              <p:nvPr/>
            </p:nvSpPr>
            <p:spPr>
              <a:xfrm>
                <a:off x="179280" y="549360"/>
                <a:ext cx="874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marL="914400" indent="-914400" algn="r"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" name=""/>
              <p:cNvSpPr txBox="1"/>
              <p:nvPr/>
            </p:nvSpPr>
            <p:spPr>
              <a:xfrm>
                <a:off x="179280" y="549360"/>
                <a:ext cx="874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179280" y="115920"/>
              <a:ext cx="8748720" cy="1440"/>
              <a:chOff x="179280" y="115920"/>
              <a:chExt cx="8748720" cy="1440"/>
            </a:xfrm>
          </p:grpSpPr>
          <p:sp>
            <p:nvSpPr>
              <p:cNvPr id="7" name="Line 114"/>
              <p:cNvSpPr/>
              <p:nvPr/>
            </p:nvSpPr>
            <p:spPr>
              <a:xfrm>
                <a:off x="179280" y="115920"/>
                <a:ext cx="874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marL="914400" indent="-914400" algn="r"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" name=""/>
              <p:cNvSpPr txBox="1"/>
              <p:nvPr/>
            </p:nvSpPr>
            <p:spPr>
              <a:xfrm>
                <a:off x="179280" y="115920"/>
                <a:ext cx="874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763640" y="189000"/>
              <a:ext cx="1440" cy="287280"/>
              <a:chOff x="1763640" y="189000"/>
              <a:chExt cx="1440" cy="287280"/>
            </a:xfrm>
          </p:grpSpPr>
          <p:sp>
            <p:nvSpPr>
              <p:cNvPr id="10" name="Line 115"/>
              <p:cNvSpPr/>
              <p:nvPr/>
            </p:nvSpPr>
            <p:spPr>
              <a:xfrm>
                <a:off x="1763640" y="189000"/>
                <a:ext cx="144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r"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" name=""/>
              <p:cNvSpPr txBox="1"/>
              <p:nvPr/>
            </p:nvSpPr>
            <p:spPr>
              <a:xfrm>
                <a:off x="1763640" y="189000"/>
                <a:ext cx="144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2" name="矩形 2"/>
          <p:cNvSpPr/>
          <p:nvPr/>
        </p:nvSpPr>
        <p:spPr>
          <a:xfrm>
            <a:off x="771840" y="8388360"/>
            <a:ext cx="77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更多精彩，请移步：让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飞起来丨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http://pptshare.qzone.qq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30320" y="1546200"/>
            <a:ext cx="9259200" cy="4038120"/>
            <a:chOff x="130320" y="1546200"/>
            <a:chExt cx="9259200" cy="4038120"/>
          </a:xfrm>
        </p:grpSpPr>
        <p:grpSp>
          <p:nvGrpSpPr>
            <p:cNvPr id="52" name=""/>
            <p:cNvGrpSpPr/>
            <p:nvPr/>
          </p:nvGrpSpPr>
          <p:grpSpPr>
            <a:xfrm>
              <a:off x="3876840" y="3339360"/>
              <a:ext cx="5486040" cy="974880"/>
              <a:chOff x="3876840" y="3339360"/>
              <a:chExt cx="5486040" cy="97488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3876840" y="4035240"/>
                <a:ext cx="4253760" cy="279000"/>
                <a:chOff x="3876840" y="4035240"/>
                <a:chExt cx="4253760" cy="279000"/>
              </a:xfrm>
            </p:grpSpPr>
            <p:grpSp>
              <p:nvGrpSpPr>
                <p:cNvPr id="54" name=""/>
                <p:cNvGrpSpPr/>
                <p:nvPr/>
              </p:nvGrpSpPr>
              <p:grpSpPr>
                <a:xfrm>
                  <a:off x="3876840" y="4313160"/>
                  <a:ext cx="3953880" cy="1080"/>
                  <a:chOff x="3876840" y="4313160"/>
                  <a:chExt cx="3953880" cy="1080"/>
                </a:xfrm>
              </p:grpSpPr>
              <p:sp>
                <p:nvSpPr>
                  <p:cNvPr id="55" name="Line 4412"/>
                  <p:cNvSpPr/>
                  <p:nvPr/>
                </p:nvSpPr>
                <p:spPr>
                  <a:xfrm>
                    <a:off x="3876840" y="4313160"/>
                    <a:ext cx="3953880" cy="108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4640" bIns="-44640" anchor="ctr">
                    <a:noAutofit/>
                  </a:bodyPr>
                  <a:p>
                    <a:pPr marL="914400" indent="-914400" algn="r"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" name=""/>
                  <p:cNvSpPr txBox="1"/>
                  <p:nvPr/>
                </p:nvSpPr>
                <p:spPr>
                  <a:xfrm>
                    <a:off x="3876840" y="4313160"/>
                    <a:ext cx="395388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2160" rIns="92160" tIns="-45000" bIns="-45000" anchor="ctr">
                    <a:noAutofit/>
                  </a:bodyPr>
                  <a:p>
                    <a:pPr marL="914400" indent="-914400" algn="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7851960" y="4035240"/>
                  <a:ext cx="278640" cy="277920"/>
                  <a:chOff x="7851960" y="4035240"/>
                  <a:chExt cx="278640" cy="277920"/>
                </a:xfrm>
              </p:grpSpPr>
              <p:sp>
                <p:nvSpPr>
                  <p:cNvPr id="58" name="Line 4413"/>
                  <p:cNvSpPr/>
                  <p:nvPr/>
                </p:nvSpPr>
                <p:spPr>
                  <a:xfrm flipV="1">
                    <a:off x="7852320" y="4035240"/>
                    <a:ext cx="278280" cy="27792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pPr marL="914400" indent="-914400" algn="r"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9" name=""/>
                  <p:cNvSpPr txBox="1"/>
                  <p:nvPr/>
                </p:nvSpPr>
                <p:spPr>
                  <a:xfrm rot="10800000">
                    <a:off x="7851960" y="4035240"/>
                    <a:ext cx="278280" cy="27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2160" rIns="92160" tIns="46080" bIns="46080" anchor="ctr" anchorCtr="1">
                    <a:noAutofit/>
                  </a:bodyPr>
                  <a:p>
                    <a:pPr marL="914400" indent="-914400" algn="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sp>
            <p:nvSpPr>
              <p:cNvPr id="60" name="PubPieSlice"/>
              <p:cNvSpPr/>
              <p:nvPr/>
            </p:nvSpPr>
            <p:spPr>
              <a:xfrm rot="16200000">
                <a:off x="7918560" y="3337920"/>
                <a:ext cx="828000" cy="830520"/>
              </a:xfrm>
              <a:prstGeom prst="pie">
                <a:avLst/>
              </a:prstGeom>
              <a:solidFill>
                <a:srgbClr val="ffffff"/>
              </a:solidFill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1" name="Text Box 4415"/>
              <p:cNvSpPr/>
              <p:nvPr/>
            </p:nvSpPr>
            <p:spPr>
              <a:xfrm>
                <a:off x="6896520" y="3457800"/>
                <a:ext cx="2466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rPr>
                  <a:t>45%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090080" y="3520440"/>
              <a:ext cx="565920" cy="1017360"/>
              <a:chOff x="1090080" y="3520440"/>
              <a:chExt cx="565920" cy="1017360"/>
            </a:xfrm>
          </p:grpSpPr>
          <p:sp>
            <p:nvSpPr>
              <p:cNvPr id="63" name="Line 4338"/>
              <p:cNvSpPr/>
              <p:nvPr/>
            </p:nvSpPr>
            <p:spPr>
              <a:xfrm flipH="1">
                <a:off x="1090080" y="3520440"/>
                <a:ext cx="565560" cy="1017360"/>
              </a:xfrm>
              <a:prstGeom prst="line">
                <a:avLst/>
              </a:prstGeom>
              <a:ln cap="rnd" w="158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marL="914400" indent="-914400" algn="r"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1090440" y="3520440"/>
                <a:ext cx="565560" cy="1017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46080" bIns="46080" anchor="ctr" anchorCtr="1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776760" y="3631320"/>
              <a:ext cx="568440" cy="1026360"/>
              <a:chOff x="3776760" y="3631320"/>
              <a:chExt cx="568440" cy="1026360"/>
            </a:xfrm>
          </p:grpSpPr>
          <p:sp>
            <p:nvSpPr>
              <p:cNvPr id="66" name="Line 4337"/>
              <p:cNvSpPr/>
              <p:nvPr/>
            </p:nvSpPr>
            <p:spPr>
              <a:xfrm>
                <a:off x="3776760" y="3631320"/>
                <a:ext cx="568440" cy="1026360"/>
              </a:xfrm>
              <a:prstGeom prst="line">
                <a:avLst/>
              </a:prstGeom>
              <a:ln cap="rnd" w="158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marL="914400" indent="-914400" algn="r"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>
                <a:off x="3776760" y="3631320"/>
                <a:ext cx="568440" cy="102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46080" bIns="46080" anchor="ctr" anchorCtr="1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68" name="Freeform 4314"/>
            <p:cNvSpPr/>
            <p:nvPr/>
          </p:nvSpPr>
          <p:spPr>
            <a:xfrm>
              <a:off x="2627640" y="1546200"/>
              <a:ext cx="1080" cy="10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" name="Rectangle 4315"/>
            <p:cNvSpPr/>
            <p:nvPr/>
          </p:nvSpPr>
          <p:spPr>
            <a:xfrm>
              <a:off x="2167920" y="1867320"/>
              <a:ext cx="1440" cy="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" name="Rectangle 4316"/>
            <p:cNvSpPr/>
            <p:nvPr/>
          </p:nvSpPr>
          <p:spPr>
            <a:xfrm>
              <a:off x="2167920" y="1867320"/>
              <a:ext cx="1440" cy="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" name="Freeform 4317"/>
            <p:cNvSpPr/>
            <p:nvPr/>
          </p:nvSpPr>
          <p:spPr>
            <a:xfrm>
              <a:off x="2167920" y="1867320"/>
              <a:ext cx="1440" cy="10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" name="Freeform 4320"/>
            <p:cNvSpPr/>
            <p:nvPr/>
          </p:nvSpPr>
          <p:spPr>
            <a:xfrm>
              <a:off x="130320" y="4737600"/>
              <a:ext cx="4070520" cy="84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" name="Freeform 4324"/>
            <p:cNvSpPr/>
            <p:nvPr/>
          </p:nvSpPr>
          <p:spPr>
            <a:xfrm>
              <a:off x="601920" y="4470480"/>
              <a:ext cx="3661920" cy="267120"/>
            </a:xfrm>
            <a:prstGeom prst="pie">
              <a:avLst/>
            </a:prstGeom>
            <a:solidFill>
              <a:srgbClr val="dc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" name="Freeform 4325"/>
            <p:cNvSpPr/>
            <p:nvPr/>
          </p:nvSpPr>
          <p:spPr>
            <a:xfrm>
              <a:off x="3737160" y="4470480"/>
              <a:ext cx="984600" cy="11138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06240" y="3846240"/>
              <a:ext cx="499680" cy="905040"/>
              <a:chOff x="606240" y="3846240"/>
              <a:chExt cx="499680" cy="905040"/>
            </a:xfrm>
          </p:grpSpPr>
          <p:sp>
            <p:nvSpPr>
              <p:cNvPr id="76" name="Line 4335"/>
              <p:cNvSpPr/>
              <p:nvPr/>
            </p:nvSpPr>
            <p:spPr>
              <a:xfrm flipH="1">
                <a:off x="606240" y="3846240"/>
                <a:ext cx="499320" cy="905040"/>
              </a:xfrm>
              <a:prstGeom prst="line">
                <a:avLst/>
              </a:prstGeom>
              <a:ln cap="rnd" w="158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marL="914400" indent="-914400" algn="r"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" name=""/>
              <p:cNvSpPr txBox="1"/>
              <p:nvPr/>
            </p:nvSpPr>
            <p:spPr>
              <a:xfrm>
                <a:off x="606600" y="3846240"/>
                <a:ext cx="499320" cy="90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46080" bIns="46080" anchor="ctr" anchorCtr="1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3266640" y="3846240"/>
              <a:ext cx="488880" cy="905040"/>
              <a:chOff x="3266640" y="3846240"/>
              <a:chExt cx="488880" cy="905040"/>
            </a:xfrm>
          </p:grpSpPr>
          <p:sp>
            <p:nvSpPr>
              <p:cNvPr id="79" name="Line 4336"/>
              <p:cNvSpPr/>
              <p:nvPr/>
            </p:nvSpPr>
            <p:spPr>
              <a:xfrm>
                <a:off x="3266640" y="3846240"/>
                <a:ext cx="488880" cy="905040"/>
              </a:xfrm>
              <a:prstGeom prst="line">
                <a:avLst/>
              </a:prstGeom>
              <a:ln cap="rnd" w="158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marL="914400" indent="-914400" algn="r"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>
                <a:off x="3266640" y="3846240"/>
                <a:ext cx="488880" cy="90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46080" bIns="46080" anchor="ctr" anchorCtr="1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81" name="Freeform 4319"/>
            <p:cNvSpPr/>
            <p:nvPr/>
          </p:nvSpPr>
          <p:spPr>
            <a:xfrm>
              <a:off x="907560" y="3442320"/>
              <a:ext cx="2515680" cy="72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" name="Freeform 4322"/>
            <p:cNvSpPr/>
            <p:nvPr/>
          </p:nvSpPr>
          <p:spPr>
            <a:xfrm>
              <a:off x="1302840" y="3174840"/>
              <a:ext cx="2243520" cy="267480"/>
            </a:xfrm>
            <a:prstGeom prst="pie">
              <a:avLst/>
            </a:prstGeom>
            <a:solidFill>
              <a:srgbClr val="7d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" name="Freeform 4323"/>
            <p:cNvSpPr/>
            <p:nvPr/>
          </p:nvSpPr>
          <p:spPr>
            <a:xfrm>
              <a:off x="3026880" y="3174840"/>
              <a:ext cx="917280" cy="9910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315080" y="2552400"/>
              <a:ext cx="2203200" cy="881640"/>
              <a:chOff x="1315080" y="2552400"/>
              <a:chExt cx="2203200" cy="88164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315080" y="2799720"/>
                <a:ext cx="348480" cy="628560"/>
                <a:chOff x="1315080" y="2799720"/>
                <a:chExt cx="348480" cy="628560"/>
              </a:xfrm>
            </p:grpSpPr>
            <p:sp>
              <p:nvSpPr>
                <p:cNvPr id="86" name="Line 4327"/>
                <p:cNvSpPr/>
                <p:nvPr/>
              </p:nvSpPr>
              <p:spPr>
                <a:xfrm flipH="1">
                  <a:off x="1315080" y="2799720"/>
                  <a:ext cx="348480" cy="628560"/>
                </a:xfrm>
                <a:prstGeom prst="line">
                  <a:avLst/>
                </a:prstGeom>
                <a:ln cap="rnd" w="158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pPr marL="914400" indent="-914400" algn="r"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7" name=""/>
                <p:cNvSpPr txBox="1"/>
                <p:nvPr/>
              </p:nvSpPr>
              <p:spPr>
                <a:xfrm>
                  <a:off x="1315080" y="2799720"/>
                  <a:ext cx="348480" cy="62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2160" rIns="92160" tIns="46080" bIns="46080" anchor="ctr" anchorCtr="1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708640" y="2799720"/>
                <a:ext cx="320760" cy="634320"/>
                <a:chOff x="2708640" y="2799720"/>
                <a:chExt cx="320760" cy="634320"/>
              </a:xfrm>
            </p:grpSpPr>
            <p:sp>
              <p:nvSpPr>
                <p:cNvPr id="89" name="Line 4328"/>
                <p:cNvSpPr/>
                <p:nvPr/>
              </p:nvSpPr>
              <p:spPr>
                <a:xfrm>
                  <a:off x="2708640" y="2799720"/>
                  <a:ext cx="320760" cy="634320"/>
                </a:xfrm>
                <a:prstGeom prst="line">
                  <a:avLst/>
                </a:prstGeom>
                <a:ln cap="rnd" w="158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pPr marL="914400" indent="-914400" algn="r"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0" name=""/>
                <p:cNvSpPr txBox="1"/>
                <p:nvPr/>
              </p:nvSpPr>
              <p:spPr>
                <a:xfrm>
                  <a:off x="2708640" y="2799720"/>
                  <a:ext cx="320760" cy="63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2160" rIns="92160" tIns="46080" bIns="46080" anchor="ctr" anchorCtr="1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197160" y="2552400"/>
                <a:ext cx="321120" cy="634320"/>
                <a:chOff x="3197160" y="2552400"/>
                <a:chExt cx="321120" cy="634320"/>
              </a:xfrm>
            </p:grpSpPr>
            <p:sp>
              <p:nvSpPr>
                <p:cNvPr id="92" name="Line 4330"/>
                <p:cNvSpPr/>
                <p:nvPr/>
              </p:nvSpPr>
              <p:spPr>
                <a:xfrm>
                  <a:off x="3197160" y="2552400"/>
                  <a:ext cx="321120" cy="634320"/>
                </a:xfrm>
                <a:prstGeom prst="line">
                  <a:avLst/>
                </a:prstGeom>
                <a:ln cap="rnd" w="158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pPr marL="914400" indent="-914400" algn="r"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3" name=""/>
                <p:cNvSpPr txBox="1"/>
                <p:nvPr/>
              </p:nvSpPr>
              <p:spPr>
                <a:xfrm>
                  <a:off x="3197160" y="2552400"/>
                  <a:ext cx="321120" cy="63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2160" rIns="92160" tIns="46080" bIns="46080" anchor="ctr" anchorCtr="1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812960" y="2572200"/>
                <a:ext cx="348480" cy="628560"/>
                <a:chOff x="1812960" y="2572200"/>
                <a:chExt cx="348480" cy="628560"/>
              </a:xfrm>
            </p:grpSpPr>
            <p:sp>
              <p:nvSpPr>
                <p:cNvPr id="95" name="Line 4332"/>
                <p:cNvSpPr/>
                <p:nvPr/>
              </p:nvSpPr>
              <p:spPr>
                <a:xfrm flipH="1">
                  <a:off x="1812960" y="2572200"/>
                  <a:ext cx="348480" cy="628560"/>
                </a:xfrm>
                <a:prstGeom prst="line">
                  <a:avLst/>
                </a:prstGeom>
                <a:ln cap="rnd" w="158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pPr marL="914400" indent="-914400" algn="r"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6" name=""/>
                <p:cNvSpPr txBox="1"/>
                <p:nvPr/>
              </p:nvSpPr>
              <p:spPr>
                <a:xfrm>
                  <a:off x="1812960" y="2572200"/>
                  <a:ext cx="348480" cy="62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2160" rIns="92160" tIns="46080" bIns="46080" anchor="ctr" anchorCtr="1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97" name="Freeform 4318"/>
            <p:cNvSpPr/>
            <p:nvPr/>
          </p:nvSpPr>
          <p:spPr>
            <a:xfrm>
              <a:off x="2167920" y="1601280"/>
              <a:ext cx="1068120" cy="126900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" name="Freeform 4321"/>
            <p:cNvSpPr/>
            <p:nvPr/>
          </p:nvSpPr>
          <p:spPr>
            <a:xfrm>
              <a:off x="1616040" y="1867320"/>
              <a:ext cx="1101600" cy="100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" name="Rectangle 4342"/>
            <p:cNvSpPr/>
            <p:nvPr/>
          </p:nvSpPr>
          <p:spPr>
            <a:xfrm>
              <a:off x="802440" y="5033520"/>
              <a:ext cx="29829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482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Dotum"/>
                </a:rPr>
                <a:t>Company</a:t>
              </a:r>
              <a:endParaRPr b="0" lang="en-US" sz="17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" name="Rectangle 4343"/>
            <p:cNvSpPr/>
            <p:nvPr/>
          </p:nvSpPr>
          <p:spPr>
            <a:xfrm>
              <a:off x="808200" y="2523600"/>
              <a:ext cx="28396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482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Dotum"/>
                </a:rPr>
                <a:t>Services</a:t>
              </a:r>
              <a:endParaRPr b="0" lang="en-US" sz="17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" name="Rectangle 4344"/>
            <p:cNvSpPr/>
            <p:nvPr/>
          </p:nvSpPr>
          <p:spPr>
            <a:xfrm>
              <a:off x="799200" y="3639600"/>
              <a:ext cx="2701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482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Dotum"/>
                </a:rPr>
                <a:t>Clients</a:t>
              </a:r>
              <a:endParaRPr b="0" lang="en-US" sz="17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" name="Rectangle 4345"/>
            <p:cNvSpPr/>
            <p:nvPr/>
          </p:nvSpPr>
          <p:spPr>
            <a:xfrm>
              <a:off x="1819080" y="2900520"/>
              <a:ext cx="1751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482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66ff"/>
                  </a:solidFill>
                  <a:latin typeface="Dotum"/>
                </a:rPr>
                <a:t>About services</a:t>
              </a:r>
              <a:endParaRPr b="0" lang="en-US" sz="17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778120" y="2172960"/>
              <a:ext cx="1184760" cy="1440"/>
              <a:chOff x="2778120" y="2172960"/>
              <a:chExt cx="1184760" cy="1440"/>
            </a:xfrm>
          </p:grpSpPr>
          <p:sp>
            <p:nvSpPr>
              <p:cNvPr id="104" name="Line 4347"/>
              <p:cNvSpPr/>
              <p:nvPr/>
            </p:nvSpPr>
            <p:spPr>
              <a:xfrm>
                <a:off x="2778120" y="2172960"/>
                <a:ext cx="1184760" cy="14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4280" bIns="-44280" anchor="ctr">
                <a:noAutofit/>
              </a:bodyPr>
              <a:p>
                <a:pPr marL="914400" indent="-914400" algn="r"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2778120" y="2172960"/>
                <a:ext cx="1184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-44640" bIns="-44640" anchor="ctr" anchorCtr="1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511080" y="3602160"/>
              <a:ext cx="1184760" cy="1440"/>
              <a:chOff x="3511080" y="3602160"/>
              <a:chExt cx="1184760" cy="1440"/>
            </a:xfrm>
          </p:grpSpPr>
          <p:sp>
            <p:nvSpPr>
              <p:cNvPr id="107" name="Line 4354"/>
              <p:cNvSpPr/>
              <p:nvPr/>
            </p:nvSpPr>
            <p:spPr>
              <a:xfrm>
                <a:off x="3511080" y="3602160"/>
                <a:ext cx="1184760" cy="14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4280" bIns="-44280" anchor="ctr">
                <a:noAutofit/>
              </a:bodyPr>
              <a:p>
                <a:pPr marL="914400" indent="-914400" algn="r"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3511080" y="3602160"/>
                <a:ext cx="1184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-44640" bIns="-44640" anchor="ctr" anchorCtr="1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242600" y="5031000"/>
              <a:ext cx="1184760" cy="1440"/>
              <a:chOff x="4242600" y="5031000"/>
              <a:chExt cx="1184760" cy="1440"/>
            </a:xfrm>
          </p:grpSpPr>
          <p:sp>
            <p:nvSpPr>
              <p:cNvPr id="110" name="Line 4356"/>
              <p:cNvSpPr/>
              <p:nvPr/>
            </p:nvSpPr>
            <p:spPr>
              <a:xfrm>
                <a:off x="4242600" y="5031000"/>
                <a:ext cx="1184760" cy="14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4280" bIns="-44280" anchor="ctr">
                <a:noAutofit/>
              </a:bodyPr>
              <a:p>
                <a:pPr marL="914400" indent="-914400" algn="r"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4242600" y="5031000"/>
                <a:ext cx="1184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-44640" bIns="-44640" anchor="ctr" anchorCtr="1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944440" y="1824120"/>
              <a:ext cx="4996440" cy="937800"/>
              <a:chOff x="2944440" y="1824120"/>
              <a:chExt cx="4996440" cy="937800"/>
            </a:xfrm>
          </p:grpSpPr>
          <p:sp>
            <p:nvSpPr>
              <p:cNvPr id="113" name="Rectangle 4381"/>
              <p:cNvSpPr/>
              <p:nvPr/>
            </p:nvSpPr>
            <p:spPr>
              <a:xfrm>
                <a:off x="2944440" y="2182680"/>
                <a:ext cx="499644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482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Dotum"/>
                  </a:rPr>
                  <a:t>Company's new low-cost and easy-to-use Web-site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482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Dotum"/>
                  </a:rPr>
                  <a:t>design tool will help entrepreneurs spiff up their online stores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482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Dotum"/>
                  </a:rPr>
                  <a:t>The Art and Science of Getting Noticed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482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Dotum"/>
                  </a:rPr>
                  <a:t>An ad-industry veteran and entrepreneur shares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3993480" y="2140560"/>
                <a:ext cx="3037680" cy="69120"/>
                <a:chOff x="3993480" y="2140560"/>
                <a:chExt cx="3037680" cy="69120"/>
              </a:xfrm>
            </p:grpSpPr>
            <p:sp>
              <p:nvSpPr>
                <p:cNvPr id="115" name="Rectangle 4385"/>
                <p:cNvSpPr/>
                <p:nvPr/>
              </p:nvSpPr>
              <p:spPr>
                <a:xfrm>
                  <a:off x="4799880" y="2140560"/>
                  <a:ext cx="2231280" cy="691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23040" bIns="23040" anchor="ctr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6" name="Rectangle 4384"/>
                <p:cNvSpPr/>
                <p:nvPr/>
              </p:nvSpPr>
              <p:spPr>
                <a:xfrm>
                  <a:off x="3993480" y="2140560"/>
                  <a:ext cx="2131200" cy="691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23040" bIns="23040" anchor="ctr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17" name="Text Box 4386"/>
              <p:cNvSpPr/>
              <p:nvPr/>
            </p:nvSpPr>
            <p:spPr>
              <a:xfrm>
                <a:off x="3093480" y="1824120"/>
                <a:ext cx="3018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Dotum"/>
                  </a:rPr>
                  <a:t>SERVICES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8" name="Text Box 4387"/>
              <p:cNvSpPr/>
              <p:nvPr/>
            </p:nvSpPr>
            <p:spPr>
              <a:xfrm>
                <a:off x="5185800" y="1882440"/>
                <a:ext cx="2745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66"/>
                    </a:solidFill>
                    <a:latin typeface="Dotum"/>
                  </a:rPr>
                  <a:t>Part_001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3732840" y="3250080"/>
              <a:ext cx="4943520" cy="828720"/>
              <a:chOff x="3732840" y="3250080"/>
              <a:chExt cx="4943520" cy="828720"/>
            </a:xfrm>
          </p:grpSpPr>
          <p:sp>
            <p:nvSpPr>
              <p:cNvPr id="120" name="Text Box 4393"/>
              <p:cNvSpPr/>
              <p:nvPr/>
            </p:nvSpPr>
            <p:spPr>
              <a:xfrm>
                <a:off x="5931000" y="3308400"/>
                <a:ext cx="2745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66"/>
                    </a:solidFill>
                    <a:latin typeface="Dotum"/>
                  </a:rPr>
                  <a:t>Part_002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" name="Rectangle 4383"/>
              <p:cNvSpPr/>
              <p:nvPr/>
            </p:nvSpPr>
            <p:spPr>
              <a:xfrm>
                <a:off x="3732840" y="3621240"/>
                <a:ext cx="49291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Dotum"/>
                  </a:rPr>
                  <a:t>Company.com strives to bring you the best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Dotum"/>
                  </a:rPr>
                  <a:t>about a variety of topics to enhance your dining experience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Dotum"/>
                  </a:rPr>
                  <a:t>Over time, we will be adding new sections dealing with food.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4739040" y="3566520"/>
                <a:ext cx="3037320" cy="69120"/>
                <a:chOff x="4739040" y="3566520"/>
                <a:chExt cx="3037320" cy="69120"/>
              </a:xfrm>
            </p:grpSpPr>
            <p:sp>
              <p:nvSpPr>
                <p:cNvPr id="123" name="Rectangle 4390"/>
                <p:cNvSpPr/>
                <p:nvPr/>
              </p:nvSpPr>
              <p:spPr>
                <a:xfrm>
                  <a:off x="5545440" y="3566520"/>
                  <a:ext cx="2230920" cy="691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23040" bIns="23040" anchor="ctr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4" name="Rectangle 4391"/>
                <p:cNvSpPr/>
                <p:nvPr/>
              </p:nvSpPr>
              <p:spPr>
                <a:xfrm>
                  <a:off x="4739040" y="3566520"/>
                  <a:ext cx="2130840" cy="691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23040" bIns="23040" anchor="ctr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25" name="Text Box 4392"/>
              <p:cNvSpPr/>
              <p:nvPr/>
            </p:nvSpPr>
            <p:spPr>
              <a:xfrm>
                <a:off x="3827880" y="3250080"/>
                <a:ext cx="3134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Dotum"/>
                  </a:rPr>
                  <a:t>PARTNERS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4446000" y="4682160"/>
              <a:ext cx="4943520" cy="829080"/>
              <a:chOff x="4446000" y="4682160"/>
              <a:chExt cx="4943520" cy="829080"/>
            </a:xfrm>
          </p:grpSpPr>
          <p:sp>
            <p:nvSpPr>
              <p:cNvPr id="127" name="Text Box 4398"/>
              <p:cNvSpPr/>
              <p:nvPr/>
            </p:nvSpPr>
            <p:spPr>
              <a:xfrm>
                <a:off x="6644160" y="4740480"/>
                <a:ext cx="2745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66"/>
                    </a:solidFill>
                    <a:latin typeface="Dotum"/>
                  </a:rPr>
                  <a:t>Part_003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8" name="Rectangle 4399"/>
              <p:cNvSpPr/>
              <p:nvPr/>
            </p:nvSpPr>
            <p:spPr>
              <a:xfrm>
                <a:off x="4446000" y="5053680"/>
                <a:ext cx="49291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Dotum"/>
                  </a:rPr>
                  <a:t>Company.com strives to bring you the best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Dotum"/>
                  </a:rPr>
                  <a:t>about a variety of topics to enhance your dining experience.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Dotum"/>
                  </a:rPr>
                  <a:t>Over time, we will be adding new sections dealing with food. </a:t>
                </a: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5452200" y="4998240"/>
                <a:ext cx="3037320" cy="69120"/>
                <a:chOff x="5452200" y="4998240"/>
                <a:chExt cx="3037320" cy="69120"/>
              </a:xfrm>
            </p:grpSpPr>
            <p:sp>
              <p:nvSpPr>
                <p:cNvPr id="130" name="Rectangle 4401"/>
                <p:cNvSpPr/>
                <p:nvPr/>
              </p:nvSpPr>
              <p:spPr>
                <a:xfrm>
                  <a:off x="6258600" y="4998240"/>
                  <a:ext cx="2230920" cy="6912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23040" bIns="23040" anchor="ctr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1" name="Rectangle 4402"/>
                <p:cNvSpPr/>
                <p:nvPr/>
              </p:nvSpPr>
              <p:spPr>
                <a:xfrm>
                  <a:off x="5452200" y="4998240"/>
                  <a:ext cx="2130840" cy="6912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23040" bIns="23040" anchor="ctr">
                  <a:noAutofit/>
                </a:bodyPr>
                <a:p>
                  <a:pPr marL="914400" indent="-914400" algn="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32" name="Text Box 4403"/>
              <p:cNvSpPr/>
              <p:nvPr/>
            </p:nvSpPr>
            <p:spPr>
              <a:xfrm>
                <a:off x="4507560" y="4682160"/>
                <a:ext cx="3132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Dotum"/>
                  </a:rPr>
                  <a:t>COMPANY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33" name="Rectangle 4404"/>
            <p:cNvSpPr/>
            <p:nvPr/>
          </p:nvSpPr>
          <p:spPr>
            <a:xfrm>
              <a:off x="1819080" y="4190040"/>
              <a:ext cx="1751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482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9900"/>
                  </a:solidFill>
                  <a:latin typeface="Dotum"/>
                </a:rPr>
                <a:t>About clients</a:t>
              </a:r>
              <a:endParaRPr b="0" lang="en-US" sz="17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123720" y="1894680"/>
              <a:ext cx="5484960" cy="974880"/>
              <a:chOff x="3123720" y="1894680"/>
              <a:chExt cx="5484960" cy="97488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3123720" y="2590560"/>
                <a:ext cx="4252680" cy="279000"/>
                <a:chOff x="3123720" y="2590560"/>
                <a:chExt cx="4252680" cy="27900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3123720" y="2868480"/>
                  <a:ext cx="3953160" cy="1080"/>
                  <a:chOff x="3123720" y="2868480"/>
                  <a:chExt cx="3953160" cy="1080"/>
                </a:xfrm>
              </p:grpSpPr>
              <p:sp>
                <p:nvSpPr>
                  <p:cNvPr id="137" name="Line 4353"/>
                  <p:cNvSpPr/>
                  <p:nvPr/>
                </p:nvSpPr>
                <p:spPr>
                  <a:xfrm>
                    <a:off x="3123720" y="2868480"/>
                    <a:ext cx="3953160" cy="108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4640" bIns="-44640" anchor="ctr">
                    <a:noAutofit/>
                  </a:bodyPr>
                  <a:p>
                    <a:pPr marL="914400" indent="-914400" algn="r"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38" name=""/>
                  <p:cNvSpPr txBox="1"/>
                  <p:nvPr/>
                </p:nvSpPr>
                <p:spPr>
                  <a:xfrm>
                    <a:off x="3123720" y="2868480"/>
                    <a:ext cx="395316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2160" rIns="92160" tIns="-45000" bIns="-45000" anchor="ctr">
                    <a:noAutofit/>
                  </a:bodyPr>
                  <a:p>
                    <a:pPr marL="914400" indent="-914400" algn="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098480" y="2590560"/>
                  <a:ext cx="277920" cy="277920"/>
                  <a:chOff x="7098480" y="2590560"/>
                  <a:chExt cx="277920" cy="277920"/>
                </a:xfrm>
              </p:grpSpPr>
              <p:sp>
                <p:nvSpPr>
                  <p:cNvPr id="140" name="Line 4405"/>
                  <p:cNvSpPr/>
                  <p:nvPr/>
                </p:nvSpPr>
                <p:spPr>
                  <a:xfrm flipV="1">
                    <a:off x="7098480" y="2590560"/>
                    <a:ext cx="277920" cy="27792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pPr marL="914400" indent="-914400" algn="r"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41" name=""/>
                  <p:cNvSpPr txBox="1"/>
                  <p:nvPr/>
                </p:nvSpPr>
                <p:spPr>
                  <a:xfrm rot="10800000">
                    <a:off x="7098480" y="2590560"/>
                    <a:ext cx="277920" cy="27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2160" rIns="92160" tIns="46080" bIns="46080" anchor="ctr" anchorCtr="1">
                    <a:noAutofit/>
                  </a:bodyPr>
                  <a:p>
                    <a:pPr marL="914400" indent="-914400" algn="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sp>
            <p:nvSpPr>
              <p:cNvPr id="142" name="PubPieSlice"/>
              <p:cNvSpPr/>
              <p:nvPr/>
            </p:nvSpPr>
            <p:spPr>
              <a:xfrm rot="16200000">
                <a:off x="7165800" y="1893600"/>
                <a:ext cx="828000" cy="830160"/>
              </a:xfrm>
              <a:prstGeom prst="pie">
                <a:avLst/>
              </a:prstGeom>
              <a:solidFill>
                <a:srgbClr val="ffffff"/>
              </a:solidFill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3" name="Text Box 4407"/>
              <p:cNvSpPr/>
              <p:nvPr/>
            </p:nvSpPr>
            <p:spPr>
              <a:xfrm>
                <a:off x="6142320" y="2013120"/>
                <a:ext cx="2466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914400" indent="-914400" algn="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rPr>
                  <a:t>45%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145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4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7:17:00Z</dcterms:created>
  <dc:creator>VitaminD</dc:creator>
  <dc:description>更多精彩_x005F_x000d_
让PPT飞起来_x005F_x000d_
http://pptshare.qzone.qq.com</dc:description>
  <dc:language>en-US</dc:language>
  <cp:lastModifiedBy>内酷PPT</cp:lastModifiedBy>
  <dcterms:modified xsi:type="dcterms:W3CDTF">2015-01-08T06:52:15Z</dcterms:modified>
  <cp:revision>111</cp:revision>
  <dc:subject/>
  <dc:title>PowerDiagram数据分析类PPT图表50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