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FE35-E741-4FAD-9F43-DD5B520C8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C992-0FFF-41AE-9309-CF78C078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E60C-C06A-4984-8632-1E9A048D6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A2D7-7D96-46B3-A06D-FCB036508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54ED-5A5A-4E21-B150-9C79238C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9A0E-298A-4DD5-A7DC-1A519B98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B4E0-D5E6-41F1-84B7-7B8B64A1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6372-0A63-4AD9-9681-4B8A21BE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51DA-727F-45F7-BB3D-EA929CB4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CAE5-8437-45D5-9AAE-210A4F76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2F64-AC9F-4694-B41D-760BCEC7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2334-A9A7-408A-A0D5-6EAD4905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6F6F-CA85-412B-8D44-26A0C1EE2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78936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7093080" y="5373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630864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08:19:26Z</dcterms:created>
  <dc:creator>Marcelline</dc:creator>
  <dc:description/>
  <dc:language>en-US</dc:language>
  <cp:lastModifiedBy>toshiba</cp:lastModifiedBy>
  <dcterms:modified xsi:type="dcterms:W3CDTF">2015-01-08T04:37:37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