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FCA-83CC-4A51-A066-0AE9774B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D58-0142-40F5-9E3E-75AA255A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0E6-1FE6-402D-BEB4-F918A5E9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6D1-EEEB-4524-877E-E2ECBCED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5B2-C3AA-4490-86CD-6D63AD99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85C-F6F2-40A5-9A89-E554AFA0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454B-FE09-4880-A51E-78B16918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2EB-3AB1-4866-AC11-FF383A90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8ADC-0816-4ED7-BB60-6A225CA8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5BA-F5C3-4F45-8265-52145B9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B57-815D-4C28-A503-DA3F81C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61A-7540-4401-AB08-830569C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58BA-B058-4AB8-A95C-E006A6C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8533-5D81-4F71-8DFC-BF14C434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E5C4-C625-4D0A-B728-16D89E4D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BFF-66F3-4A0A-9252-0A99426E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657A-BD55-492E-9315-7AB05AAA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E365-42E0-4027-8EC3-182024CA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7C0B-3C86-465A-B697-B90EAB0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DC0D-16B5-41EA-B081-5D05FF9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4D91-7A03-440D-84DB-F9A540E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D646-D653-4879-A169-65A499DB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DA6-DD07-4828-8951-6B5D3D9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12AF-85BD-4EBA-9229-6568709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F719-B8D7-4C42-BAE8-C8D647F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223F-07E6-4D2E-9009-0D5DFB49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BE59-F2C0-4261-AA8D-A76F6E8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D5D6-7844-4635-A989-11B9688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59F6-5437-4BAB-8EBC-C7F9EE10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179C-A78B-43A3-9E4F-FBA07A4B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565-D640-4E5E-874B-DA57994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C6D-2649-4E69-9E79-0039B974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7EE-E360-4EE0-8771-9B5CB43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36A-FAF0-4105-A599-70593E8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6CC-DFF0-4DC4-A0E6-A305094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AE8-EE6C-4311-9269-3EC8578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474-8410-4BC0-84E0-7289B8258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5B0C-3A99-4308-815C-04F323868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A414-B856-458A-A248-67DBB9F2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爱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/>
  <dc:description/>
  <dc:language>en-US</dc:language>
  <cp:lastModifiedBy>king</cp:lastModifiedBy>
  <dcterms:modified xsi:type="dcterms:W3CDTF">2015-01-07T09:37:4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