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A2F-0CE9-4C63-AFD2-36DA3A1C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7DC-838F-42E9-86EF-CB3CA3B1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887-ABC7-4B2B-A630-20B143FF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449-41C2-4691-B390-78FBF518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7C5-3E81-4683-B735-739F93C6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5E8-972E-49DE-A7EF-B41BC47F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8C5-2EEB-4DAD-A591-E5A73DF9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17F-DAB1-41EC-AD14-D341698B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2E6-DD12-45B2-B429-8EE75ED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845-00A8-4C55-B25A-282A9E8B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54B-347D-4A90-BADE-AEA71E7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856-E0DA-4CBE-98DF-FCAF8F24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6DB5-9781-4381-A4A7-BD466177E35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907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fr-FR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fr-FR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fr-FR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318000" y="595008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fr-FR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fr-FR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fr-FR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869560" y="63817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Éric Vadeboncoeur</cp:lastModifiedBy>
  <cp:lastPrinted>1899-12-30T00:00:00Z</cp:lastPrinted>
  <dcterms:modified xsi:type="dcterms:W3CDTF">2014-06-05T08:20:42Z</dcterms:modified>
  <cp:revision>16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