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58680"/>
            <a:ext cx="8520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E92ED8B-3E8A-4F10-A40C-A7A7A3C22F8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-5040"/>
            <a:ext cx="9144000" cy="6860880"/>
            <a:chOff x="0" y="-5040"/>
            <a:chExt cx="9144000" cy="6860880"/>
          </a:xfrm>
        </p:grpSpPr>
        <p:sp>
          <p:nvSpPr>
            <p:cNvPr id="41" name="Rectangle 2"/>
            <p:cNvSpPr/>
            <p:nvPr/>
          </p:nvSpPr>
          <p:spPr>
            <a:xfrm flipV="1">
              <a:off x="0" y="-5400"/>
              <a:ext cx="9144000" cy="303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3"/>
            <p:cNvSpPr/>
            <p:nvPr/>
          </p:nvSpPr>
          <p:spPr>
            <a:xfrm>
              <a:off x="0" y="3368160"/>
              <a:ext cx="9144000" cy="16992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8"/>
            <p:cNvSpPr/>
            <p:nvPr/>
          </p:nvSpPr>
          <p:spPr>
            <a:xfrm flipV="1">
              <a:off x="0" y="2929320"/>
              <a:ext cx="9144000" cy="4503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>
              <a:off x="0" y="5051880"/>
              <a:ext cx="9144000" cy="180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6320" cy="5083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571920" y="1571760"/>
            <a:ext cx="542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咖啡文化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04520"/>
            <a:ext cx="9144000" cy="1676880"/>
            <a:chOff x="0" y="1604520"/>
            <a:chExt cx="9144000" cy="1676880"/>
          </a:xfrm>
        </p:grpSpPr>
        <p:sp>
          <p:nvSpPr>
            <p:cNvPr id="49" name="Rectangle 3"/>
            <p:cNvSpPr/>
            <p:nvPr/>
          </p:nvSpPr>
          <p:spPr>
            <a:xfrm>
              <a:off x="0" y="1984320"/>
              <a:ext cx="9144000" cy="1297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5"/>
            <p:cNvSpPr/>
            <p:nvPr/>
          </p:nvSpPr>
          <p:spPr>
            <a:xfrm flipV="1">
              <a:off x="0" y="160380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C:\Users\Tom\Desktop\Desktop (unsortiert)\Desktop\Ideensammlung\Zum Sortieren\Coffee.png"/>
          <p:cNvPicPr/>
          <p:nvPr/>
        </p:nvPicPr>
        <p:blipFill>
          <a:blip r:embed="rId1"/>
          <a:stretch/>
        </p:blipFill>
        <p:spPr>
          <a:xfrm>
            <a:off x="0" y="887400"/>
            <a:ext cx="3316320" cy="508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侧圆角矩形 8"/>
          <p:cNvSpPr/>
          <p:nvPr/>
        </p:nvSpPr>
        <p:spPr>
          <a:xfrm rot="5400000">
            <a:off x="4336200" y="4143960"/>
            <a:ext cx="293760" cy="4727520"/>
          </a:xfrm>
          <a:prstGeom prst="pie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21280" y="59500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0:02:33Z</dcterms:created>
  <dc:creator/>
  <dc:description/>
  <dc:language>en-US</dc:language>
  <cp:lastModifiedBy>willon</cp:lastModifiedBy>
  <dcterms:modified xsi:type="dcterms:W3CDTF">2015-01-08T04:51:4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