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687E-A6AB-45C0-A659-6EC5FBC3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C918-C7C5-4643-B3BB-AA1F1EA9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E71E-FE39-47CB-A4ED-6508224F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6C2-E8E7-4F84-934D-9A7EE53C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8902-1A2E-4D56-8DD6-3F9E66CB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F3E9-9034-4816-92B8-EE992AA9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4BC3-9F99-4553-9444-4A2FBEA1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46A5-3355-4A2C-A53E-9B73BF7E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8C65-1C86-41CE-8420-ED021DAC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FCB0-A6EB-4F02-9937-9CAEDA27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B34E-568E-4C48-9B44-861754F3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4C0D-E00B-4B20-9853-AC37184C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6500-AA68-4C81-AF8E-7973DF1B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F4E9-B8AB-4DBE-9D48-79F4430D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20B3-713A-4EFB-894C-57125AC0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0165-6A9C-4179-A91A-3DB301A0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EA7E-7E19-4217-86EE-E802A98D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2706-9302-4FD2-8D3B-A184A337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FC6-55AE-4487-80D3-571FC5DC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E0C-13ED-4097-8C10-FDA5C685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CF9C-B362-482D-8898-3FF9A135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D2AA-65EE-452E-B3FB-CCBB4071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C3F-E65F-4428-9E7B-9D28477F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8155-412A-429D-83FD-5B62E400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A691-BE0A-4711-96BA-218CF2FC52F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1E51-E0BB-4247-AD5A-B4E0F955E08B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客户服务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26920" y="5662440"/>
            <a:ext cx="80582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6308640"/>
            <a:ext cx="56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1e5c1e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1e5c1e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1e5c1e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1e5c1e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1e5c1e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1e5c1e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1e5c1e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1e5c1e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01:43:40Z</dcterms:created>
  <dc:creator/>
  <dc:description/>
  <dc:language>en-US</dc:language>
  <cp:lastModifiedBy>秋叶</cp:lastModifiedBy>
  <dcterms:modified xsi:type="dcterms:W3CDTF">2015-01-08T04:01:32Z</dcterms:modified>
  <cp:revision>9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011408242052</vt:lpwstr>
  </property>
</Properties>
</file>