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8BE1-F325-42D7-8864-49BBE772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82EC-B96C-40BF-95A7-7F049D83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05F8-E8F4-4152-8444-5466C51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042C-3879-4293-98F1-A2410C5A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2106-3BA4-473D-9A70-4F12157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3998-503F-43E7-BF1F-6B2BFCA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4847-12B3-4942-88A7-D37AF39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1F1B-B6D8-4143-984A-84EC605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8CE2-0432-4CDD-A6F5-4558F1A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65A7-66C7-4A5C-A2E6-89A6E5F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FE3D-9C53-40C3-99CD-7CAFAB2D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E78B-8F25-4EF5-8800-4FF7AC0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3D0BF37-8A93-4553-847E-3BBA1A0118D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da5800">
                  <a:alpha val="85098"/>
                </a:srgbClr>
              </a:gs>
              <a:gs pos="100000">
                <a:srgbClr val="c02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49720"/>
            <a:ext cx="9182160" cy="9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867280"/>
            <a:ext cx="9182160" cy="82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-14400" y="2529000"/>
            <a:ext cx="9177480" cy="1800000"/>
            <a:chOff x="-14400" y="2529000"/>
            <a:chExt cx="9177480" cy="1800000"/>
          </a:xfrm>
        </p:grpSpPr>
        <p:sp>
          <p:nvSpPr>
            <p:cNvPr id="86" name=""/>
            <p:cNvSpPr/>
            <p:nvPr/>
          </p:nvSpPr>
          <p:spPr>
            <a:xfrm>
              <a:off x="-14400" y="2529000"/>
              <a:ext cx="9177480" cy="1800000"/>
            </a:xfrm>
            <a:prstGeom prst="rect">
              <a:avLst/>
            </a:prstGeom>
            <a:gradFill rotWithShape="0">
              <a:gsLst>
                <a:gs pos="0">
                  <a:srgbClr val="da5800">
                    <a:alpha val="85098"/>
                  </a:srgbClr>
                </a:gs>
                <a:gs pos="100000">
                  <a:srgbClr val="c0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4400" y="2529000"/>
              <a:ext cx="9177480" cy="9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4400" y="4246200"/>
              <a:ext cx="9177480" cy="82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50AF-4266-426C-9E85-DB3C4C412A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CE9A-3D61-4470-9840-C0F2904F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9440" y="5181120"/>
            <a:ext cx="8207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69440" y="4078440"/>
            <a:ext cx="820764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葵花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9360" y="5302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36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40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44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5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479600" y="2852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62A2-EB91-4787-8CF9-4096D65F1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C8EC-F023-4E1C-9831-5AF455FA5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09:33:45Z</dcterms:modified>
  <cp:revision>3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