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125AC-99B4-4CE6-8C13-3F685BED2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81914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4073040"/>
            <a:ext cx="81914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F039B-0719-4148-8971-A0D55B39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30760" y="161136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407304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30760" y="407304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F28E5-4DFA-4BB0-AA78-63057AA4D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637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03000" y="1611360"/>
            <a:ext cx="2637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2840" y="1611360"/>
            <a:ext cx="2637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4073040"/>
            <a:ext cx="2637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03000" y="4073040"/>
            <a:ext cx="2637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2840" y="4073040"/>
            <a:ext cx="2637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90014-6189-4DA7-9898-37E6B0921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23739-38FB-40DE-A3D2-D13A323621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819144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DF9F4-E0DB-47BB-ACAB-EE90CE69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81914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0F833-8FE8-4EB2-A5EA-730E895E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9970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0760" y="1611360"/>
            <a:ext cx="39970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4DA1A-D290-4A36-B6B4-26516E8A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F8307-4B5F-4850-9F30-F06EF03A2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609480"/>
            <a:ext cx="64008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1A9C3-690D-4649-B27A-AFFCEB8DA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0760" y="1611360"/>
            <a:ext cx="39970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520" y="407304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06056-3CE4-4175-85A1-B94DCB7D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819144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1C28A-65F1-484D-AA20-4ADE8F26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9970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0760" y="161136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0760" y="407304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909EC-FE61-4729-9900-D8000C33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0760" y="161136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4073040"/>
            <a:ext cx="81914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F10E2-96F9-4D26-BCC3-45E80BB0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81914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520" y="4073040"/>
            <a:ext cx="81914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E22B9-C865-45EE-8BE5-708CE5BA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0760" y="161136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520" y="407304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0760" y="407304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7A4B6-C18C-4C8D-B8C5-15B225EF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637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3000" y="1611360"/>
            <a:ext cx="2637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2840" y="1611360"/>
            <a:ext cx="2637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520" y="4073040"/>
            <a:ext cx="2637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3000" y="4073040"/>
            <a:ext cx="2637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2840" y="4073040"/>
            <a:ext cx="2637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2895B-BB5C-4827-8602-C67D494E3E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81914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1A42F-E089-4EE5-A0C2-DF274327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9970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30760" y="1611360"/>
            <a:ext cx="39970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CC70A-A4D2-44D3-9E1B-749C97FA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FF3B0-0B44-4A76-AD47-B84713BE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609480"/>
            <a:ext cx="64008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BD963-A675-47AC-B835-8CFD7939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0760" y="1611360"/>
            <a:ext cx="39970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407304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028F0-084F-4EA1-BF2D-B6B14784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9970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0760" y="161136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30760" y="407304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09DE6-23E2-48E8-9C5D-D1E20F3F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0760" y="161136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4073040"/>
            <a:ext cx="81914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3C84F-A8CB-4B9C-842E-F8F79E75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87"/>
          <p:cNvGraphicFramePr/>
          <p:nvPr/>
        </p:nvGraphicFramePr>
        <p:xfrm>
          <a:off x="0" y="0"/>
          <a:ext cx="9144000" cy="16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8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611360"/>
            <a:ext cx="81914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7315200" y="640044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4191120" y="6476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6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6208-B560-420D-8D26-259432043DCA}" type="slidenum">
              <a:rPr b="0" lang="en-US" sz="1000" spc="-1" strike="noStrike">
                <a:solidFill>
                  <a:srgbClr val="003366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533520" y="609480"/>
            <a:ext cx="6400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293400" y="6476760"/>
            <a:ext cx="190476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84" descr="p12"/>
          <p:cNvPicPr/>
          <p:nvPr/>
        </p:nvPicPr>
        <p:blipFill>
          <a:blip r:embed="rId4"/>
          <a:stretch/>
        </p:blipFill>
        <p:spPr>
          <a:xfrm>
            <a:off x="7238880" y="190440"/>
            <a:ext cx="1451160" cy="209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533520" y="1611360"/>
            <a:ext cx="81914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533520" y="609480"/>
            <a:ext cx="6400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920" y="624816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3454560" y="630828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6AF8-1291-4BBA-A657-752410B592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1219320" y="380880"/>
            <a:ext cx="2297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23720" y="525744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  <a:ea typeface="宋体"/>
              </a:rPr>
              <a:t>科技类</a:t>
            </a:r>
            <a:r>
              <a:rPr b="1" lang="en-US" sz="4400" spc="-1" strike="noStrike">
                <a:solidFill>
                  <a:srgbClr val="003366"/>
                </a:solidFill>
                <a:latin typeface="Arial"/>
                <a:ea typeface="宋体"/>
              </a:rPr>
              <a:t>ppt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  <a:ea typeface="宋体"/>
              </a:rPr>
              <a:t>模板下载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200040" y="4929840"/>
            <a:ext cx="4800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6400800" y="5181480"/>
            <a:ext cx="27432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164360" y="64022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3"/>
          <p:cNvSpPr/>
          <p:nvPr/>
        </p:nvSpPr>
        <p:spPr>
          <a:xfrm>
            <a:off x="7315200" y="6461280"/>
            <a:ext cx="1752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  <a:ea typeface="宋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4800" y="1895040"/>
            <a:ext cx="778860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Sung Ha, Park</dc:creator>
  <dc:description/>
  <dc:language>en-US</dc:language>
  <cp:lastModifiedBy>微软中国</cp:lastModifiedBy>
  <dcterms:modified xsi:type="dcterms:W3CDTF">2015-01-07T09:40:29Z</dcterms:modified>
  <cp:revision>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