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6697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20360" y="3819600"/>
            <a:ext cx="6697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2600" y="184932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20360" y="381960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52600" y="381960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21564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85120" y="1849320"/>
            <a:ext cx="21564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9520" y="1849320"/>
            <a:ext cx="21564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20360" y="3819600"/>
            <a:ext cx="21564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85120" y="3819600"/>
            <a:ext cx="21564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9520" y="3819600"/>
            <a:ext cx="21564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20360" y="1849320"/>
            <a:ext cx="6697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6697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326844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2600" y="1849320"/>
            <a:ext cx="326844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20720" y="696960"/>
            <a:ext cx="671688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2600" y="1849320"/>
            <a:ext cx="326844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20360" y="381960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620360" y="1849320"/>
            <a:ext cx="6697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326844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2600" y="184932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2600" y="381960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2600" y="184932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20360" y="3819600"/>
            <a:ext cx="6697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6697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620360" y="3819600"/>
            <a:ext cx="6697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2600" y="184932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20360" y="381960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2600" y="381960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21564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85120" y="1849320"/>
            <a:ext cx="21564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49520" y="1849320"/>
            <a:ext cx="21564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20360" y="3819600"/>
            <a:ext cx="21564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85120" y="3819600"/>
            <a:ext cx="21564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49520" y="3819600"/>
            <a:ext cx="21564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6697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326844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52600" y="1849320"/>
            <a:ext cx="326844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20720" y="696960"/>
            <a:ext cx="671688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2600" y="1849320"/>
            <a:ext cx="326844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620360" y="381960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326844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2600" y="184932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52600" y="381960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2600" y="1849320"/>
            <a:ext cx="3268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20360" y="3819600"/>
            <a:ext cx="6697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346" r="0" b="0"/>
          <a:stretch/>
        </p:blipFill>
        <p:spPr>
          <a:xfrm>
            <a:off x="0" y="841320"/>
            <a:ext cx="9142560" cy="468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20360" y="1849320"/>
            <a:ext cx="6697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7f2"/>
            </a:gs>
            <a:gs pos="100000">
              <a:srgbClr val="c7b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rcRect l="0" t="1314" r="0" b="1472"/>
          <a:stretch/>
        </p:blipFill>
        <p:spPr>
          <a:xfrm>
            <a:off x="0" y="482760"/>
            <a:ext cx="9144000" cy="46227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2360" y="2354400"/>
            <a:ext cx="49654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7f2"/>
            </a:gs>
            <a:gs pos="100000">
              <a:srgbClr val="c7b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2360" y="2354400"/>
            <a:ext cx="49654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康乃馨母亲节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052720" y="3363480"/>
            <a:ext cx="488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391160" y="53053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20720" y="696960"/>
            <a:ext cx="6716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20360" y="1849320"/>
            <a:ext cx="6697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620720" y="5378400"/>
            <a:ext cx="51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8466120" cy="5714640"/>
            <a:chOff x="0" y="0"/>
            <a:chExt cx="8466120" cy="571464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8480"/>
              <a:ext cx="846612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38240" y="29750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dc:language>en-US</dc:language>
  <cp:lastModifiedBy>番茄花园</cp:lastModifiedBy>
  <dcterms:modified xsi:type="dcterms:W3CDTF">2015-01-08T04:42:06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