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D56-BE8F-47B9-85ED-9D3D1C9B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E4C-6E9F-4ABE-8FA8-AC66C242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7FC-7521-4CE9-B76E-F9B974AC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A23-7AD2-4E5F-8208-906A9CE8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B96-2963-44C7-9E97-542E3819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D90-3078-4711-A7EB-CB4EF441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AD6-62FA-462C-BA69-A1D022A8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37E-CCB6-40C8-A537-EA83C748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AB4-A519-4058-AD8E-5E27223E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E05B-E5E0-4ADE-80F4-EFE38320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1D4-8906-41CA-BF19-CE8B90E3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B85-9D61-4191-A688-B0FDB27D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165D-A966-449C-BE89-F6D0FBBB5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卡通动漫城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谢谢观赏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1:16:03Z</dcterms:created>
  <dc:creator>jaming1314</dc:creator>
  <dc:description/>
  <dc:language>en-US</dc:language>
  <cp:lastModifiedBy/>
  <dcterms:modified xsi:type="dcterms:W3CDTF">2015-01-08T13:08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