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B7A0-E31E-4775-9546-A960252F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F18-D9C5-49C8-B87E-1948F5E8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36E-A3B0-474B-A6AC-564E0722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1102-3448-4037-A44E-18D1A070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BFA7-2DF5-4D4C-88C4-3BD94C61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2F97-A181-4558-976A-8277744A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3CE2-8182-447B-894A-106D4B85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C6D2-14EA-478F-A48B-0B595D8D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3336-D97E-4B32-AB73-2DF138F6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7632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6F25-3638-4357-93A8-780C367C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D371-34DF-4B07-97ED-59D6FF13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C48-E26A-4B11-AF77-E6533E2D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109D-4827-4659-B872-05FE2F43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31A0-8306-4302-B5CC-0FEA8643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7B19-CA34-442B-A4DB-320A0D69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A5E5-C19E-4EAC-8205-06307F1F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FC92-C5CF-47BA-BA4E-C250F896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26A-4DF6-474A-824B-C5135A95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873C-5422-417F-83ED-07BA10FA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E73-7E04-4F28-A979-08890091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14400" y="7632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28C6-51EC-4E38-8667-97E8FC2F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11C-0E39-48D7-871E-0588DA41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6196-9711-4787-96AC-EE99F7CB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D741-CD3A-49B8-ACEC-F356F00B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01"/>
          <p:cNvPicPr/>
          <p:nvPr/>
        </p:nvPicPr>
        <p:blipFill>
          <a:blip r:embed="rId2"/>
          <a:srcRect l="17250" t="0" r="0" b="6250"/>
          <a:stretch/>
        </p:blipFill>
        <p:spPr>
          <a:xfrm>
            <a:off x="15228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Freeform 31"/>
          <p:cNvSpPr/>
          <p:nvPr/>
        </p:nvSpPr>
        <p:spPr>
          <a:xfrm>
            <a:off x="228600" y="0"/>
            <a:ext cx="8915400" cy="6883560"/>
          </a:xfrm>
          <a:custGeom>
            <a:avLst/>
            <a:gdLst/>
            <a:ahLst/>
            <a:rect l="l" t="t" r="r" b="b"/>
            <a:pathLst>
              <a:path w="5480" h="4336">
                <a:moveTo>
                  <a:pt x="312" y="4336"/>
                </a:moveTo>
                <a:lnTo>
                  <a:pt x="0" y="0"/>
                </a:lnTo>
                <a:lnTo>
                  <a:pt x="5480" y="0"/>
                </a:lnTo>
                <a:lnTo>
                  <a:pt x="5480" y="4320"/>
                </a:lnTo>
                <a:lnTo>
                  <a:pt x="312" y="4336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dd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0" descr="06"/>
          <p:cNvPicPr/>
          <p:nvPr/>
        </p:nvPicPr>
        <p:blipFill>
          <a:blip r:embed="rId3"/>
          <a:stretch/>
        </p:blipFill>
        <p:spPr>
          <a:xfrm>
            <a:off x="76320" y="5638680"/>
            <a:ext cx="1676160" cy="115596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762120" y="380880"/>
            <a:ext cx="6781320" cy="609840"/>
            <a:chOff x="762120" y="380880"/>
            <a:chExt cx="6781320" cy="609840"/>
          </a:xfrm>
        </p:grpSpPr>
        <p:sp>
          <p:nvSpPr>
            <p:cNvPr id="6" name="Line 23"/>
            <p:cNvSpPr/>
            <p:nvPr/>
          </p:nvSpPr>
          <p:spPr>
            <a:xfrm>
              <a:off x="762120" y="380880"/>
              <a:ext cx="6781320" cy="0"/>
            </a:xfrm>
            <a:prstGeom prst="line">
              <a:avLst/>
            </a:prstGeom>
            <a:ln w="9360">
              <a:solidFill>
                <a:srgbClr val="ffffd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4"/>
            <p:cNvSpPr/>
            <p:nvPr/>
          </p:nvSpPr>
          <p:spPr>
            <a:xfrm>
              <a:off x="762120" y="533160"/>
              <a:ext cx="6781320" cy="0"/>
            </a:xfrm>
            <a:prstGeom prst="line">
              <a:avLst/>
            </a:prstGeom>
            <a:ln w="9360">
              <a:solidFill>
                <a:srgbClr val="ffffd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5"/>
            <p:cNvSpPr/>
            <p:nvPr/>
          </p:nvSpPr>
          <p:spPr>
            <a:xfrm>
              <a:off x="762120" y="685800"/>
              <a:ext cx="6781320" cy="0"/>
            </a:xfrm>
            <a:prstGeom prst="line">
              <a:avLst/>
            </a:prstGeom>
            <a:ln w="9360">
              <a:solidFill>
                <a:srgbClr val="ffffd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26"/>
            <p:cNvSpPr/>
            <p:nvPr/>
          </p:nvSpPr>
          <p:spPr>
            <a:xfrm>
              <a:off x="762120" y="838080"/>
              <a:ext cx="6781320" cy="0"/>
            </a:xfrm>
            <a:prstGeom prst="line">
              <a:avLst/>
            </a:prstGeom>
            <a:ln w="9360">
              <a:solidFill>
                <a:srgbClr val="ffffd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27"/>
            <p:cNvSpPr/>
            <p:nvPr/>
          </p:nvSpPr>
          <p:spPr>
            <a:xfrm>
              <a:off x="762120" y="990720"/>
              <a:ext cx="6781320" cy="0"/>
            </a:xfrm>
            <a:prstGeom prst="line">
              <a:avLst/>
            </a:prstGeom>
            <a:ln w="9360">
              <a:solidFill>
                <a:srgbClr val="ffffd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7850520" y="100440"/>
            <a:ext cx="1227960" cy="1227960"/>
            <a:chOff x="7850520" y="100440"/>
            <a:chExt cx="1227960" cy="1227960"/>
          </a:xfrm>
        </p:grpSpPr>
        <p:sp>
          <p:nvSpPr>
            <p:cNvPr id="12" name="Rectangle 16"/>
            <p:cNvSpPr/>
            <p:nvPr/>
          </p:nvSpPr>
          <p:spPr>
            <a:xfrm rot="1759800">
              <a:off x="8013240" y="263160"/>
              <a:ext cx="901800" cy="901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" name="Picture 18" descr="03"/>
            <p:cNvPicPr/>
            <p:nvPr/>
          </p:nvPicPr>
          <p:blipFill>
            <a:blip r:embed="rId5"/>
            <a:stretch/>
          </p:blipFill>
          <p:spPr>
            <a:xfrm>
              <a:off x="8673840" y="193680"/>
              <a:ext cx="16524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" name=""/>
          <p:cNvGrpSpPr/>
          <p:nvPr/>
        </p:nvGrpSpPr>
        <p:grpSpPr>
          <a:xfrm>
            <a:off x="7192800" y="0"/>
            <a:ext cx="1203840" cy="1324080"/>
            <a:chOff x="7192800" y="0"/>
            <a:chExt cx="1203840" cy="1324080"/>
          </a:xfrm>
        </p:grpSpPr>
        <p:sp>
          <p:nvSpPr>
            <p:cNvPr id="15" name="Rectangle 17"/>
            <p:cNvSpPr/>
            <p:nvPr/>
          </p:nvSpPr>
          <p:spPr>
            <a:xfrm rot="682200">
              <a:off x="7283520" y="210960"/>
              <a:ext cx="1022400" cy="1022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" name="Picture 19" descr="04"/>
            <p:cNvPicPr/>
            <p:nvPr/>
          </p:nvPicPr>
          <p:blipFill>
            <a:blip r:embed="rId7"/>
            <a:stretch/>
          </p:blipFill>
          <p:spPr>
            <a:xfrm>
              <a:off x="7747200" y="0"/>
              <a:ext cx="19044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28195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5028840" y="6476760"/>
            <a:ext cx="1981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BE2C-67B5-4803-BECE-D2AFB4B31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7"/>
          <p:cNvSpPr/>
          <p:nvPr/>
        </p:nvSpPr>
        <p:spPr>
          <a:xfrm rot="21127200">
            <a:off x="380880" y="304920"/>
            <a:ext cx="4267440" cy="426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 rot="20388600">
            <a:off x="762120" y="1219320"/>
            <a:ext cx="4876560" cy="487656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01"/>
          <p:cNvPicPr/>
          <p:nvPr/>
        </p:nvPicPr>
        <p:blipFill>
          <a:blip r:embed="rId4"/>
          <a:srcRect l="15327" t="0" r="0" b="6250"/>
          <a:stretch/>
        </p:blipFill>
        <p:spPr>
          <a:xfrm>
            <a:off x="2467080" y="0"/>
            <a:ext cx="21049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Freeform 7"/>
          <p:cNvSpPr/>
          <p:nvPr/>
        </p:nvSpPr>
        <p:spPr>
          <a:xfrm>
            <a:off x="2895480" y="0"/>
            <a:ext cx="6248520" cy="6858000"/>
          </a:xfrm>
          <a:custGeom>
            <a:avLst/>
            <a:gdLst/>
            <a:ahLst/>
            <a:rect l="l" t="t" r="r" b="b"/>
            <a:pathLst>
              <a:path w="3936" h="4320">
                <a:moveTo>
                  <a:pt x="305" y="4317"/>
                </a:moveTo>
                <a:lnTo>
                  <a:pt x="0" y="0"/>
                </a:lnTo>
                <a:lnTo>
                  <a:pt x="3936" y="0"/>
                </a:lnTo>
                <a:lnTo>
                  <a:pt x="3936" y="4320"/>
                </a:lnTo>
                <a:lnTo>
                  <a:pt x="305" y="4317"/>
                </a:lnTo>
                <a:close/>
              </a:path>
            </a:pathLst>
          </a:custGeom>
          <a:gradFill rotWithShape="0">
            <a:gsLst>
              <a:gs pos="0">
                <a:srgbClr val="ffb443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3657600" y="5257800"/>
            <a:ext cx="5029200" cy="0"/>
          </a:xfrm>
          <a:prstGeom prst="line">
            <a:avLst/>
          </a:prstGeom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3657600" y="5486400"/>
            <a:ext cx="5029200" cy="0"/>
          </a:xfrm>
          <a:prstGeom prst="line">
            <a:avLst/>
          </a:prstGeom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3657600" y="5715000"/>
            <a:ext cx="5029200" cy="0"/>
          </a:xfrm>
          <a:prstGeom prst="line">
            <a:avLst/>
          </a:prstGeom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>
            <a:off x="3657600" y="5943600"/>
            <a:ext cx="5029200" cy="0"/>
          </a:xfrm>
          <a:prstGeom prst="line">
            <a:avLst/>
          </a:prstGeom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3657600" y="6172200"/>
            <a:ext cx="5029200" cy="0"/>
          </a:xfrm>
          <a:prstGeom prst="line">
            <a:avLst/>
          </a:prstGeom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9" descr="03"/>
          <p:cNvPicPr/>
          <p:nvPr/>
        </p:nvPicPr>
        <p:blipFill>
          <a:blip r:embed="rId5"/>
          <a:stretch/>
        </p:blipFill>
        <p:spPr>
          <a:xfrm>
            <a:off x="1444680" y="0"/>
            <a:ext cx="384120" cy="614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04"/>
          <p:cNvPicPr/>
          <p:nvPr/>
        </p:nvPicPr>
        <p:blipFill>
          <a:blip r:embed="rId6"/>
          <a:stretch/>
        </p:blipFill>
        <p:spPr>
          <a:xfrm>
            <a:off x="1676520" y="1193760"/>
            <a:ext cx="396720" cy="635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4" descr="06"/>
          <p:cNvPicPr/>
          <p:nvPr/>
        </p:nvPicPr>
        <p:blipFill>
          <a:blip r:embed="rId7"/>
          <a:stretch/>
        </p:blipFill>
        <p:spPr>
          <a:xfrm>
            <a:off x="3657600" y="4884840"/>
            <a:ext cx="2971800" cy="20494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F0C2-9CE5-42C6-95AF-C12DF6379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44640" y="1295280"/>
            <a:ext cx="5942160" cy="101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  <a:ea typeface="宋体"/>
              </a:rPr>
              <a:t>课堂风格</a:t>
            </a:r>
            <a:r>
              <a:rPr b="1" lang="en-US" sz="49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9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5562720" y="1219320"/>
            <a:ext cx="2971800" cy="759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733920" y="2514600"/>
            <a:ext cx="49528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74720" y="6400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2362320" y="48546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 rot="3418800">
            <a:off x="2077920" y="4277880"/>
            <a:ext cx="479160" cy="5205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2135520" y="432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2362320" y="23400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7"/>
          <p:cNvSpPr/>
          <p:nvPr/>
        </p:nvSpPr>
        <p:spPr>
          <a:xfrm rot="3418800">
            <a:off x="2077920" y="1763280"/>
            <a:ext cx="479160" cy="520560"/>
          </a:xfrm>
          <a:prstGeom prst="rect">
            <a:avLst/>
          </a:prstGeom>
          <a:gradFill rotWithShape="0">
            <a:gsLst>
              <a:gs pos="0">
                <a:srgbClr val="6cd69c"/>
              </a:gs>
              <a:gs pos="100000">
                <a:srgbClr val="326348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3430440" y="18511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2135520" y="1806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362320" y="317808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 rot="3418800">
            <a:off x="2077560" y="2602080"/>
            <a:ext cx="479520" cy="5205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2135520" y="264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>
            <a:off x="2363760" y="4014720"/>
            <a:ext cx="479916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4"/>
          <p:cNvSpPr/>
          <p:nvPr/>
        </p:nvSpPr>
        <p:spPr>
          <a:xfrm rot="3418800">
            <a:off x="2077560" y="3440160"/>
            <a:ext cx="479520" cy="5205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135520" y="34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6"/>
          <p:cNvSpPr/>
          <p:nvPr/>
        </p:nvSpPr>
        <p:spPr>
          <a:xfrm>
            <a:off x="2362320" y="57150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7"/>
          <p:cNvSpPr/>
          <p:nvPr/>
        </p:nvSpPr>
        <p:spPr>
          <a:xfrm rot="3418800">
            <a:off x="2077920" y="5138280"/>
            <a:ext cx="479160" cy="52056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100000">
                <a:srgbClr val="470047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213552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3430440" y="27129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0"/>
          <p:cNvSpPr/>
          <p:nvPr/>
        </p:nvSpPr>
        <p:spPr>
          <a:xfrm>
            <a:off x="3430440" y="355284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1"/>
          <p:cNvSpPr/>
          <p:nvPr/>
        </p:nvSpPr>
        <p:spPr>
          <a:xfrm>
            <a:off x="3430440" y="43941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3430440" y="524520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7320" y="1447560"/>
            <a:ext cx="72342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600200" y="4991040"/>
            <a:ext cx="640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98400" y="6400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7760" y="1295280"/>
            <a:ext cx="5638680" cy="101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733920" y="2514600"/>
            <a:ext cx="49528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0" name=""/>
          <p:cNvSpPr/>
          <p:nvPr/>
        </p:nvSpPr>
        <p:spPr>
          <a:xfrm>
            <a:off x="4105800" y="472428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505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ff505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6:53:09Z</dcterms:created>
  <dc:creator>www.themegallery.com</dc:creator>
  <dc:description/>
  <dc:language>en-US</dc:language>
  <cp:lastModifiedBy>微软中国</cp:lastModifiedBy>
  <dcterms:modified xsi:type="dcterms:W3CDTF">2015-01-07T09:37:19Z</dcterms:modified>
  <cp:revision>16</cp:revision>
  <dc:subject/>
  <dc:title>ThemeGallery PowerTa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