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877-2511-41E6-B5BB-C023723D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F7B-FF65-4796-BBB3-BD55992F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5BF-4B51-4919-9BE0-34476A93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180-4183-4885-A768-F8AA56C3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4CB3-3944-4926-B8FD-20BC7899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9094-B6EB-4024-B3AC-EBFC5F79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06AA-B3AA-46BC-B42B-714C735A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5632-0E20-4948-8EF0-2DD7B95A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899D-8A46-4DCF-B3DD-2D7D137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E7C1-6AFF-4EA1-994B-DF37432B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60C2-F1B1-425A-B963-FF818E2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AB4-8CD4-4B6C-A2EC-5270071A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BE3-EE57-4C43-B37C-0F5C90C1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D37E-B2F9-4878-9053-37974872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6E86-D3D3-4C20-A6A2-314D0A5C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8A3F-340C-4E1C-A0EE-6CF08BD3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D836-58E4-4316-BD47-F6E5077D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625-6103-472A-AAF7-3CBF659B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8D8-699F-4CA8-AFC0-1FF52195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A68-1079-467C-8214-8B096CB2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FB7-7C80-4EDB-BFE2-28D7ED4B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42F-BCB1-43AD-A7BB-E35DAB46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FF8-6470-4640-A56C-E791A72C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EC7-B913-402C-8BDC-F79606D5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7C21-F984-4DE3-83D1-043B1F48CFB0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06D5-D760-4555-A33D-4A12872836F6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858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a"/>
                </a:solidFill>
                <a:latin typeface="宋体"/>
                <a:ea typeface="宋体"/>
              </a:rPr>
              <a:t>卡通房子卡通</a:t>
            </a:r>
            <a:r>
              <a:rPr b="1" lang="zh-CN" sz="4400" spc="-1" strike="noStrike">
                <a:solidFill>
                  <a:srgbClr val="00339a"/>
                </a:solidFill>
                <a:latin typeface="宋体"/>
                <a:ea typeface="宋体"/>
              </a:rPr>
              <a:t>PPT</a:t>
            </a:r>
            <a:r>
              <a:rPr b="1" lang="zh-CN" sz="4400" spc="-1" strike="noStrike">
                <a:solidFill>
                  <a:srgbClr val="00339a"/>
                </a:solidFill>
                <a:latin typeface="宋体"/>
                <a:ea typeface="宋体"/>
              </a:rPr>
              <a:t>模板下载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320" y="307188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-1188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9680" y="511560"/>
            <a:ext cx="4159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339a"/>
              </a:solidFill>
              <a:latin typeface="宋体"/>
              <a:ea typeface="宋体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36600" y="2114640"/>
            <a:ext cx="39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83226"/>
                </a:solidFill>
                <a:latin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929120" y="55872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83226"/>
                </a:solidFill>
                <a:latin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22960" y="5877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a800"/>
                </a:solidFill>
                <a:uFillTx/>
                <a:latin typeface="华文新魏"/>
                <a:ea typeface="华文新魏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a"/>
                </a:solidFill>
                <a:latin typeface="Franklin Gothic Medium"/>
              </a:rPr>
              <a:t>使用规范说明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Franklin Gothic Book"/>
              </a:rPr>
              <a:t>：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Franklin Gothic Book"/>
              </a:rPr>
              <a:t>：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1:56Z</dcterms:created>
  <dc:creator/>
  <dc:description/>
  <dc:language>en-US</dc:language>
  <cp:lastModifiedBy/>
  <dcterms:modified xsi:type="dcterms:W3CDTF">2015-01-07T14:03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3626452052</vt:lpwstr>
  </property>
</Properties>
</file>