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17D-3A10-4C89-B758-0A5CC307A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3860-0866-4B0B-86A8-292D49E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B612-DD32-4B10-B056-CC4FB0D5D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0036-2D20-4E5E-9EAD-BCAC22449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9F7B-35DF-4E7B-A76D-FA5A52F2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65C5-4E6E-46FB-A2F8-7A3CD744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A00A-E298-4D2F-8ADD-1F7BE3C9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A827-D86E-4B08-B38C-78FEEF78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0FC9-4118-4B78-B881-EFCEA570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9582-C15F-442F-A53F-6B7A02AB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4741-EA31-4B69-92EE-BD7C7BB0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C76D-BEA4-4852-9D55-CA115F59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3EC0-41DE-471C-A32E-33BA6060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11E8-07D1-49DF-AF88-D9CCC4B7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4BFD-E0DA-40A2-87EA-541294AD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79D1-1864-4502-A321-129A44F3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6C2FC-6DBC-46B1-AF77-6BAF9917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8000-341A-4E3A-9403-513C9A6F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8CE8-18B4-4ECC-B1FA-F2EBAA92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F0E-144B-4E7E-969F-410CF13E0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C695-3ED8-4AA0-99A6-A5B31428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DA1D-D22A-4D9B-AE6C-EC061FB2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FEF-F8A1-4B4D-8CD5-1C54603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62A1-2EF8-4235-88C0-D4D045B5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D397-2C2D-43A7-B9CD-F1A3B8E6DF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C013-745C-4F8F-B69D-CE78074E7B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074720" y="63244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848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120" y="1982880"/>
            <a:ext cx="807732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mike</cp:lastModifiedBy>
  <dcterms:modified xsi:type="dcterms:W3CDTF">2015-01-07T14:01:00Z</dcterms:modified>
  <cp:revision>12</cp:revision>
  <dc:subject/>
  <dc:title>Thankful Turk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