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917-ADF6-4157-AB81-E7A7403C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2907720"/>
            <a:ext cx="8534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4B9-0302-48D9-9C51-0858E046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290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290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D95-3260-43CB-AD54-BDAF730A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83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83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290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290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290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EAC-25B2-4157-A365-65E5E86C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F4BE-1E86-4E27-BFD1-EEC63C7F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046A-D464-4F31-B86F-DAE12EA6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2222-67A5-4B2E-965C-143B171E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ABF2-3599-4E9D-995E-71C765E6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0687-4012-45D5-BE16-1A705D1F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D6E6-5E6D-4892-A3AD-E6D38573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290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2381-C9C0-49DA-929C-F858A999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4EC-DF18-445C-9E37-2A86F126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290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81FE-8E42-455A-ADBF-ADEC949D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2907720"/>
            <a:ext cx="8534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EDC1-69A2-47E1-AF22-B15E6A00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2907720"/>
            <a:ext cx="8534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CBC2-3CEA-42BA-8B5F-A3BDD159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290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290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8AA5-0FCE-4B2A-9BD4-21259AA4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83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83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290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290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290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A32F-847B-4045-B7B1-1C7CB7BB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57F-000B-4141-8BBA-10675681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8AA-F9AE-425B-85DF-6903A68A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BCC-2774-484B-9AA0-D41D7CE2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20B-5EAC-4A1A-B43B-00BABA74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290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9AA-D82A-4510-915C-B60ECB5D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290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9B5-5E3B-4786-B79D-906FB529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2907720"/>
            <a:ext cx="8534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8BE-05C4-45E1-8D4E-FA7B03FA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837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F0CB-E69F-437A-8724-A6ADB0020C2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971800" y="4676760"/>
            <a:ext cx="3333600" cy="21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6DA6-0996-42CF-904B-2EADA07CB49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Something is Fishy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848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3000" y="2514240"/>
            <a:ext cx="7848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97560" y="63244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19:30:51Z</dcterms:created>
  <dc:creator/>
  <dc:description/>
  <dc:language>en-US</dc:language>
  <cp:lastModifiedBy>微软用户</cp:lastModifiedBy>
  <dcterms:modified xsi:type="dcterms:W3CDTF">2015-01-07T13:58:55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