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02A-866D-4337-A30F-A386CF8D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B19-738F-40E3-BBA8-3ACD208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E07-60F6-451E-BE5A-985E0D68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B00-78E5-420F-AD70-43838819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AC8-6A4B-4160-B2A8-D5505060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63E-B5AF-42C7-A9F1-DB1AB22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845-88DA-44D3-B0E9-003A01E7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A27-A4A7-466C-9C2C-5F5BA8F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5CE-28E7-4391-8A8F-72B64541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16C-B7F0-45E8-B9B7-C6B6A3A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0DD-615F-4C74-B5AF-6A5DCB1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03B-C7F2-4B20-894E-1CD657C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DBF8-10B6-4B0C-8824-15CB46C2108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卡通人物米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784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/>
  <dc:description/>
  <dc:language>en-US</dc:language>
  <cp:lastModifiedBy>微软用户</cp:lastModifiedBy>
  <dcterms:modified xsi:type="dcterms:W3CDTF">2015-01-09T03:48:0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