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4E0A-A12F-4816-BF70-A7361820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0C21-AB49-4BB8-BE4F-F8EA8A35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1AAF-8EAE-45EA-9A85-C2749E59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AD63-13F4-45F8-AEFE-6EBA6B89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5CA5-6A9A-460A-A1C3-D9D32B0F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E762-0269-49DE-AB20-35C99973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1D15-26BE-40CB-B858-FB14ED7B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628F-CD93-40FB-B486-155AE058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EEB0-A320-476E-ACCB-41033157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204D-1487-4E28-8F9C-3980552B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8605-8C36-46BB-8C34-B669980F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92F-AE99-46EE-9DBD-FD5AC6BA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9400-9297-4426-9397-D4DA31B7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93B3-9C9B-459E-8B48-81229FE0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4809-DFE7-41CF-8188-0BD2D56A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12E1-9F21-477E-933A-E2FC5010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BEC8-F266-4944-B846-1F24131E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984-C7C5-4830-B468-30B9297C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9ABC-CD6F-4464-A4F7-17E1B00A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D08C-525B-437B-88E3-E0AE93A5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3926-92A9-426C-B884-E3C1EF20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109-C333-4A84-BA34-4540B200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FF14-67AB-41B2-8CB8-74F32056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8CAB-F011-48D1-8D5B-395D46AB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cifair_INSIDE" descr=""/>
          <p:cNvPicPr/>
          <p:nvPr/>
        </p:nvPicPr>
        <p:blipFill>
          <a:blip r:embed="rId2"/>
          <a:stretch/>
        </p:blipFill>
        <p:spPr>
          <a:xfrm>
            <a:off x="-6480" y="-1440"/>
            <a:ext cx="9159840" cy="6864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336666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36666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336666"/>
                </a:solidFill>
                <a:latin typeface="Arial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36666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6666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E276-8FE9-4482-A069-ADCA2BAB775B}" type="slidenum">
              <a:rPr b="0" lang="zh-CN" sz="1400" spc="-1" strike="noStrike">
                <a:solidFill>
                  <a:srgbClr val="33666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cifair_front" descr=""/>
          <p:cNvPicPr/>
          <p:nvPr/>
        </p:nvPicPr>
        <p:blipFill>
          <a:blip r:embed="rId2"/>
          <a:stretch/>
        </p:blipFill>
        <p:spPr>
          <a:xfrm>
            <a:off x="-6480" y="-1440"/>
            <a:ext cx="9159840" cy="686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336666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36666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336666"/>
                </a:solidFill>
                <a:latin typeface="Arial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36666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6666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3D02-5CFE-42AD-B0F1-9996C817AD7D}" type="slidenum">
              <a:rPr b="0" lang="zh-CN" sz="1400" spc="-1" strike="noStrike">
                <a:solidFill>
                  <a:srgbClr val="33666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i="1" lang="en-US" sz="14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宋体"/>
            </a:endParaRPr>
          </a:p>
          <a:p>
            <a:pPr lvl="2" marL="914400" algn="ctr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lvl="3" marL="1371600" algn="ctr">
              <a:spcBef>
                <a:spcPts val="37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宋体"/>
            </a:endParaRPr>
          </a:p>
          <a:p>
            <a:pPr lvl="4" marL="1828800" algn="ctr">
              <a:spcBef>
                <a:spcPts val="3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lvl="5" marL="1828800">
              <a:spcBef>
                <a:spcPts val="34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lvl="6" marL="1828800">
              <a:spcBef>
                <a:spcPts val="34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</a:rPr>
              <a:t>科学博览会项目</a:t>
            </a:r>
            <a:endParaRPr b="0" lang="en-US" sz="35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2209680"/>
            <a:ext cx="6476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000000"/>
                </a:solidFill>
                <a:latin typeface="宋体"/>
              </a:rPr>
              <a:t>在此处键入您的项目标题</a:t>
            </a:r>
            <a:endParaRPr b="0" i="1" lang="en-US" sz="1500" spc="-1" strike="noStrike">
              <a:solidFill>
                <a:srgbClr val="000000"/>
              </a:solidFill>
              <a:latin typeface="宋体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000000"/>
                </a:solidFill>
                <a:latin typeface="宋体"/>
              </a:rPr>
              <a:t>您的姓名</a:t>
            </a:r>
            <a:endParaRPr b="0" i="1" lang="en-US" sz="1500" spc="-1" strike="noStrike">
              <a:solidFill>
                <a:srgbClr val="000000"/>
              </a:solidFill>
              <a:latin typeface="宋体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000000"/>
                </a:solidFill>
                <a:latin typeface="宋体"/>
              </a:rPr>
              <a:t>您的教师的姓名</a:t>
            </a:r>
            <a:endParaRPr b="0" i="1" lang="en-US" sz="1500" spc="-1" strike="noStrike">
              <a:solidFill>
                <a:srgbClr val="000000"/>
              </a:solidFill>
              <a:latin typeface="宋体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000000"/>
                </a:solidFill>
                <a:latin typeface="宋体"/>
              </a:rPr>
              <a:t>您的学校</a:t>
            </a:r>
            <a:endParaRPr b="0" i="1" lang="en-US" sz="15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"/>
          <p:cNvSpPr/>
          <p:nvPr/>
        </p:nvSpPr>
        <p:spPr>
          <a:xfrm>
            <a:off x="6706080" y="6165720"/>
            <a:ext cx="228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模板下载</a:t>
            </a:r>
            <a:endParaRPr b="0" lang="en-US" sz="12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Times New Roman"/>
              </a:rPr>
              <a:t>    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876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总结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3432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在此处键入根据实验结果发现的内容的简短摘要。您需要指示数据是否支持假设并解释支持或不支持的原因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876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引用的作品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0106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确保包含印刷和电子作品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来源并按字母顺序放置它们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1794240" y="60930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6666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66312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问题陈述 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此处键入您的问题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这是您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实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回答的问题。）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项目概述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236196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此处键入项目摘要或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简短概述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研究 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此处用三到五个项目符号总结研究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 algn="ctr">
              <a:spcBef>
                <a:spcPts val="476"/>
              </a:spcBef>
              <a:buClr>
                <a:srgbClr val="5f5f5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第 </a:t>
            </a:r>
            <a:r>
              <a:rPr b="0" lang="en-US" sz="19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en-US" sz="1900" spc="-1" strike="noStrike">
                <a:solidFill>
                  <a:srgbClr val="000000"/>
                </a:solidFill>
                <a:latin typeface="宋体"/>
              </a:rPr>
              <a:t>个项目符号 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 algn="ctr">
              <a:spcBef>
                <a:spcPts val="476"/>
              </a:spcBef>
              <a:buClr>
                <a:srgbClr val="5f5f5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宋体"/>
              </a:rPr>
              <a:t>第 </a:t>
            </a:r>
            <a:r>
              <a:rPr b="0" lang="en-US" sz="1900" spc="-1" strike="noStrike">
                <a:solidFill>
                  <a:srgbClr val="000000"/>
                </a:solidFill>
                <a:latin typeface="宋体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宋体"/>
              </a:rPr>
              <a:t>个项目符号 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 algn="ctr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 algn="ctr">
              <a:spcBef>
                <a:spcPts val="476"/>
              </a:spcBef>
              <a:buClr>
                <a:srgbClr val="5f5f5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宋体"/>
              </a:rPr>
              <a:t>第 </a:t>
            </a:r>
            <a:r>
              <a:rPr b="0" lang="en-US" sz="1900" spc="-1" strike="noStrike">
                <a:solidFill>
                  <a:srgbClr val="000000"/>
                </a:solidFill>
                <a:latin typeface="宋体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宋体"/>
              </a:rPr>
              <a:t>个项目符号 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 algn="ctr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 algn="ctr">
              <a:spcBef>
                <a:spcPts val="476"/>
              </a:spcBef>
              <a:buClr>
                <a:srgbClr val="5f5f5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宋体"/>
              </a:rPr>
              <a:t>第 </a:t>
            </a:r>
            <a:r>
              <a:rPr b="0" lang="en-US" sz="1900" spc="-1" strike="noStrike">
                <a:solidFill>
                  <a:srgbClr val="000000"/>
                </a:solidFill>
                <a:latin typeface="宋体"/>
              </a:rPr>
              <a:t>4 </a:t>
            </a:r>
            <a:r>
              <a:rPr b="0" lang="en-US" sz="1900" spc="-1" strike="noStrike">
                <a:solidFill>
                  <a:srgbClr val="000000"/>
                </a:solidFill>
                <a:latin typeface="宋体"/>
              </a:rPr>
              <a:t>个项目符号 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 algn="ctr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 algn="ctr">
              <a:spcBef>
                <a:spcPts val="476"/>
              </a:spcBef>
              <a:buClr>
                <a:srgbClr val="5f5f5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宋体"/>
              </a:rPr>
              <a:t>第 </a:t>
            </a:r>
            <a:r>
              <a:rPr b="0" lang="en-US" sz="1900" spc="-1" strike="noStrike">
                <a:solidFill>
                  <a:srgbClr val="000000"/>
                </a:solidFill>
                <a:latin typeface="宋体"/>
              </a:rPr>
              <a:t>5 </a:t>
            </a:r>
            <a:r>
              <a:rPr b="0" lang="en-US" sz="1900" spc="-1" strike="noStrike">
                <a:solidFill>
                  <a:srgbClr val="000000"/>
                </a:solidFill>
                <a:latin typeface="宋体"/>
              </a:rPr>
              <a:t>个项目符号 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8190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变量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99840" y="23619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受控制的变量：这是在实验过程中保持不变的东西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独立变量：有意更改和测试的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变量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相关变量：因独立变量更改而观测到的更改度量。决定如何度量更改是很重要的。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"/>
          <p:cNvSpPr/>
          <p:nvPr/>
        </p:nvSpPr>
        <p:spPr>
          <a:xfrm>
            <a:off x="6706080" y="6165720"/>
            <a:ext cx="228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模板下载</a:t>
            </a:r>
            <a:endParaRPr b="0" lang="en-US" sz="12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Times New Roman"/>
              </a:rPr>
              <a:t>    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假设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0106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已经完成的研究，您将编写问题的答案或解决方案（您最合理的推测）。确保在开始实验之前写下您的假设。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6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资料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236196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键入完成实验所需的详细项目列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要明确使用的数量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9020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过程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2361960"/>
            <a:ext cx="6095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列出完成实验所使用的所有步骤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切记要为步骤加编号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添加实验照片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819000"/>
            <a:ext cx="8080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数据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观测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236196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将数据放到表或图形中将更容易了解数据。在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Excel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中创建一个图形，然后在此处导入它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确保清楚地标记了所有数据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5" name=""/>
          <p:cNvSpPr/>
          <p:nvPr/>
        </p:nvSpPr>
        <p:spPr>
          <a:xfrm>
            <a:off x="6706080" y="6165720"/>
            <a:ext cx="228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模板下载</a:t>
            </a:r>
            <a:endParaRPr b="0" lang="en-US" sz="12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Times New Roman"/>
              </a:rPr>
              <a:t>    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2:13:28Z</dcterms:created>
  <dc:creator/>
  <dc:description/>
  <dc:language>en-US</dc:language>
  <cp:lastModifiedBy/>
  <cp:lastPrinted>1899-12-30T00:00:00Z</cp:lastPrinted>
  <dcterms:modified xsi:type="dcterms:W3CDTF">2014-06-03T09:01:0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_TemplateID">
    <vt:lpwstr>TC010183732052</vt:lpwstr>
  </property>
</Properties>
</file>