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A6D-22B8-49CE-919D-8C0F5D5B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009B-4AFC-427D-8001-84E87AE9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1F4-DBBE-40BE-B302-90751C03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20A-1E8D-408B-B5E1-DEC8AB51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4136-9E9E-4E2D-A529-F33F18F9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D480-F8A0-44CD-8EB5-7E8FB01B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4263-541A-44FF-885E-9427F876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FC43-4364-41F5-B7CA-82C1C19B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9CEF-1CA6-478A-B2FB-D50B73B9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CD30-C572-4FCA-82CC-C5F4AA7C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AF40-A7A6-426E-B6B0-BC0BF9D9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F2B-886B-42D7-A35A-BC99EF72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2F45-462A-4B89-BE00-47FB4F86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4ECA-D279-4C7D-9903-A500F234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6D22-B675-490E-A714-FC163AAB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CBEE-5664-4EF7-AA27-B2DDE469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2CDE-F21E-4379-AD59-6BE8F032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139-22DD-4AB9-8E6C-981287A0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107-8687-458C-A2F8-8883CE2D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2C3-0CFC-4121-9C11-637911D4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780-D184-44B6-B32B-B9D710B2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35E-7CBE-4C2C-8ED9-9E9BC9D9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425-C967-4AE5-BC7D-56E9CB34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C8F-E402-462F-A5CD-5FE58E16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657C-4EF8-487F-A703-BA095A1F5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0C91-DB14-4CC0-9723-63D022B12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Arial Black"/>
              </a:rPr>
              <a:t>科学发展观党政</a:t>
            </a:r>
            <a:r>
              <a:rPr b="1" lang="en-US" sz="4000" spc="-1" strike="noStrike">
                <a:solidFill>
                  <a:srgbClr val="262626"/>
                </a:solidFill>
                <a:latin typeface="Arial Black"/>
              </a:rPr>
              <a:t>PPT</a:t>
            </a:r>
            <a:r>
              <a:rPr b="1" lang="zh-CN" sz="4000" spc="-1" strike="noStrike">
                <a:solidFill>
                  <a:srgbClr val="262626"/>
                </a:solidFill>
                <a:latin typeface="Arial Black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559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Arial"/>
              </a:rPr>
              <a:t>科学发展观党政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262626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74720" y="6400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3:42:05Z</dcterms:created>
  <dc:creator/>
  <dc:description/>
  <dc:language>en-US</dc:language>
  <cp:lastModifiedBy>ilovePPT.ORG</cp:lastModifiedBy>
  <dcterms:modified xsi:type="dcterms:W3CDTF">2015-01-07T09:38:1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