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7916-57D7-4CCC-9AE9-D211BE777F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65A7-9F70-4EB2-8466-9673CC88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C453D-C7F0-4D20-9EE5-BC750199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5C17-04C7-4FCC-9A42-F9D29C0C50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8B5E7-E659-4DAD-9D63-951D334F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38A917-36FC-46F6-9859-8D905D2C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1404D-1010-4B05-BF48-B64C99D5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3995B-CAB9-482D-8B9B-A3055441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F6DA0-7D6D-4249-B383-EAF45960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EFC33-382B-44A9-B726-F67AF1EC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512E5-A280-4D50-B90C-FAD7B53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BAD8-D775-4381-91F8-7167BF99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47DBF-DC4E-4D60-A80E-B13ABDA6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78400-E47C-4A3B-A0B4-E9A7AACF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E84F5B-007C-4AD8-9F1B-50810105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64F1A8-18C8-41A2-A4B0-A409EBE9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5C08F-45A0-47F3-A6C4-D9825E47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DF380-4A03-4991-93E4-2BBD7FCD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17C0-0683-42F0-B7E3-9C5B94D0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938A0-6F54-4FED-80CD-7287CF34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18900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2AD4-3880-4CF8-8279-1FC57001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C0171-DE75-46CF-B8CC-FD9DCE07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5E3E-BBD6-4D70-A56E-E39629D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8C0D-D9CE-46A8-9FFA-138242FC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3162240"/>
          </a:xfrm>
          <a:prstGeom prst="rect">
            <a:avLst/>
          </a:prstGeom>
          <a:ln w="0">
            <a:noFill/>
          </a:ln>
        </p:spPr>
      </p:pic>
      <p:sp>
        <p:nvSpPr>
          <p:cNvPr id="1" name="未知"/>
          <p:cNvSpPr/>
          <p:nvPr/>
        </p:nvSpPr>
        <p:spPr>
          <a:xfrm>
            <a:off x="-12600" y="476280"/>
            <a:ext cx="9167760" cy="96192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48400"/>
            <a:ext cx="9153360" cy="318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7883640" y="6504480"/>
            <a:ext cx="98424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13A1-BA9E-401C-B23F-911671A512A2}" type="slidenum">
              <a:rPr b="0" lang="en-US" sz="800" spc="-1" strike="noStrike">
                <a:solidFill>
                  <a:srgbClr val="000000"/>
                </a:solidFill>
                <a:latin typeface="黑体"/>
                <a:ea typeface="黑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未知"/>
          <p:cNvSpPr/>
          <p:nvPr/>
        </p:nvSpPr>
        <p:spPr>
          <a:xfrm>
            <a:off x="0" y="0"/>
            <a:ext cx="9172440" cy="907920"/>
          </a:xfrm>
          <a:custGeom>
            <a:avLst/>
            <a:gdLst/>
            <a:ahLst/>
            <a:rect l="l" t="t" r="r" b="b"/>
            <a:pathLst>
              <a:path w="5778" h="612">
                <a:moveTo>
                  <a:pt x="0" y="24"/>
                </a:moveTo>
                <a:lnTo>
                  <a:pt x="5778" y="0"/>
                </a:lnTo>
                <a:lnTo>
                  <a:pt x="5772" y="564"/>
                </a:lnTo>
                <a:lnTo>
                  <a:pt x="4181" y="564"/>
                </a:lnTo>
                <a:lnTo>
                  <a:pt x="4181" y="612"/>
                </a:lnTo>
                <a:lnTo>
                  <a:pt x="0" y="600"/>
                </a:lnTo>
                <a:lnTo>
                  <a:pt x="0" y="24"/>
                </a:lnTo>
                <a:close/>
              </a:path>
            </a:pathLst>
          </a:custGeom>
          <a:solidFill>
            <a:srgbClr val="0291b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51920" cy="692280"/>
          </a:xfrm>
          <a:prstGeom prst="rect">
            <a:avLst/>
          </a:prstGeom>
          <a:gradFill rotWithShape="0">
            <a:gsLst>
              <a:gs pos="0">
                <a:srgbClr val="00befc">
                  <a:alpha val="80000"/>
                </a:srgbClr>
              </a:gs>
              <a:gs pos="100000">
                <a:srgbClr val="00608a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905040" y="-22320"/>
            <a:ext cx="7327800" cy="6859800"/>
            <a:chOff x="905040" y="-22320"/>
            <a:chExt cx="7327800" cy="6859800"/>
          </a:xfrm>
        </p:grpSpPr>
        <p:sp>
          <p:nvSpPr>
            <p:cNvPr id="7" name=""/>
            <p:cNvSpPr/>
            <p:nvPr/>
          </p:nvSpPr>
          <p:spPr>
            <a:xfrm>
              <a:off x="905040" y="-1584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87680" y="-1908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642360" y="-2232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023240" y="-2232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328160" y="-2232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232840" y="-2232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uli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黑体"/>
                <a:ea typeface="黑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黑体"/>
                <a:ea typeface="黑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未知"/>
          <p:cNvSpPr/>
          <p:nvPr/>
        </p:nvSpPr>
        <p:spPr>
          <a:xfrm>
            <a:off x="-12600" y="3429000"/>
            <a:ext cx="9167760" cy="1727280"/>
          </a:xfrm>
          <a:custGeom>
            <a:avLst/>
            <a:gdLst/>
            <a:ahLst/>
            <a:rect l="l" t="t" r="r" b="b"/>
            <a:pathLst>
              <a:path w="5778" h="816">
                <a:moveTo>
                  <a:pt x="0" y="666"/>
                </a:moveTo>
                <a:lnTo>
                  <a:pt x="1632" y="666"/>
                </a:lnTo>
                <a:lnTo>
                  <a:pt x="1632" y="816"/>
                </a:lnTo>
                <a:lnTo>
                  <a:pt x="5202" y="816"/>
                </a:lnTo>
                <a:lnTo>
                  <a:pt x="5202" y="594"/>
                </a:lnTo>
                <a:lnTo>
                  <a:pt x="5778" y="594"/>
                </a:lnTo>
                <a:lnTo>
                  <a:pt x="5778" y="0"/>
                </a:lnTo>
                <a:lnTo>
                  <a:pt x="6" y="0"/>
                </a:lnTo>
                <a:lnTo>
                  <a:pt x="0" y="666"/>
                </a:lnTo>
                <a:close/>
              </a:path>
            </a:pathLst>
          </a:custGeom>
          <a:blipFill rotWithShape="0">
            <a:blip r:embed="rId3">
              <a:alphaModFix amt="3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未知"/>
          <p:cNvSpPr/>
          <p:nvPr/>
        </p:nvSpPr>
        <p:spPr>
          <a:xfrm>
            <a:off x="-14400" y="1168560"/>
            <a:ext cx="9158400" cy="2965320"/>
          </a:xfrm>
          <a:custGeom>
            <a:avLst/>
            <a:gdLst/>
            <a:ahLst/>
            <a:rect l="l" t="t" r="r" b="b"/>
            <a:pathLst>
              <a:path w="5790" h="1868">
                <a:moveTo>
                  <a:pt x="12" y="50"/>
                </a:moveTo>
                <a:lnTo>
                  <a:pt x="1632" y="44"/>
                </a:lnTo>
                <a:lnTo>
                  <a:pt x="1632" y="0"/>
                </a:lnTo>
                <a:lnTo>
                  <a:pt x="5790" y="0"/>
                </a:lnTo>
                <a:lnTo>
                  <a:pt x="5790" y="1820"/>
                </a:lnTo>
                <a:lnTo>
                  <a:pt x="4194" y="1820"/>
                </a:lnTo>
                <a:lnTo>
                  <a:pt x="4194" y="1868"/>
                </a:lnTo>
                <a:lnTo>
                  <a:pt x="0" y="1856"/>
                </a:lnTo>
                <a:lnTo>
                  <a:pt x="12" y="50"/>
                </a:lnTo>
                <a:close/>
              </a:path>
            </a:pathLst>
          </a:custGeom>
          <a:solidFill>
            <a:srgbClr val="0291b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"/>
          <p:cNvSpPr/>
          <p:nvPr/>
        </p:nvSpPr>
        <p:spPr>
          <a:xfrm>
            <a:off x="-3240" y="1844640"/>
            <a:ext cx="9147240" cy="1571760"/>
          </a:xfrm>
          <a:prstGeom prst="rect">
            <a:avLst/>
          </a:prstGeom>
          <a:gradFill rotWithShape="0">
            <a:gsLst>
              <a:gs pos="0">
                <a:srgbClr val="00befc">
                  <a:alpha val="80000"/>
                </a:srgbClr>
              </a:gs>
              <a:gs pos="100000">
                <a:srgbClr val="00608a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95320" y="-22320"/>
            <a:ext cx="7327800" cy="6859800"/>
            <a:chOff x="895320" y="-22320"/>
            <a:chExt cx="7327800" cy="6859800"/>
          </a:xfrm>
        </p:grpSpPr>
        <p:sp>
          <p:nvSpPr>
            <p:cNvPr id="57" name=""/>
            <p:cNvSpPr/>
            <p:nvPr/>
          </p:nvSpPr>
          <p:spPr>
            <a:xfrm>
              <a:off x="895320" y="-1584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77960" y="-1908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32640" y="-2232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13520" y="-2232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318440" y="-2232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23120" y="-22320"/>
              <a:ext cx="0" cy="685332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0" y="3108240"/>
            <a:ext cx="9144000" cy="0"/>
          </a:xfrm>
          <a:prstGeom prst="line">
            <a:avLst/>
          </a:prstGeom>
          <a:ln w="9360">
            <a:solidFill>
              <a:srgbClr val="dddddd">
                <a:alpha val="67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57160"/>
            <a:ext cx="9144000" cy="0"/>
          </a:xfrm>
          <a:prstGeom prst="line">
            <a:avLst/>
          </a:prstGeom>
          <a:ln w="9360">
            <a:solidFill>
              <a:srgbClr val="ffffff">
                <a:alpha val="2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-1949040"/>
            <a:ext cx="10261080" cy="5977800"/>
            <a:chOff x="0" y="-1949040"/>
            <a:chExt cx="10261080" cy="5977800"/>
          </a:xfrm>
        </p:grpSpPr>
        <p:sp>
          <p:nvSpPr>
            <p:cNvPr id="66" name=""/>
            <p:cNvSpPr/>
            <p:nvPr/>
          </p:nvSpPr>
          <p:spPr>
            <a:xfrm>
              <a:off x="1085760" y="3033360"/>
              <a:ext cx="978120" cy="976320"/>
            </a:xfrm>
            <a:prstGeom prst="ellipse">
              <a:avLst/>
            </a:prstGeom>
            <a:noFill/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16200" y="1206720"/>
              <a:ext cx="2793960" cy="2790720"/>
            </a:xfrm>
            <a:prstGeom prst="ellipse">
              <a:avLst/>
            </a:prstGeom>
            <a:noFill/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0" y="4320"/>
              <a:ext cx="7456320" cy="400536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24320" y="-1949040"/>
              <a:ext cx="5936760" cy="592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05" y="19267"/>
                  </a:moveTo>
                  <a:arcTo wR="10800" hR="10800" stAng="3097416" swAng="89475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05" y="19267"/>
                  </a:moveTo>
                  <a:arcTo wR="10800" hR="10800" stAng="3097416" swAng="8947547"/>
                </a:path>
              </a:pathLst>
            </a:custGeom>
            <a:noFill/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0" y="40100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19200" y="3505680"/>
              <a:ext cx="523800" cy="523080"/>
            </a:xfrm>
            <a:prstGeom prst="ellipse">
              <a:avLst/>
            </a:prstGeom>
            <a:noFill/>
            <a:ln w="9360">
              <a:solidFill>
                <a:srgbClr val="ffffff">
                  <a:alpha val="2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4C21-9FA1-4FBD-8F74-754DC22D4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ulim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2" marL="914400" algn="ctr"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3" marL="1371600" algn="ctr">
              <a:spcBef>
                <a:spcPts val="451"/>
              </a:spcBef>
              <a:buClr>
                <a:srgbClr val="99ccff"/>
              </a:buClr>
              <a:buSzPct val="75000"/>
              <a:buFont typeface="Wingdings" charset="2"/>
              <a:buChar char="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4" marL="1828800" algn="ctr">
              <a:spcBef>
                <a:spcPts val="451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蓝白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5" name=""/>
          <p:cNvSpPr/>
          <p:nvPr/>
        </p:nvSpPr>
        <p:spPr>
          <a:xfrm>
            <a:off x="7080480" y="65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46328-19B2-4213-BFFE-36FC40F0C4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7D187-0ABB-47B0-8767-FCEA11A47EC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感谢您的关注！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ulim"/>
              </a:rPr>
              <a:t>某某公司</a:t>
            </a:r>
            <a:r>
              <a:rPr b="0" lang="zh-CN" sz="2400" spc="-1" strike="noStrike">
                <a:solidFill>
                  <a:srgbClr val="ffffff"/>
                </a:solidFill>
                <a:latin typeface="Gulim"/>
              </a:rPr>
              <a:t>/</a:t>
            </a:r>
            <a:r>
              <a:rPr b="0" lang="zh-CN" sz="2400" spc="-1" strike="noStrike">
                <a:solidFill>
                  <a:srgbClr val="ffffff"/>
                </a:solidFill>
                <a:latin typeface="Gulim"/>
              </a:rPr>
              <a:t>单位</a:t>
            </a:r>
            <a:endParaRPr b="0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0" name=""/>
          <p:cNvSpPr/>
          <p:nvPr/>
        </p:nvSpPr>
        <p:spPr>
          <a:xfrm>
            <a:off x="1313280" y="638172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BD765-7EFE-4B6B-B4EF-C6684326D02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----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EEPPT.COM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WWW.EEPPT.COM-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让您轻松制作出精美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600" spc="-1" strike="noStrike">
                <a:solidFill>
                  <a:srgbClr val="e8eff7"/>
                </a:solidFill>
                <a:latin typeface="Gulim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6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8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ko-K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118A-2EDB-4432-AAA4-BEA34D9084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07:31:07Z</dcterms:created>
  <dc:creator/>
  <dc:description/>
  <dc:language>en-US</dc:language>
  <cp:lastModifiedBy>강은정</cp:lastModifiedBy>
  <dcterms:modified xsi:type="dcterms:W3CDTF">2015-01-08T03:42:47Z</dcterms:modified>
  <cp:revision>1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