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F58C-2053-4424-9E75-107DEFEB6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6D20-84E4-493B-B4F5-20F35871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4185-EAAB-4105-8635-EA07CEE8D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CF42-23EA-4377-A324-D34030E58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702C-92BB-4CE0-B0C4-DC9BF239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F285-9425-41EE-9188-32DE04E6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0F7D-8DB1-4264-8D7E-1F3ABE9F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CA49-8B00-40C4-8E7C-6992015B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4EC4-52C0-445B-A1E9-069743D0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76AE-5E5B-45F2-B512-1FF64BB3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8A30-30E9-409E-B6F3-05B066C8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5BEB-BB89-4F43-A0ED-AF722020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457E-4F93-4E21-8B08-1F5C32A08D43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28520" y="2987640"/>
            <a:ext cx="5815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5f00"/>
                </a:solidFill>
                <a:latin typeface="Georgia"/>
              </a:rPr>
              <a:t>PRESENTATION 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14680" y="4000680"/>
            <a:ext cx="478944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265f00"/>
                </a:solidFill>
                <a:latin typeface="Georgia"/>
              </a:rPr>
              <a:t>Company 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700812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5f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903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5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265f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65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265f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5f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928880" y="1600200"/>
            <a:ext cx="6686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5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265f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65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265f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5f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903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5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265f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65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265f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700812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5f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903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5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265f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65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265f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595008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EEPPT.COM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15:41:59Z</dcterms:created>
  <dc:creator/>
  <dc:description/>
  <dc:language>en-US</dc:language>
  <cp:lastModifiedBy>Admin</cp:lastModifiedBy>
  <dcterms:modified xsi:type="dcterms:W3CDTF">2015-01-08T08:19:28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