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B711-E6F6-46B1-B831-1AD63E74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506F-A541-4BD0-9A19-5946D9D8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9EC1-4650-4FBA-A725-5993C293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4BC5-BCA7-42EE-A995-260A8FCA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CC3E-E3FA-4089-BBBA-EE73A771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0EA3-1A47-4E27-9349-F7D805F1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7F59-A370-45B2-A613-E4168A7E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4B4C-FCD6-4C93-8040-39D9479F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7C5E-9E02-475E-A052-75C517C8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2688-BD93-468C-8A3E-3E9CF8D5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2FDB-9581-46B3-89DA-E9E7764C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B74A-FF6B-41AB-BED2-59B84625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8B81-F2D3-4E27-9971-376C1E8035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2" descr=""/>
          <p:cNvPicPr/>
          <p:nvPr/>
        </p:nvPicPr>
        <p:blipFill>
          <a:blip r:embed="rId1"/>
          <a:stretch/>
        </p:blipFill>
        <p:spPr>
          <a:xfrm>
            <a:off x="7920" y="0"/>
            <a:ext cx="9144000" cy="2224080"/>
          </a:xfrm>
          <a:prstGeom prst="rect">
            <a:avLst/>
          </a:prstGeom>
          <a:ln w="0">
            <a:noFill/>
          </a:ln>
        </p:spPr>
      </p:pic>
      <p:sp>
        <p:nvSpPr>
          <p:cNvPr id="42" name="直接连接符 8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2030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接连接符 11"/>
          <p:cNvSpPr/>
          <p:nvPr/>
        </p:nvSpPr>
        <p:spPr>
          <a:xfrm>
            <a:off x="0" y="4365720"/>
            <a:ext cx="9144000" cy="0"/>
          </a:xfrm>
          <a:prstGeom prst="line">
            <a:avLst/>
          </a:prstGeom>
          <a:ln w="2030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-233280" y="2146320"/>
            <a:ext cx="9682200" cy="2151000"/>
            <a:chOff x="-233280" y="2146320"/>
            <a:chExt cx="9682200" cy="2151000"/>
          </a:xfrm>
        </p:grpSpPr>
        <p:pic>
          <p:nvPicPr>
            <p:cNvPr id="45" name="矩形 7" descr=""/>
            <p:cNvPicPr/>
            <p:nvPr/>
          </p:nvPicPr>
          <p:blipFill>
            <a:blip r:embed="rId2"/>
            <a:stretch/>
          </p:blipFill>
          <p:spPr>
            <a:xfrm>
              <a:off x="-233280" y="2146320"/>
              <a:ext cx="9682200" cy="21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-176040" y="2178000"/>
              <a:ext cx="9572760" cy="20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6"/>
          <p:cNvSpPr/>
          <p:nvPr/>
        </p:nvSpPr>
        <p:spPr>
          <a:xfrm>
            <a:off x="0" y="-22320"/>
            <a:ext cx="9144000" cy="966960"/>
          </a:xfrm>
          <a:prstGeom prst="rect">
            <a:avLst/>
          </a:prstGeom>
          <a:solidFill>
            <a:srgbClr val="00b0f0"/>
          </a:soli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接连接符 5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2030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弧形 1"/>
          <p:cNvSpPr/>
          <p:nvPr/>
        </p:nvSpPr>
        <p:spPr>
          <a:xfrm>
            <a:off x="-9202680" y="404640"/>
            <a:ext cx="18410040" cy="1332000"/>
          </a:xfrm>
          <a:custGeom>
            <a:avLst/>
            <a:gdLst/>
            <a:ahLst/>
            <a:rect l="l" t="t" r="r" b="b"/>
            <a:pathLst>
              <a:path stroke="0" w="18415284" h="1332148">
                <a:moveTo>
                  <a:pt x="9207642" y="0"/>
                </a:moveTo>
                <a:cubicBezTo>
                  <a:pt x="14292882" y="0"/>
                  <a:pt x="18415284" y="298211"/>
                  <a:pt x="18415284" y="666074"/>
                </a:cubicBezTo>
                <a:lnTo>
                  <a:pt x="9207642" y="666074"/>
                </a:lnTo>
                <a:lnTo>
                  <a:pt x="9207642" y="0"/>
                </a:lnTo>
                <a:close/>
              </a:path>
              <a:path fill="none" w="18415284" h="1332148">
                <a:moveTo>
                  <a:pt x="9207642" y="0"/>
                </a:moveTo>
                <a:cubicBezTo>
                  <a:pt x="14292882" y="0"/>
                  <a:pt x="18415284" y="298211"/>
                  <a:pt x="18415284" y="666074"/>
                </a:cubicBezTo>
              </a:path>
            </a:pathLst>
          </a:custGeom>
          <a:solidFill>
            <a:srgbClr val="ffffff"/>
          </a:solidFill>
          <a:ln w="10152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直接连接符 3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2030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0" y="3240"/>
            <a:ext cx="9144000" cy="64908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5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2030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00:24:41Z</dcterms:created>
  <dc:creator/>
  <dc:description/>
  <dc:language>en-US</dc:language>
  <cp:lastModifiedBy>任汉辉</cp:lastModifiedBy>
  <dcterms:modified xsi:type="dcterms:W3CDTF">2015-01-08T03:39:43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