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CF7-37AF-46D0-AB2C-1E071A18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8AA-77E1-45E3-AB5E-EDA71BBF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3D5-4F65-4DCD-A3EF-F0161CC8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245-E4D6-4CCA-8840-3BD99EDE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56AB-E91F-4433-B7D8-4DB067AE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98A0-1534-44CF-A368-2BAB696D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90C6-C02B-481F-99E1-99E11531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5C72-042A-4B4F-97DC-D9783075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E249-1111-490D-8577-29B737DC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2666520"/>
            <a:ext cx="91440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8912-27C1-4D0A-ADB5-1840EC7D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B03D-570A-42C3-8AFE-A29428EC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047-013C-4615-A811-0CC25BA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AB4B-7ECA-4D92-A2A3-42307270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6E5C-110F-4204-BBAB-FB7941F5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92EB-AA32-47EF-9763-A9420094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FFD3-2A71-40F4-B559-5746DF4E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7AC9-08CD-4D02-998D-3C098D0D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5E8-F12D-4D9A-96D3-ED6D1489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3B1-D9CD-4E3E-B5F3-9575ACE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B98-1AE2-41D8-8030-FCEE02C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666520"/>
            <a:ext cx="91440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DBA-375E-4172-AA90-5C5B3C82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87D-90D5-45A6-ABDA-84F814CC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885-2FD3-4762-ACB2-560E5FF1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F3A-E5AF-4CFE-ABA4-78CF010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2120"/>
            <a:ext cx="9144000" cy="1681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2448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0456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4F9-EEA1-4BDB-A748-52ACE81D8FB3}" type="slidenum">
              <a:rPr b="0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29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70200"/>
            <a:ext cx="9144000" cy="113040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9160"/>
            <a:ext cx="6705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ae2"/>
                </a:solidFill>
                <a:latin typeface="Verdana"/>
                <a:ea typeface="Gulim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330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ae2"/>
                </a:solidFill>
                <a:latin typeface="Verdana"/>
                <a:ea typeface="Gulim"/>
              </a:rPr>
              <a:t> </a:t>
            </a:r>
            <a:r>
              <a:rPr b="1" lang="en-US" sz="1600" spc="-1" strike="noStrike">
                <a:solidFill>
                  <a:srgbClr val="66cae2"/>
                </a:solidFill>
                <a:latin typeface="Verdana"/>
                <a:ea typeface="Gulim"/>
              </a:rPr>
              <a:t>Present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200040" y="655308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A440-704C-4289-9A54-6150E741BC1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32448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Unicode"/>
                <a:ea typeface="Gulim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940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510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1260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Gulim"/>
              </a:rPr>
              <a:t>蓝黑马赛克国外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Gulim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000" spc="-1" strike="noStrike">
              <a:solidFill>
                <a:srgbClr val="000000"/>
              </a:solidFill>
              <a:latin typeface="Verdana"/>
              <a:ea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0840" y="2987280"/>
            <a:ext cx="8763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Gulim"/>
              </a:rPr>
              <a:t>Thank you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  <a:ea typeface="Gulim"/>
            </a:endParaRPr>
          </a:p>
        </p:txBody>
      </p:sp>
      <p:sp>
        <p:nvSpPr>
          <p:cNvPr id="154" name=""/>
          <p:cNvSpPr/>
          <p:nvPr/>
        </p:nvSpPr>
        <p:spPr>
          <a:xfrm>
            <a:off x="2030040" y="598320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337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660680"/>
            <a:ext cx="609480" cy="53316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44476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24000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40226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6ca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8830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c78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64ecd9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64ecd9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66cae2"/>
              </a:gs>
              <a:gs pos="100000">
                <a:srgbClr val="64ecd9"/>
              </a:gs>
            </a:gsLst>
            <a:lin ang="135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8fd7e9"/>
              </a:gs>
              <a:gs pos="100000">
                <a:srgbClr val="66cae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64ecd9"/>
              </a:gs>
              <a:gs pos="100000">
                <a:srgbClr val="54c7b7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30840" y="60199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240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424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3f958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4ecd9"/>
                        </a:gs>
                        <a:gs pos="100000">
                          <a:srgbClr val="45a496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424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424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gradFill rotWithShape="0">
                      <a:gsLst>
                        <a:gs pos="0">
                          <a:srgbClr val="66cae2"/>
                        </a:gs>
                        <a:gs pos="100000">
                          <a:srgbClr val="4991a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4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4eb9aa"/>
              </a:gs>
              <a:gs pos="50000">
                <a:srgbClr val="64ecd9"/>
              </a:gs>
              <a:gs pos="100000">
                <a:srgbClr val="4eb9aa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509eb1"/>
              </a:gs>
              <a:gs pos="50000">
                <a:srgbClr val="66cae2"/>
              </a:gs>
              <a:gs pos="100000">
                <a:srgbClr val="509eb1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51c0b1"/>
              </a:gs>
              <a:gs pos="50000">
                <a:srgbClr val="64ecd9"/>
              </a:gs>
              <a:gs pos="100000">
                <a:srgbClr val="51c0b1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4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424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858000" cy="4496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30840" y="577548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8:24:16Z</dcterms:created>
  <dc:creator>yoojin</dc:creator>
  <dc:description/>
  <dc:language>en-US</dc:language>
  <cp:lastModifiedBy>yoojin</cp:lastModifiedBy>
  <dcterms:modified xsi:type="dcterms:W3CDTF">2015-01-08T03:41:20Z</dcterms:modified>
  <cp:revision>1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AdHocReviewCycleID">
    <vt:r8>1344399779</vt:r8>
  </property>
  <property fmtid="{D5CDD505-2E9C-101B-9397-08002B2CF9AE}" pid="4" name="_AuthorEmail">
    <vt:lpwstr>support@themegallery.co.kr</vt:lpwstr>
  </property>
  <property fmtid="{D5CDD505-2E9C-101B-9397-08002B2CF9AE}" pid="5" name="_AuthorEmailDisplayName">
    <vt:lpwstr>support</vt:lpwstr>
  </property>
  <property fmtid="{D5CDD505-2E9C-101B-9397-08002B2CF9AE}" pid="6" name="_EmailSubject">
    <vt:lpwstr>救崇窍技夸 荤捞呈俊辑 颇况器牢飘 巩力肺 舅妨靛副膊 乐绢辑 皋老焊忱聪促.</vt:lpwstr>
  </property>
  <property fmtid="{D5CDD505-2E9C-101B-9397-08002B2CF9AE}" pid="7" name="_PreviousAdHocReviewCycleID">
    <vt:r8>-338095602</vt:r8>
  </property>
</Properties>
</file>