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36E-177D-47A4-895D-DAF4D6BD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AA8-E0D7-4264-A1CB-D6143773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9FF-30AB-4DAF-AB3A-8B28B33C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8C4-5FBD-454D-902C-3A4A8760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CFC2-BB0C-48B9-860E-DE3A9976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1ADA-55BD-406E-B1D0-C7172147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8E6C-0BA4-4597-B4AD-1DD07899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6D3A-27CF-449E-BF86-C19A8F75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7FFC-9E65-49C8-BB84-2F621FC0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2ED3-7C42-4369-8AB9-B3154DB8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EB17-DE6C-4426-BA97-A99FD2F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87C-FE76-41C9-A765-98E4AD50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976A-B27D-4A4F-B4E6-90DDE0E3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39B9-4DDC-4C2E-859F-7F283362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9276-5082-4EC7-BF60-964C974E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A68B-D95F-4EAA-B19D-C82A2166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1BC4-C32B-45E9-9B6E-BA31E1CC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F7896-1546-46EF-A735-739CDFA7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2571E-6617-4A57-9B55-89B9973E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E394-457F-4860-AC17-EEC5A327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D8D17-239B-4C0F-B6E8-09C0AA68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B223F-F238-4766-9576-459F50BC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F90-10C9-4FD5-9477-5B17FDA6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5D75-A5B4-4A05-A262-55B862A6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A4D68-AC2A-4687-9A89-871D8929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454A-90A1-468F-A92B-3F8824FB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AFE1C-FE64-4CAA-825E-36A5F80D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8D43D-D9AC-441C-ACAD-26F3ACC6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80453-CFBD-4E3D-BC7E-7C077C44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853F-18B4-4F0C-A8E2-8FAF10FC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33E62-C7E7-4B10-8A1F-30610050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688DF-4783-40A7-9C81-1BB74CCB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81341-6695-45FE-B8A9-62109323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98B-72C5-4C4A-8A4F-C128A739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1E3CF-6EED-4930-850C-4ED70756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F7810-81A9-44F8-99D2-40E46614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3AF68-D3A7-47F8-8983-DFD41EFE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578FB-E33B-4B61-94E7-AAE27ED4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41574-96E2-42DB-B2B2-53DBF458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7354E-F15A-4F84-8D8B-BB6C9330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94D49-7987-495B-8A59-4FEF47FA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3E954-7036-4D08-AD17-ABB51D80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06FCC-951A-41D8-A5C9-088139F3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7B4C3-D32C-4EA0-BA5C-4A637F6C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E75-973C-4763-87A6-C883DA1C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EF6C5-990F-4FC4-894A-00D45154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02CC7-FEF5-45CA-80F6-00C6719C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7DDC2-E75E-4F53-AAB3-F4CA3F73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ACD3E-92BE-438E-BE44-2F7A6D14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FE6F6-3DED-4D19-9E9E-D36AB262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7E978-D2A1-49D7-BA84-86563600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2CC2F-283B-4247-8338-5DB70F99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27263-1C9D-47FD-9730-CA80F22F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93F6D-9A5B-41E9-BC3B-0441C4D3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9661D-1FF8-47D2-9D48-1BBF0E2D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3A1-EEF5-453C-8EE9-422EEC34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55261-AAC1-44D2-8D6C-3CDC1788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11C-0FAC-46F9-AAFD-D36FD378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368-48AD-45C1-927D-9EBBB22B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40D-08C2-4EC3-A925-25C22B05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920"/>
            <a:ext cx="9144000" cy="69519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ddddd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75C9-6442-4F65-801D-C2194FBF2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QQ截图未命名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210200" cy="20001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441600" y="0"/>
            <a:ext cx="48024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179280" y="5950080"/>
            <a:ext cx="445788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EBD7-E9E5-4C1D-BC98-B90CFAC50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7892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084C-DAC2-4BB1-B8E8-88B1227ED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205139.30064714.jpg205139" descr=""/>
          <p:cNvPicPr/>
          <p:nvPr/>
        </p:nvPicPr>
        <p:blipFill>
          <a:blip r:embed="rId2"/>
          <a:stretch/>
        </p:blipFill>
        <p:spPr>
          <a:xfrm>
            <a:off x="1440" y="1440"/>
            <a:ext cx="917892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1135-0CCA-4706-A2C9-B5810787E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205137.84248221.jpg205137" descr=""/>
          <p:cNvPicPr/>
          <p:nvPr/>
        </p:nvPicPr>
        <p:blipFill>
          <a:blip r:embed="rId2"/>
          <a:stretch/>
        </p:blipFill>
        <p:spPr>
          <a:xfrm>
            <a:off x="1440" y="1440"/>
            <a:ext cx="917892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2E20-24CF-4FA2-9073-3CE459CE5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223112.41342499.jpg223112" descr=""/>
          <p:cNvPicPr/>
          <p:nvPr/>
        </p:nvPicPr>
        <p:blipFill>
          <a:blip r:embed="rId2"/>
          <a:stretch/>
        </p:blipFill>
        <p:spPr>
          <a:xfrm>
            <a:off x="1440" y="1440"/>
            <a:ext cx="917892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4000" y="3357720"/>
            <a:ext cx="273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Brush Script MT"/>
                <a:ea typeface="Brush Script MT"/>
              </a:rPr>
              <a:t>儿时的伙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Brush Script MT"/>
                <a:ea typeface="Brush Script MT"/>
              </a:rPr>
              <a:t>永恒的经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66ff"/>
                </a:solidFill>
                <a:latin typeface="Brush Script MT"/>
                <a:ea typeface="Brush Script MT"/>
              </a:rPr>
              <a:t>25 </a:t>
            </a:r>
            <a:r>
              <a:rPr b="0" lang="zh-CN" sz="2800" spc="-1" strike="noStrike">
                <a:solidFill>
                  <a:srgbClr val="0066ff"/>
                </a:solidFill>
                <a:latin typeface="Brush Script MT"/>
                <a:ea typeface="Brush Script MT"/>
              </a:rPr>
              <a:t>年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Brush Script MT"/>
                <a:ea typeface="Brush Script MT"/>
              </a:rPr>
              <a:t>华丽回归大银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140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540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16:36:20Z</dcterms:created>
  <dc:creator/>
  <dc:description/>
  <dc:language>en-US</dc:language>
  <cp:lastModifiedBy/>
  <dcterms:modified xsi:type="dcterms:W3CDTF">2015-01-07T09:28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