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EF5-C6B1-495D-9D45-85B7439B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3DF-C4E4-43E4-8123-184AD53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3D0-03CF-4E2A-B8BB-981F7B01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590-0546-40DB-A134-B361B3F4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617-34F8-41D0-A4B4-D5A900A3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C35-EBD6-48AB-8C90-244FCA58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2FC-B90C-408F-B0E7-0B446AFF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922-AEA9-4D35-B219-B74A06DF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7A5-57C4-43B3-9344-FBF6FC61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A5E-47B2-44F7-939E-ED44FBB8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646-B163-4D13-A2C0-E6E85FC1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9B8-035C-425E-913B-EF15B4A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 flipH="1"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DA3-AA3F-470B-918F-3BF735C2156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蓝绿星点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908280" y="6523200"/>
            <a:ext cx="35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0960" y="631980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cc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66cc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66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3:51:00Z</dcterms:created>
  <dc:creator>果因PPT工作室</dc:creator>
  <dc:description/>
  <cp:keywords>XS-普屏 4：3;SC-淡蓝色;BG-浅色;DH-静态</cp:keywords>
  <dc:language>en-US</dc:language>
  <cp:lastModifiedBy>田士庆</cp:lastModifiedBy>
  <dcterms:modified xsi:type="dcterms:W3CDTF">2015-01-08T03:38:04Z</dcterms:modified>
  <cp:revision>2</cp:revision>
  <dc:subject>TP-流行娱乐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