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112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112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浪漫都市插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796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60" y="536400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5520" y="54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28320"/>
            <a:ext cx="84247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3768840"/>
            <a:ext cx="82818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Administrator</dc:creator>
  <dc:description/>
  <dc:language>en-US</dc:language>
  <cp:lastModifiedBy/>
  <dcterms:modified xsi:type="dcterms:W3CDTF">2015-01-07T14:2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