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F7540-0A73-485C-BBE4-3296529A3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448F7-06E9-4942-8DB3-8EFBBDAEB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D0636-0D02-4D17-886D-E6D64C9FE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5780D-BED3-478D-BA69-391B67E47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2128D-F7F7-4D8B-A7F0-BFA8EB716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53429-F3CB-498B-B018-09D121CC3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4EBCE-233D-453A-914A-091B6730E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057D4-C374-4893-B972-E92A459E7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FD53C-4CC9-44BB-860E-4C5DC82E0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A91E0-0FD0-4D78-A0A1-30B7EDD75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DDFA9-C13C-4DB3-8EE4-DF24422CD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1BE7B-949A-40A4-9AA9-14992DFD0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bf59b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bf59b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bf59b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bf59b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851280" y="6524640"/>
            <a:ext cx="14400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283B95CF-4AB3-4A24-883D-62DB0F54AD7B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63044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20000"/>
              </a:lnSpc>
              <a:spcBef>
                <a:spcPts val="400"/>
              </a:spcBef>
              <a:buClr>
                <a:srgbClr val="ff9021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20000"/>
              </a:lnSpc>
              <a:spcBef>
                <a:spcPts val="34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59790-8AB1-476F-AFC9-5CF8EF44902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A6A76-D869-4970-8940-82FCEF3AEE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69440" y="2781360"/>
            <a:ext cx="8207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468360" y="163044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9280" y="60930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57200" y="1341360"/>
            <a:ext cx="8207280" cy="863640"/>
            <a:chOff x="457200" y="1341360"/>
            <a:chExt cx="8207280" cy="863640"/>
          </a:xfrm>
        </p:grpSpPr>
        <p:grpSp>
          <p:nvGrpSpPr>
            <p:cNvPr id="127" name=""/>
            <p:cNvGrpSpPr/>
            <p:nvPr/>
          </p:nvGrpSpPr>
          <p:grpSpPr>
            <a:xfrm>
              <a:off x="457200" y="1341360"/>
              <a:ext cx="8207280" cy="576360"/>
              <a:chOff x="457200" y="1341360"/>
              <a:chExt cx="8207280" cy="576360"/>
            </a:xfrm>
          </p:grpSpPr>
          <p:sp>
            <p:nvSpPr>
              <p:cNvPr id="128" name=""/>
              <p:cNvSpPr/>
              <p:nvPr/>
            </p:nvSpPr>
            <p:spPr>
              <a:xfrm>
                <a:off x="457200" y="1341360"/>
                <a:ext cx="102564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482840" y="1341360"/>
                <a:ext cx="102528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508120" y="1341360"/>
                <a:ext cx="1025640" cy="57636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533760" y="1341360"/>
                <a:ext cx="102564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562640" y="1341360"/>
                <a:ext cx="1025280" cy="576360"/>
              </a:xfrm>
              <a:prstGeom prst="rect">
                <a:avLst/>
              </a:prstGeom>
              <a:solidFill>
                <a:srgbClr val="bf59b8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587920" y="1341360"/>
                <a:ext cx="1025640" cy="576360"/>
              </a:xfrm>
              <a:prstGeom prst="rect">
                <a:avLst/>
              </a:prstGeom>
              <a:solidFill>
                <a:srgbClr val="884183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613560" y="1341360"/>
                <a:ext cx="1025640" cy="576360"/>
              </a:xfrm>
              <a:prstGeom prst="rect">
                <a:avLst/>
              </a:prstGeom>
              <a:solidFill>
                <a:srgbClr val="371535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639200" y="1341360"/>
                <a:ext cx="1025280" cy="576360"/>
              </a:xfrm>
              <a:prstGeom prst="rect">
                <a:avLst/>
              </a:prstGeom>
              <a:solidFill>
                <a:srgbClr val="d99fd5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457200" y="1917720"/>
              <a:ext cx="8207280" cy="287280"/>
              <a:chOff x="457200" y="1917720"/>
              <a:chExt cx="8207280" cy="287280"/>
            </a:xfrm>
          </p:grpSpPr>
          <p:sp>
            <p:nvSpPr>
              <p:cNvPr id="137" name=""/>
              <p:cNvSpPr/>
              <p:nvPr/>
            </p:nvSpPr>
            <p:spPr>
              <a:xfrm>
                <a:off x="45720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背景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4828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文本和线条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5081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阴影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5337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标题文本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5626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填充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5879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强调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6135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超链接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63920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已访超链接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46040" y="253224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7286760" y="44604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3"/>
          <p:cNvSpPr/>
          <p:nvPr/>
        </p:nvSpPr>
        <p:spPr>
          <a:xfrm>
            <a:off x="1479600" y="1700280"/>
            <a:ext cx="6184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谢您的关注 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80587-F92A-4BA0-8FEA-5E32E6A4EA0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49" name="矩形 4"/>
            <p:cNvSpPr/>
            <p:nvPr/>
          </p:nvSpPr>
          <p:spPr>
            <a:xfrm>
              <a:off x="679680" y="0"/>
              <a:ext cx="653976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i="1" lang="en-US" sz="3200" spc="-1" strike="noStrike" u="sng">
                  <a:solidFill>
                    <a:srgbClr val="963d00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i="1" lang="zh-CN" sz="3200" spc="-1" strike="noStrike" u="sng">
                  <a:solidFill>
                    <a:srgbClr val="963d00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i="1" lang="en-US" sz="3200" spc="-1" strike="noStrike" u="sng">
                  <a:solidFill>
                    <a:srgbClr val="963d00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i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F3024-3EDC-4567-958B-FAC8FAB5406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/>
  <dc:description/>
  <dc:language>en-US</dc:language>
  <cp:lastModifiedBy>ERICLAU</cp:lastModifiedBy>
  <dcterms:modified xsi:type="dcterms:W3CDTF">2015-01-07T09:02:32Z</dcterms:modified>
  <cp:revision>27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