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7AD-7342-46CF-BC68-9B5BD06A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01F-44B3-4150-879C-F7A0368F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491-BC21-441E-8538-BEBD4AB6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C91-126F-4004-A51F-E8D65109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2D3-65EF-4A0C-8A21-49DC4F9A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5F1-2F54-48ED-8004-27369FBB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AA7-05CB-491A-97E9-E596E72C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9AE-8646-4ED3-AEA3-B4653F8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7A1-D91C-4926-926A-2A06D19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688-E21A-4EFA-87E4-AA4D62C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4B5-0F25-4057-9CBC-4D995E4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AC2-7FC7-4C34-94FF-E43F808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ea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E707-44FA-492D-970F-D0A7CD38AB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931-1EBD-4DA2-9592-9B319EDEFD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924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绿色草丛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6920" y="3651120"/>
            <a:ext cx="64008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84520" y="46594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876320" y="1409760"/>
            <a:ext cx="5235840" cy="568440"/>
            <a:chOff x="1876320" y="1409760"/>
            <a:chExt cx="5235840" cy="568440"/>
          </a:xfrm>
        </p:grpSpPr>
        <p:sp>
          <p:nvSpPr>
            <p:cNvPr id="46" name="Freeform 9"/>
            <p:cNvSpPr/>
            <p:nvPr/>
          </p:nvSpPr>
          <p:spPr>
            <a:xfrm>
              <a:off x="2577960" y="1409760"/>
              <a:ext cx="453420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876320" y="1409760"/>
              <a:ext cx="60948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1"/>
            <p:cNvSpPr/>
            <p:nvPr/>
          </p:nvSpPr>
          <p:spPr>
            <a:xfrm>
              <a:off x="2981160" y="147456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4"/>
            <p:cNvSpPr/>
            <p:nvPr/>
          </p:nvSpPr>
          <p:spPr>
            <a:xfrm>
              <a:off x="2065680" y="1463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876320" y="2340000"/>
            <a:ext cx="5235840" cy="568440"/>
            <a:chOff x="1876320" y="2340000"/>
            <a:chExt cx="5235840" cy="568440"/>
          </a:xfrm>
        </p:grpSpPr>
        <p:sp>
          <p:nvSpPr>
            <p:cNvPr id="51" name="Freeform 7"/>
            <p:cNvSpPr/>
            <p:nvPr/>
          </p:nvSpPr>
          <p:spPr>
            <a:xfrm>
              <a:off x="2577960" y="2340000"/>
              <a:ext cx="453420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1876320" y="2340000"/>
              <a:ext cx="60948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2981160" y="239868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2065680" y="2393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76320" y="3305160"/>
            <a:ext cx="5235840" cy="568440"/>
            <a:chOff x="1876320" y="3305160"/>
            <a:chExt cx="5235840" cy="568440"/>
          </a:xfrm>
        </p:grpSpPr>
        <p:sp>
          <p:nvSpPr>
            <p:cNvPr id="56" name="Freeform 4"/>
            <p:cNvSpPr/>
            <p:nvPr/>
          </p:nvSpPr>
          <p:spPr>
            <a:xfrm>
              <a:off x="2577960" y="3305160"/>
              <a:ext cx="453420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1876320" y="3305160"/>
              <a:ext cx="609480" cy="56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2981160" y="336384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2065680" y="333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4"/>
          <p:cNvSpPr/>
          <p:nvPr/>
        </p:nvSpPr>
        <p:spPr>
          <a:xfrm>
            <a:off x="1074600" y="1776240"/>
            <a:ext cx="2881440" cy="21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1074600" y="1344600"/>
            <a:ext cx="288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"/>
          <p:cNvPicPr/>
          <p:nvPr/>
        </p:nvPicPr>
        <p:blipFill>
          <a:blip r:embed="rId2"/>
          <a:stretch/>
        </p:blipFill>
        <p:spPr>
          <a:xfrm>
            <a:off x="4067280" y="1370160"/>
            <a:ext cx="3854520" cy="25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55560" y="1189080"/>
            <a:ext cx="8239320" cy="364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852560" y="1577880"/>
            <a:ext cx="252360" cy="155520"/>
          </a:xfrm>
          <a:prstGeom prst="can">
            <a:avLst>
              <a:gd name="adj" fmla="val 397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862360" y="194616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3960720" y="2298600"/>
            <a:ext cx="40032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600960" y="3030480"/>
            <a:ext cx="630000" cy="760320"/>
          </a:xfrm>
          <a:prstGeom prst="can">
            <a:avLst>
              <a:gd name="adj" fmla="val 1775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5249880" y="2724120"/>
            <a:ext cx="49536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4160" y="196056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865080" y="250668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1917720" y="31384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270240" y="376884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4314960" y="44974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9"/>
          <p:cNvCxnSpPr>
            <a:stCxn id="66" idx="3"/>
            <a:endCxn id="71" idx="0"/>
          </p:cNvCxnSpPr>
          <p:nvPr/>
        </p:nvCxnSpPr>
        <p:spPr>
          <a:xfrm rot="5400000">
            <a:off x="1645560" y="1628280"/>
            <a:ext cx="227880" cy="4374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7" name="AutoShape 20"/>
          <p:cNvCxnSpPr>
            <a:stCxn id="67" idx="3"/>
            <a:endCxn id="72" idx="0"/>
          </p:cNvCxnSpPr>
          <p:nvPr/>
        </p:nvCxnSpPr>
        <p:spPr>
          <a:xfrm rot="5400000">
            <a:off x="2446200" y="1943640"/>
            <a:ext cx="348480" cy="77868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8" name="AutoShape 21"/>
          <p:cNvCxnSpPr>
            <a:stCxn id="68" idx="3"/>
            <a:endCxn id="73" idx="0"/>
          </p:cNvCxnSpPr>
          <p:nvPr/>
        </p:nvCxnSpPr>
        <p:spPr>
          <a:xfrm rot="5400000">
            <a:off x="3473640" y="245196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9" name="AutoShape 22"/>
          <p:cNvCxnSpPr>
            <a:stCxn id="70" idx="3"/>
            <a:endCxn id="74" idx="0"/>
          </p:cNvCxnSpPr>
          <p:nvPr/>
        </p:nvCxnSpPr>
        <p:spPr>
          <a:xfrm rot="5400000">
            <a:off x="4780800" y="305388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0" name="AutoShape 23"/>
          <p:cNvCxnSpPr>
            <a:stCxn id="69" idx="3"/>
            <a:endCxn id="75" idx="0"/>
          </p:cNvCxnSpPr>
          <p:nvPr/>
        </p:nvCxnSpPr>
        <p:spPr>
          <a:xfrm rot="5400000">
            <a:off x="5945040" y="3526200"/>
            <a:ext cx="707400" cy="1235880"/>
          </a:xfrm>
          <a:prstGeom prst="bentConnector3">
            <a:avLst>
              <a:gd name="adj1" fmla="val 49847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81" name="AutoShape 24"/>
          <p:cNvSpPr/>
          <p:nvPr/>
        </p:nvSpPr>
        <p:spPr>
          <a:xfrm>
            <a:off x="6600960" y="1239840"/>
            <a:ext cx="630000" cy="192708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5"/>
          <p:cNvSpPr/>
          <p:nvPr/>
        </p:nvSpPr>
        <p:spPr>
          <a:xfrm>
            <a:off x="5249880" y="1236600"/>
            <a:ext cx="495360" cy="1596960"/>
          </a:xfrm>
          <a:prstGeom prst="can">
            <a:avLst>
              <a:gd name="adj" fmla="val 85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6"/>
          <p:cNvSpPr/>
          <p:nvPr/>
        </p:nvSpPr>
        <p:spPr>
          <a:xfrm>
            <a:off x="3960720" y="1233360"/>
            <a:ext cx="40032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7"/>
          <p:cNvSpPr/>
          <p:nvPr/>
        </p:nvSpPr>
        <p:spPr>
          <a:xfrm>
            <a:off x="2862360" y="1241280"/>
            <a:ext cx="295200" cy="766800"/>
          </a:xfrm>
          <a:prstGeom prst="can">
            <a:avLst>
              <a:gd name="adj" fmla="val 912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8"/>
          <p:cNvSpPr/>
          <p:nvPr/>
        </p:nvSpPr>
        <p:spPr>
          <a:xfrm>
            <a:off x="1852560" y="1243080"/>
            <a:ext cx="252360" cy="398520"/>
          </a:xfrm>
          <a:prstGeom prst="can">
            <a:avLst>
              <a:gd name="adj" fmla="val 169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356000" y="1058400"/>
            <a:ext cx="4114800" cy="3751560"/>
            <a:chOff x="4356000" y="1058400"/>
            <a:chExt cx="4114800" cy="3751560"/>
          </a:xfrm>
        </p:grpSpPr>
        <p:sp>
          <p:nvSpPr>
            <p:cNvPr id="88" name=""/>
            <p:cNvSpPr/>
            <p:nvPr/>
          </p:nvSpPr>
          <p:spPr>
            <a:xfrm flipV="1">
              <a:off x="5898960" y="1058040"/>
              <a:ext cx="1028520" cy="937800"/>
            </a:xfrm>
            <a:custGeom>
              <a:avLst/>
              <a:gdLst>
                <a:gd name="textAreaLeft" fmla="*/ 369000 w 1028520"/>
                <a:gd name="textAreaRight" fmla="*/ 659520 w 1028520"/>
                <a:gd name="textAreaTop" fmla="*/ 336240 h 937800"/>
                <a:gd name="textAreaBottom" fmla="*/ 60156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1" y="21600"/>
                  </a:lnTo>
                  <a:lnTo>
                    <a:pt x="107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98960" y="1058760"/>
              <a:ext cx="10285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384520" y="1995840"/>
              <a:ext cx="2057400" cy="9378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206280 h 937800"/>
                <a:gd name="textAreaBottom" fmla="*/ 73152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4520" y="1996560"/>
              <a:ext cx="13374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870080" y="2933280"/>
              <a:ext cx="3086280" cy="937800"/>
            </a:xfrm>
            <a:custGeom>
              <a:avLst/>
              <a:gdLst>
                <a:gd name="textAreaLeft" fmla="*/ 535680 w 3086280"/>
                <a:gd name="textAreaRight" fmla="*/ 2550600 w 3086280"/>
                <a:gd name="textAreaTop" fmla="*/ 162720 h 937800"/>
                <a:gd name="textAreaBottom" fmla="*/ 7750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0440" y="2934360"/>
              <a:ext cx="20059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56000" y="3871440"/>
              <a:ext cx="4114800" cy="937800"/>
            </a:xfrm>
            <a:custGeom>
              <a:avLst/>
              <a:gdLst>
                <a:gd name="textAreaLeft" fmla="*/ 618840 w 4114800"/>
                <a:gd name="textAreaRight" fmla="*/ 3495960 w 4114800"/>
                <a:gd name="textAreaTop" fmla="*/ 141120 h 937800"/>
                <a:gd name="textAreaBottom" fmla="*/ 7966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1" y="21600"/>
                  </a:lnTo>
                  <a:lnTo>
                    <a:pt x="26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76000" y="3872160"/>
              <a:ext cx="2674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2560" y="1130400"/>
            <a:ext cx="5257800" cy="576000"/>
            <a:chOff x="682560" y="1130400"/>
            <a:chExt cx="5257800" cy="576000"/>
          </a:xfrm>
        </p:grpSpPr>
        <p:sp>
          <p:nvSpPr>
            <p:cNvPr id="97" name="矩形 6"/>
            <p:cNvSpPr/>
            <p:nvPr/>
          </p:nvSpPr>
          <p:spPr>
            <a:xfrm>
              <a:off x="682560" y="1130400"/>
              <a:ext cx="338508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7"/>
            <p:cNvSpPr/>
            <p:nvPr/>
          </p:nvSpPr>
          <p:spPr>
            <a:xfrm>
              <a:off x="4067640" y="1418400"/>
              <a:ext cx="1872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2560" y="2139840"/>
            <a:ext cx="4826160" cy="574920"/>
            <a:chOff x="682560" y="2139840"/>
            <a:chExt cx="4826160" cy="574920"/>
          </a:xfrm>
        </p:grpSpPr>
        <p:sp>
          <p:nvSpPr>
            <p:cNvPr id="100" name="矩形 9"/>
            <p:cNvSpPr/>
            <p:nvPr/>
          </p:nvSpPr>
          <p:spPr>
            <a:xfrm>
              <a:off x="682560" y="213984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0"/>
            <p:cNvSpPr/>
            <p:nvPr/>
          </p:nvSpPr>
          <p:spPr>
            <a:xfrm>
              <a:off x="4068000" y="2427120"/>
              <a:ext cx="1440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82560" y="3105000"/>
            <a:ext cx="4249800" cy="574920"/>
            <a:chOff x="682560" y="3105000"/>
            <a:chExt cx="4249800" cy="574920"/>
          </a:xfrm>
        </p:grpSpPr>
        <p:sp>
          <p:nvSpPr>
            <p:cNvPr id="103" name="矩形 12"/>
            <p:cNvSpPr/>
            <p:nvPr/>
          </p:nvSpPr>
          <p:spPr>
            <a:xfrm>
              <a:off x="682560" y="310500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3"/>
            <p:cNvSpPr/>
            <p:nvPr/>
          </p:nvSpPr>
          <p:spPr>
            <a:xfrm>
              <a:off x="4068000" y="3392280"/>
              <a:ext cx="86436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2560" y="4011480"/>
            <a:ext cx="3816360" cy="576360"/>
            <a:chOff x="682560" y="4011480"/>
            <a:chExt cx="3816360" cy="576360"/>
          </a:xfrm>
        </p:grpSpPr>
        <p:sp>
          <p:nvSpPr>
            <p:cNvPr id="106" name="矩形 15"/>
            <p:cNvSpPr/>
            <p:nvPr/>
          </p:nvSpPr>
          <p:spPr>
            <a:xfrm>
              <a:off x="682560" y="4011480"/>
              <a:ext cx="3384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6"/>
            <p:cNvSpPr/>
            <p:nvPr/>
          </p:nvSpPr>
          <p:spPr>
            <a:xfrm>
              <a:off x="4066920" y="4299480"/>
              <a:ext cx="43200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7:30:00Z</dcterms:created>
  <dc:creator>果因PPT工作室</dc:creator>
  <dc:description/>
  <cp:keywords>XS-普屏 4：3;SC-淡绿色;BG-浅色;DH-静态</cp:keywords>
  <dc:language>en-US</dc:language>
  <cp:lastModifiedBy>微软用户</cp:lastModifiedBy>
  <dcterms:modified xsi:type="dcterms:W3CDTF">2015-01-08T08:30:23Z</dcterms:modified>
  <cp:revision>3</cp:revision>
  <dc:subject>TP-植物动物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