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37E-CC01-4DB9-9CE1-C37BB823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173-6B66-4FD7-B2E9-F872608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4B6-C032-4A47-A439-7F3C3B44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21A-953A-4E4F-BBE8-183182A3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440-F92C-4DA7-8F34-30D83408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647-50D7-47C3-A2FE-391AA5B1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169-CA2C-4389-A7FB-0FBA461C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0A9-AA1E-4B76-B227-CAF10B6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F48-5BCA-4063-B2DB-8353405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ECF-A724-4D7B-9F68-324ACF2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0F8-1EE7-4BB7-9272-B8E5ACB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379-45C7-4C3E-9A64-2C973C9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7F83-D610-4CB8-9BB3-32C5F073FFF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dad21"/>
                </a:solidFill>
                <a:latin typeface="Calibri"/>
              </a:rPr>
              <a:t>绿色风车</a:t>
            </a:r>
            <a:r>
              <a:rPr b="0" lang="zh-CN" sz="4400" spc="-1" strike="noStrike">
                <a:solidFill>
                  <a:srgbClr val="7dad21"/>
                </a:solidFill>
                <a:latin typeface="Calibri"/>
              </a:rPr>
              <a:t>清洁能源</a:t>
            </a:r>
            <a:r>
              <a:rPr b="0" lang="zh-CN" sz="4400" spc="-1" strike="noStrike">
                <a:solidFill>
                  <a:srgbClr val="7dad21"/>
                </a:solidFill>
                <a:latin typeface="Calibri"/>
              </a:rPr>
              <a:t>PPT</a:t>
            </a:r>
            <a:r>
              <a:rPr b="0" lang="fr-FR" sz="4400" spc="-1" strike="noStrike">
                <a:solidFill>
                  <a:srgbClr val="7dad21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53480" y="6597720"/>
            <a:ext cx="1155600" cy="17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28560" y="1600200"/>
            <a:ext cx="625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890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2:33:48Z</dcterms:created>
  <dc:creator>Admin</dc:creator>
  <dc:description/>
  <dc:language>en-US</dc:language>
  <cp:lastModifiedBy>Admin</cp:lastModifiedBy>
  <dcterms:modified xsi:type="dcterms:W3CDTF">2015-01-08T12:58:17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