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C4B-1F05-4C33-BB61-590AA3F2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8AE-E5D7-4DE2-A3BF-6ED6DDD7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07B-5329-4E3A-AF8A-942627C3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2AC-4184-4206-A771-F728B97C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A47C-FE96-433E-A0CD-02DFEF9B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3D2F-7655-4085-8350-A571E056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835E-1F5D-4DF9-BD6F-90019F82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C4DA-30F1-4F33-85A1-579B0F6D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226B-5774-43EB-BD2B-3BC28FE9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45600"/>
            <a:ext cx="8229600" cy="43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BF77-6B8F-4C16-BB41-6AD3C20E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8226-70F8-4B15-B612-9ED7447C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8901-3D86-4E43-A189-8E78ED53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59D6-D6E0-4694-A059-2374E88E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0C27-7A81-4DA5-8419-F6A9136C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09A4-353E-4C31-BF38-7602981A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3A70-2608-484B-BD77-AB4B8F0D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82240"/>
            <a:ext cx="264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CF2C-7408-41FB-829D-E8ECF2C56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ACA-7CC9-40E4-B702-E6641ADD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CED-D5B8-4890-A738-7CE94BF3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87B-E52A-4B63-BDB0-5E9E76C6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45600"/>
            <a:ext cx="8229600" cy="43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BCF-C96B-4A82-AAB7-5CF9A781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34E-DA40-4A22-A68B-40C0FBEC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822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0B2-3E46-4413-A669-0B6C268B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82240"/>
            <a:ext cx="822960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CAA-FD28-4A50-9FF3-45D34E37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鱼不愚\桌面\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汉仪秀英体简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DAA3-E62B-42C0-A6EE-B8CB8198A2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鱼不愚\桌面\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鱼不愚\桌面\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汉仪秀英体简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0C47-BCF1-4FB8-A98C-DDEAAD9246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14840" y="774360"/>
            <a:ext cx="1928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汉仪秀英体简"/>
              </a:rPr>
              <a:t>目  录</a:t>
            </a:r>
            <a:endParaRPr b="0" lang="en-US" sz="4400" spc="-1" strike="noStrike">
              <a:solidFill>
                <a:srgbClr val="006600"/>
              </a:solidFill>
              <a:latin typeface="汉仪秀英体简"/>
            </a:endParaRPr>
          </a:p>
        </p:txBody>
      </p:sp>
      <p:sp>
        <p:nvSpPr>
          <p:cNvPr id="87" name="圆角矩形 19"/>
          <p:cNvSpPr/>
          <p:nvPr/>
        </p:nvSpPr>
        <p:spPr>
          <a:xfrm>
            <a:off x="2571840" y="1906560"/>
            <a:ext cx="4929120" cy="741240"/>
          </a:xfrm>
          <a:prstGeom prst="roundRect">
            <a:avLst>
              <a:gd name="adj" fmla="val 20787"/>
            </a:avLst>
          </a:prstGeom>
          <a:noFill/>
          <a:ln w="38160">
            <a:solidFill>
              <a:srgbClr val="009900"/>
            </a:solidFill>
            <a:miter/>
          </a:ln>
          <a:effectLst>
            <a:outerShdw dist="38183" dir="2700000" blurRad="0" rotWithShape="0">
              <a:srgbClr val="000000">
                <a:alpha val="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071800" y="1741320"/>
            <a:ext cx="1041120" cy="1116360"/>
            <a:chOff x="2071800" y="1741320"/>
            <a:chExt cx="1041120" cy="1116360"/>
          </a:xfrm>
        </p:grpSpPr>
        <p:pic>
          <p:nvPicPr>
            <p:cNvPr id="89" name="Picture 3" descr="C:\Documents and Settings\鱼不愚\桌面\000.png"/>
            <p:cNvPicPr/>
            <p:nvPr/>
          </p:nvPicPr>
          <p:blipFill>
            <a:blip r:embed="rId1"/>
            <a:stretch/>
          </p:blipFill>
          <p:spPr>
            <a:xfrm>
              <a:off x="2071800" y="1741320"/>
              <a:ext cx="1001160" cy="11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10"/>
            <p:cNvSpPr/>
            <p:nvPr/>
          </p:nvSpPr>
          <p:spPr>
            <a:xfrm>
              <a:off x="2184480" y="1865160"/>
              <a:ext cx="92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2f2f2"/>
                  </a:solidFill>
                  <a:latin typeface="Dutch801 XBd BT"/>
                  <a:ea typeface="方正超粗黑简体"/>
                </a:rPr>
                <a:t>0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21"/>
          <p:cNvSpPr/>
          <p:nvPr/>
        </p:nvSpPr>
        <p:spPr>
          <a:xfrm>
            <a:off x="3071880" y="201600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071800" y="3129120"/>
            <a:ext cx="5429160" cy="1116000"/>
            <a:chOff x="2071800" y="3129120"/>
            <a:chExt cx="5429160" cy="1116000"/>
          </a:xfrm>
        </p:grpSpPr>
        <p:grpSp>
          <p:nvGrpSpPr>
            <p:cNvPr id="93" name=""/>
            <p:cNvGrpSpPr/>
            <p:nvPr/>
          </p:nvGrpSpPr>
          <p:grpSpPr>
            <a:xfrm>
              <a:off x="2071800" y="3129120"/>
              <a:ext cx="5429160" cy="1116000"/>
              <a:chOff x="2071800" y="3129120"/>
              <a:chExt cx="5429160" cy="1116000"/>
            </a:xfrm>
          </p:grpSpPr>
          <p:sp>
            <p:nvSpPr>
              <p:cNvPr id="94" name="圆角矩形 26"/>
              <p:cNvSpPr/>
              <p:nvPr/>
            </p:nvSpPr>
            <p:spPr>
              <a:xfrm>
                <a:off x="2571840" y="3294000"/>
                <a:ext cx="4929120" cy="741240"/>
              </a:xfrm>
              <a:prstGeom prst="roundRect">
                <a:avLst>
                  <a:gd name="adj" fmla="val 20787"/>
                </a:avLst>
              </a:prstGeom>
              <a:noFill/>
              <a:ln w="38160">
                <a:solidFill>
                  <a:srgbClr val="009900"/>
                </a:solidFill>
                <a:miter/>
              </a:ln>
              <a:effectLst>
                <a:outerShdw dist="38183" dir="2700000" blurRad="0" rotWithShape="0">
                  <a:srgbClr val="000000">
                    <a:alpha val="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2071800" y="3129120"/>
                <a:ext cx="1041120" cy="1116000"/>
                <a:chOff x="2071800" y="3129120"/>
                <a:chExt cx="1041120" cy="1116000"/>
              </a:xfrm>
            </p:grpSpPr>
            <p:pic>
              <p:nvPicPr>
                <p:cNvPr id="96" name="Picture 3" descr="C:\Documents and Settings\鱼不愚\桌面\000.png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71800" y="3129120"/>
                  <a:ext cx="1000800" cy="111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TextBox 29"/>
                <p:cNvSpPr/>
                <p:nvPr/>
              </p:nvSpPr>
              <p:spPr>
                <a:xfrm>
                  <a:off x="2184480" y="3252960"/>
                  <a:ext cx="928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2f2f2"/>
                      </a:solidFill>
                      <a:latin typeface="Dutch801 XBd BT"/>
                      <a:ea typeface="方正超粗黑简体"/>
                    </a:rPr>
                    <a:t>0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" name="TextBox 25"/>
            <p:cNvSpPr/>
            <p:nvPr/>
          </p:nvSpPr>
          <p:spPr>
            <a:xfrm>
              <a:off x="3071880" y="3402360"/>
              <a:ext cx="400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目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071800" y="4484520"/>
            <a:ext cx="5429160" cy="1116360"/>
            <a:chOff x="2071800" y="4484520"/>
            <a:chExt cx="5429160" cy="1116360"/>
          </a:xfrm>
        </p:grpSpPr>
        <p:grpSp>
          <p:nvGrpSpPr>
            <p:cNvPr id="100" name=""/>
            <p:cNvGrpSpPr/>
            <p:nvPr/>
          </p:nvGrpSpPr>
          <p:grpSpPr>
            <a:xfrm>
              <a:off x="2071800" y="4484520"/>
              <a:ext cx="5429160" cy="1116360"/>
              <a:chOff x="2071800" y="4484520"/>
              <a:chExt cx="5429160" cy="1116360"/>
            </a:xfrm>
          </p:grpSpPr>
          <p:sp>
            <p:nvSpPr>
              <p:cNvPr id="101" name="圆角矩形 33"/>
              <p:cNvSpPr/>
              <p:nvPr/>
            </p:nvSpPr>
            <p:spPr>
              <a:xfrm>
                <a:off x="2571840" y="4649400"/>
                <a:ext cx="4929120" cy="741600"/>
              </a:xfrm>
              <a:prstGeom prst="roundRect">
                <a:avLst>
                  <a:gd name="adj" fmla="val 20787"/>
                </a:avLst>
              </a:prstGeom>
              <a:noFill/>
              <a:ln w="38160">
                <a:solidFill>
                  <a:srgbClr val="009900"/>
                </a:solidFill>
                <a:miter/>
              </a:ln>
              <a:effectLst>
                <a:outerShdw dist="38183" dir="2700000" blurRad="0" rotWithShape="0">
                  <a:srgbClr val="000000">
                    <a:alpha val="3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2071800" y="4484520"/>
                <a:ext cx="1041120" cy="1116360"/>
                <a:chOff x="2071800" y="4484520"/>
                <a:chExt cx="1041120" cy="1116360"/>
              </a:xfrm>
            </p:grpSpPr>
            <p:pic>
              <p:nvPicPr>
                <p:cNvPr id="103" name="Picture 3" descr="C:\Documents and Settings\鱼不愚\桌面\000.png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071800" y="4484520"/>
                  <a:ext cx="1000800" cy="111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" name="TextBox 36"/>
                <p:cNvSpPr/>
                <p:nvPr/>
              </p:nvSpPr>
              <p:spPr>
                <a:xfrm>
                  <a:off x="2184480" y="4608360"/>
                  <a:ext cx="928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2f2f2"/>
                      </a:solidFill>
                      <a:latin typeface="Dutch801 XBd BT"/>
                      <a:ea typeface="方正超粗黑简体"/>
                    </a:rPr>
                    <a:t>03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TextBox 32"/>
            <p:cNvSpPr/>
            <p:nvPr/>
          </p:nvSpPr>
          <p:spPr>
            <a:xfrm>
              <a:off x="3071880" y="4757760"/>
              <a:ext cx="400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本目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16:47:59Z</dcterms:created>
  <dc:creator/>
  <dc:description/>
  <dc:language>en-US</dc:language>
  <cp:lastModifiedBy>king</cp:lastModifiedBy>
  <dcterms:modified xsi:type="dcterms:W3CDTF">2015-01-08T08:22:08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