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8D6C-CA8C-4A52-9243-907E2FEB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624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362320" y="3507480"/>
            <a:ext cx="624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D5DBE-9060-477F-A091-3FB3A880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64160" y="167652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362320" y="350748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64160" y="350748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5A2B1-CC32-4B5C-A9A7-3061DE07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201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74800" y="1676520"/>
            <a:ext cx="201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87640" y="1676520"/>
            <a:ext cx="201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362320" y="3507480"/>
            <a:ext cx="201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474800" y="3507480"/>
            <a:ext cx="201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87640" y="3507480"/>
            <a:ext cx="201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B9F33-3A2E-4718-A3DC-7FC53875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F560-C388-46D2-A738-8FCE6729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362320" y="1676520"/>
            <a:ext cx="62481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F4C2-E0E0-4F69-A2B4-5579BA7A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6248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58AC-67C7-4082-830D-4BB24C8A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30488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64160" y="1676520"/>
            <a:ext cx="30488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98D0-7773-4650-8ACD-EB395090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2EC7-E989-4EC5-A445-587D6B4E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362320" y="533160"/>
            <a:ext cx="6248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F157-2361-4EAB-8903-8C31F32C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64160" y="1676520"/>
            <a:ext cx="30488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362320" y="350748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34E7-E40A-46DF-A893-41CD1221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362320" y="1676520"/>
            <a:ext cx="62481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AF154-9D14-4704-BB27-3D4A2EDC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30488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64160" y="167652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64160" y="350748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3F4C-0227-4E8B-913F-425C9697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4160" y="167652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2320" y="3507480"/>
            <a:ext cx="624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5406-AF40-4B89-BC25-B5214B42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624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62320" y="3507480"/>
            <a:ext cx="624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6CEB-3C7C-4C12-BB41-83276AAA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564160" y="167652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362320" y="350748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564160" y="350748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5C6B-071B-462F-AFD7-7353BB5B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201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74800" y="1676520"/>
            <a:ext cx="201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87640" y="1676520"/>
            <a:ext cx="201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362320" y="3507480"/>
            <a:ext cx="201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474800" y="3507480"/>
            <a:ext cx="201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87640" y="3507480"/>
            <a:ext cx="201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160E-917C-474C-A3B9-6214E914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6248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3B228-96D9-47E9-AF35-5A8506DA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30488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64160" y="1676520"/>
            <a:ext cx="30488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F5BF2-ACCF-448E-984A-5937A61E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2FA24-E21E-41A6-AA31-D948F875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362320" y="533160"/>
            <a:ext cx="6248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A4C73-13E8-4117-8F02-9290007A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64160" y="1676520"/>
            <a:ext cx="30488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362320" y="350748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CB0D9-B57F-4941-BB91-0F7569C5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30488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64160" y="167652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64160" y="350748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9E209-36CF-4CBB-BC22-29CB031C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4160" y="167652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2320" y="3507480"/>
            <a:ext cx="624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07C71-825F-41D7-89F6-67BE0374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511440"/>
            <a:ext cx="9144000" cy="3346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362320" y="1676520"/>
            <a:ext cx="6248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99ff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99ff"/>
                </a:solidFill>
                <a:latin typeface="Verdana"/>
              </a:rPr>
              <a:t>Second Outline Level</a:t>
            </a: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99ff"/>
                </a:solidFill>
                <a:latin typeface="Verdana"/>
              </a:rPr>
              <a:t>Third Outline Level</a:t>
            </a: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99ff"/>
                </a:solidFill>
                <a:latin typeface="Verdana"/>
              </a:rPr>
              <a:t>Fourth Outline Level</a:t>
            </a: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99ff"/>
                </a:solidFill>
                <a:latin typeface="Verdana"/>
              </a:rPr>
              <a:t>Fifth Outline Level</a:t>
            </a: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99ff"/>
                </a:solidFill>
                <a:latin typeface="Verdana"/>
              </a:rPr>
              <a:t>Sixth Outline Level</a:t>
            </a: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99ff"/>
                </a:solidFill>
                <a:latin typeface="Verdana"/>
              </a:rPr>
              <a:t>Seventh Outline Level</a:t>
            </a: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014560"/>
            <a:ext cx="2135160" cy="484344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6699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46960"/>
            <a:ext cx="9144000" cy="311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2652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7EF5-4A44-444D-ACB9-266D9B7F76AB}" type="slidenum">
              <a:rPr b="0" lang="ko-KR" sz="1200" spc="-1" strike="noStrike">
                <a:solidFill>
                  <a:srgbClr val="ffffff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59432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365040"/>
            <a:ext cx="1122480" cy="112248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04640" y="70956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HY견고딕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168320" y="6232680"/>
            <a:ext cx="148572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  <a:ea typeface="HY견고딕"/>
              </a:rPr>
              <a:t>YOUR SITE HER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A579-FEFC-402F-B618-B8B50472AEC6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Verdana"/>
              </a:rPr>
              <a:t>Click to edit the outline text format</a:t>
            </a:r>
            <a:endParaRPr b="1" lang="en-US" sz="2200" spc="-1" strike="noStrike">
              <a:solidFill>
                <a:srgbClr val="6699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191120"/>
            <a:ext cx="9144000" cy="53316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蓝色经典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038480"/>
            <a:ext cx="9144000" cy="7632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800600"/>
            <a:ext cx="9144000" cy="7632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3526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6248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Verdana"/>
                <a:ea typeface="Gulim"/>
              </a:rPr>
              <a:t>Competitors </a:t>
            </a:r>
            <a:endParaRPr b="1" lang="en-US" sz="2000" spc="-1" strike="noStrike">
              <a:solidFill>
                <a:srgbClr val="6699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You may want to allocate one slide per competitor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Strengths</a:t>
            </a:r>
            <a:r>
              <a:rPr b="1" lang="en-US" sz="2000" spc="-1" strike="noStrike">
                <a:solidFill>
                  <a:srgbClr val="6699ff"/>
                </a:solidFill>
                <a:latin typeface="Verdana"/>
                <a:ea typeface="Gulim"/>
              </a:rPr>
              <a:t> </a:t>
            </a:r>
            <a:endParaRPr b="1" lang="en-US" sz="2000" spc="-1" strike="noStrike">
              <a:solidFill>
                <a:srgbClr val="6699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Your strengths relative to competitor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Verdana"/>
                <a:ea typeface="Gulim"/>
              </a:rPr>
              <a:t>Weaknesses</a:t>
            </a:r>
            <a:endParaRPr b="1" lang="en-US" sz="2000" spc="-1" strike="noStrike">
              <a:solidFill>
                <a:srgbClr val="6699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Your weaknesses relative to competitor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752480" y="2057400"/>
            <a:ext cx="5648400" cy="644400"/>
            <a:chOff x="1752480" y="2057400"/>
            <a:chExt cx="5648400" cy="644400"/>
          </a:xfrm>
        </p:grpSpPr>
        <p:sp>
          <p:nvSpPr>
            <p:cNvPr id="99" name=""/>
            <p:cNvSpPr/>
            <p:nvPr/>
          </p:nvSpPr>
          <p:spPr>
            <a:xfrm>
              <a:off x="1752480" y="2057400"/>
              <a:ext cx="5648400" cy="644400"/>
            </a:xfrm>
            <a:custGeom>
              <a:avLst/>
              <a:gdLst>
                <a:gd name="textAreaLeft" fmla="*/ 75960 w 5648400"/>
                <a:gd name="textAreaRight" fmla="*/ 5572440 w 564840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8923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5638" y="21600"/>
                  </a:lnTo>
                  <a:arcTo wR="3600" hR="3600" stAng="10800000" swAng="5400000"/>
                  <a:lnTo>
                    <a:pt x="18923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50000">
                  <a:srgbClr val="6699f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17520" y="2178000"/>
              <a:ext cx="4910400" cy="4190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1. Introdu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752480" y="2895480"/>
            <a:ext cx="5648400" cy="644400"/>
            <a:chOff x="1752480" y="2895480"/>
            <a:chExt cx="5648400" cy="644400"/>
          </a:xfrm>
        </p:grpSpPr>
        <p:sp>
          <p:nvSpPr>
            <p:cNvPr id="102" name=""/>
            <p:cNvSpPr/>
            <p:nvPr/>
          </p:nvSpPr>
          <p:spPr>
            <a:xfrm>
              <a:off x="1752480" y="2895480"/>
              <a:ext cx="5648400" cy="644400"/>
            </a:xfrm>
            <a:custGeom>
              <a:avLst/>
              <a:gdLst>
                <a:gd name="textAreaLeft" fmla="*/ 75960 w 5648400"/>
                <a:gd name="textAreaRight" fmla="*/ 5572440 w 564840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8923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5638" y="21600"/>
                  </a:lnTo>
                  <a:arcTo wR="3600" hR="3600" stAng="10800000" swAng="5400000"/>
                  <a:lnTo>
                    <a:pt x="18923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50000">
                  <a:srgbClr val="6699f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17520" y="3016080"/>
              <a:ext cx="4910400" cy="4190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2. Strateg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752480" y="3733920"/>
            <a:ext cx="5648400" cy="644400"/>
            <a:chOff x="1752480" y="3733920"/>
            <a:chExt cx="5648400" cy="644400"/>
          </a:xfrm>
        </p:grpSpPr>
        <p:sp>
          <p:nvSpPr>
            <p:cNvPr id="105" name=""/>
            <p:cNvSpPr/>
            <p:nvPr/>
          </p:nvSpPr>
          <p:spPr>
            <a:xfrm>
              <a:off x="1752480" y="3733920"/>
              <a:ext cx="5648400" cy="644400"/>
            </a:xfrm>
            <a:custGeom>
              <a:avLst/>
              <a:gdLst>
                <a:gd name="textAreaLeft" fmla="*/ 75960 w 5648400"/>
                <a:gd name="textAreaRight" fmla="*/ 5572440 w 564840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8923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5638" y="21600"/>
                  </a:lnTo>
                  <a:arcTo wR="3600" hR="3600" stAng="10800000" swAng="5400000"/>
                  <a:lnTo>
                    <a:pt x="18923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50000">
                  <a:srgbClr val="6699f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17520" y="3854520"/>
              <a:ext cx="4910400" cy="4190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3. Challenges forwar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752480" y="4572000"/>
            <a:ext cx="5648400" cy="644400"/>
            <a:chOff x="1752480" y="4572000"/>
            <a:chExt cx="5648400" cy="644400"/>
          </a:xfrm>
        </p:grpSpPr>
        <p:sp>
          <p:nvSpPr>
            <p:cNvPr id="108" name=""/>
            <p:cNvSpPr/>
            <p:nvPr/>
          </p:nvSpPr>
          <p:spPr>
            <a:xfrm>
              <a:off x="1752480" y="4572000"/>
              <a:ext cx="5648400" cy="644400"/>
            </a:xfrm>
            <a:custGeom>
              <a:avLst/>
              <a:gdLst>
                <a:gd name="textAreaLeft" fmla="*/ 75960 w 5648400"/>
                <a:gd name="textAreaRight" fmla="*/ 5572440 w 564840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8923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5638" y="21600"/>
                  </a:lnTo>
                  <a:arcTo wR="3600" hR="3600" stAng="10800000" swAng="5400000"/>
                  <a:lnTo>
                    <a:pt x="18923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50000">
                  <a:srgbClr val="6699f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17520" y="4692600"/>
              <a:ext cx="4910400" cy="4190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4. Conclu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One Column Document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1049400" y="1782720"/>
            <a:ext cx="7047000" cy="348768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22560" y="2475000"/>
            <a:ext cx="5843520" cy="26589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0574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35812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1.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97680" y="64771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Two Column Document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2286000"/>
            <a:ext cx="7618320" cy="133812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51080" y="2405160"/>
            <a:ext cx="6016680" cy="1096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3160" y="232236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1.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809880"/>
            <a:ext cx="7618320" cy="133848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51080" y="3929040"/>
            <a:ext cx="6016680" cy="1096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3160" y="384660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.TW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1752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Three Column Document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5813280" y="3573360"/>
            <a:ext cx="319320" cy="490680"/>
          </a:xfrm>
          <a:prstGeom prst="rightArrow">
            <a:avLst>
              <a:gd name="adj1" fmla="val 45981"/>
              <a:gd name="adj2" fmla="val 46296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36960" y="3573360"/>
            <a:ext cx="318960" cy="490680"/>
          </a:xfrm>
          <a:prstGeom prst="rightArrow">
            <a:avLst>
              <a:gd name="adj1" fmla="val 45981"/>
              <a:gd name="adj2" fmla="val 46296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65280" y="2341440"/>
            <a:ext cx="2241360" cy="2994120"/>
            <a:chOff x="665280" y="2341440"/>
            <a:chExt cx="2241360" cy="2994120"/>
          </a:xfrm>
        </p:grpSpPr>
        <p:sp>
          <p:nvSpPr>
            <p:cNvPr id="128" name=""/>
            <p:cNvSpPr/>
            <p:nvPr/>
          </p:nvSpPr>
          <p:spPr>
            <a:xfrm>
              <a:off x="665280" y="2341440"/>
              <a:ext cx="2241360" cy="2994120"/>
            </a:xfrm>
            <a:custGeom>
              <a:avLst/>
              <a:gdLst>
                <a:gd name="textAreaLeft" fmla="*/ 109080 w 2241360"/>
                <a:gd name="textAreaRight" fmla="*/ 2132280 w 2241360"/>
                <a:gd name="textAreaTop" fmla="*/ 109080 h 2994120"/>
                <a:gd name="textAreaBottom" fmla="*/ 2885040 h 299412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7320" y="2828880"/>
              <a:ext cx="1996560" cy="2390760"/>
            </a:xfrm>
            <a:custGeom>
              <a:avLst/>
              <a:gdLst>
                <a:gd name="textAreaLeft" fmla="*/ 97200 w 1996560"/>
                <a:gd name="textAreaRight" fmla="*/ 1899360 w 1996560"/>
                <a:gd name="textAreaTop" fmla="*/ 97200 h 2390760"/>
                <a:gd name="textAreaBottom" fmla="*/ 2293560 h 2390760"/>
              </a:gdLst>
              <a:ahLst/>
              <a:rect l="textAreaLeft" t="textAreaTop" r="textAreaRight" b="textAreaBottom"/>
              <a:pathLst>
                <a:path w="21600" h="25864">
                  <a:moveTo>
                    <a:pt x="3600" y="0"/>
                  </a:moveTo>
                  <a:arcTo wR="3600" hR="3600" stAng="16200000" swAng="-5400000"/>
                  <a:lnTo>
                    <a:pt x="0" y="22264"/>
                  </a:lnTo>
                  <a:arcTo wR="3600" hR="3600" stAng="10800000" swAng="-5400000"/>
                  <a:lnTo>
                    <a:pt x="18000" y="258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1760" y="2438280"/>
              <a:ext cx="2057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1.O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436920" y="2347920"/>
            <a:ext cx="2241720" cy="2994120"/>
            <a:chOff x="3436920" y="2347920"/>
            <a:chExt cx="2241720" cy="2994120"/>
          </a:xfrm>
        </p:grpSpPr>
        <p:sp>
          <p:nvSpPr>
            <p:cNvPr id="132" name=""/>
            <p:cNvSpPr/>
            <p:nvPr/>
          </p:nvSpPr>
          <p:spPr>
            <a:xfrm>
              <a:off x="3436920" y="2347920"/>
              <a:ext cx="2241720" cy="2994120"/>
            </a:xfrm>
            <a:custGeom>
              <a:avLst/>
              <a:gdLst>
                <a:gd name="textAreaLeft" fmla="*/ 109440 w 2241720"/>
                <a:gd name="textAreaRight" fmla="*/ 2132280 w 2241720"/>
                <a:gd name="textAreaTop" fmla="*/ 109440 h 2994120"/>
                <a:gd name="textAreaBottom" fmla="*/ 2884680 h 29941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59320" y="2835360"/>
              <a:ext cx="1996920" cy="2390760"/>
            </a:xfrm>
            <a:custGeom>
              <a:avLst/>
              <a:gdLst>
                <a:gd name="textAreaLeft" fmla="*/ 97200 w 1996920"/>
                <a:gd name="textAreaRight" fmla="*/ 1899720 w 1996920"/>
                <a:gd name="textAreaTop" fmla="*/ 97200 h 2390760"/>
                <a:gd name="textAreaBottom" fmla="*/ 2293560 h 2390760"/>
              </a:gdLst>
              <a:ahLst/>
              <a:rect l="textAreaLeft" t="textAreaTop" r="textAreaRight" b="textAreaBottom"/>
              <a:pathLst>
                <a:path w="21600" h="25859">
                  <a:moveTo>
                    <a:pt x="3600" y="0"/>
                  </a:moveTo>
                  <a:arcTo wR="3600" hR="3600" stAng="16200000" swAng="-5400000"/>
                  <a:lnTo>
                    <a:pt x="0" y="22259"/>
                  </a:lnTo>
                  <a:arcTo wR="3600" hR="3600" stAng="10800000" swAng="-5400000"/>
                  <a:lnTo>
                    <a:pt x="18000" y="258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05320" y="2438280"/>
              <a:ext cx="2057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2.TW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248520" y="2347920"/>
            <a:ext cx="2241360" cy="2994120"/>
            <a:chOff x="6248520" y="2347920"/>
            <a:chExt cx="2241360" cy="2994120"/>
          </a:xfrm>
        </p:grpSpPr>
        <p:sp>
          <p:nvSpPr>
            <p:cNvPr id="136" name=""/>
            <p:cNvSpPr/>
            <p:nvPr/>
          </p:nvSpPr>
          <p:spPr>
            <a:xfrm>
              <a:off x="6248520" y="2347920"/>
              <a:ext cx="2241360" cy="2994120"/>
            </a:xfrm>
            <a:custGeom>
              <a:avLst/>
              <a:gdLst>
                <a:gd name="textAreaLeft" fmla="*/ 109080 w 2241360"/>
                <a:gd name="textAreaRight" fmla="*/ 2132280 w 2241360"/>
                <a:gd name="textAreaTop" fmla="*/ 109080 h 2994120"/>
                <a:gd name="textAreaBottom" fmla="*/ 2885040 h 299412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00440" y="2819520"/>
              <a:ext cx="1996920" cy="2390760"/>
            </a:xfrm>
            <a:custGeom>
              <a:avLst/>
              <a:gdLst>
                <a:gd name="textAreaLeft" fmla="*/ 97200 w 1996920"/>
                <a:gd name="textAreaRight" fmla="*/ 1899720 w 1996920"/>
                <a:gd name="textAreaTop" fmla="*/ 97200 h 2390760"/>
                <a:gd name="textAreaBottom" fmla="*/ 2293560 h 2390760"/>
              </a:gdLst>
              <a:ahLst/>
              <a:rect l="textAreaLeft" t="textAreaTop" r="textAreaRight" b="textAreaBottom"/>
              <a:pathLst>
                <a:path w="21600" h="25859">
                  <a:moveTo>
                    <a:pt x="3600" y="0"/>
                  </a:moveTo>
                  <a:arcTo wR="3600" hR="3600" stAng="16200000" swAng="-5400000"/>
                  <a:lnTo>
                    <a:pt x="0" y="22259"/>
                  </a:lnTo>
                  <a:arcTo wR="3600" hR="3600" stAng="10800000" swAng="-5400000"/>
                  <a:lnTo>
                    <a:pt x="18000" y="258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24480" y="2438280"/>
              <a:ext cx="2057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3.THRE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362320" y="18288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97680" y="6553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hart Document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133720" y="1676520"/>
            <a:ext cx="6248160" cy="4514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745640" y="58672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66ff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6699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99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endParaRPr b="1" lang="en-US" sz="1600" spc="-1" strike="noStrike">
              <a:solidFill>
                <a:srgbClr val="6699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99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6699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6699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99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6699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6699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6699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6699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99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1" lang="en-US" sz="1600" spc="-1" strike="noStrike">
              <a:solidFill>
                <a:srgbClr val="6699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1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1" lang="en-US" sz="1600" spc="-1" strike="noStrike">
              <a:solidFill>
                <a:srgbClr val="6699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1" lang="en-US" sz="1600" spc="-1" strike="noStrike">
              <a:solidFill>
                <a:srgbClr val="6699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1" lang="en-US" sz="1600" spc="-1" strike="noStrike">
              <a:solidFill>
                <a:srgbClr val="6699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99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/>
  <dc:description/>
  <dc:language>en-US</dc:language>
  <cp:lastModifiedBy>황정남</cp:lastModifiedBy>
  <dcterms:modified xsi:type="dcterms:W3CDTF">2015-01-08T03:27:12Z</dcterms:modified>
  <cp:revision>6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AdHocReviewCycleID">
    <vt:r8>1344399779</vt:r8>
  </property>
  <property fmtid="{D5CDD505-2E9C-101B-9397-08002B2CF9AE}" pid="4" name="_AuthorEmail">
    <vt:lpwstr>support@themegallery.co.kr</vt:lpwstr>
  </property>
  <property fmtid="{D5CDD505-2E9C-101B-9397-08002B2CF9AE}" pid="5" name="_AuthorEmailDisplayName">
    <vt:lpwstr>support</vt:lpwstr>
  </property>
  <property fmtid="{D5CDD505-2E9C-101B-9397-08002B2CF9AE}" pid="6" name="_EmailSubject">
    <vt:lpwstr>救崇窍技夸 荤捞呈俊辑 颇况器牢飘 巩力肺 舅妨靛副膊 乐绢辑 皋老焊忱聪促.</vt:lpwstr>
  </property>
  <property fmtid="{D5CDD505-2E9C-101B-9397-08002B2CF9AE}" pid="7" name="_PreviousAdHocReviewCycleID">
    <vt:r8>-338095602</vt:r8>
  </property>
  <property fmtid="{D5CDD505-2E9C-101B-9397-08002B2CF9AE}" pid="8" name="_ReviewingToolsShownOnce">
    <vt:lpwstr/>
  </property>
</Properties>
</file>