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A4B-36F0-430D-BDC4-8367C338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6D-8889-4E5C-8C58-C71CA877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F58-7CE3-4BE6-9DC6-C4E9CAEA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566-0E31-4CCD-977C-5142A331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D89-E11A-4506-BC75-BBA1FF2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FD2-7EB6-4E6D-BC16-D29C1403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B5F-292B-4AD4-A150-5FCBBB8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B30-0122-4A5D-8113-3952615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B36-82AC-485E-A31B-3140995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28A-FB0C-4D28-B25E-1827EFD4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243-9DDB-494A-8DFF-C3CEDD5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2F4-5749-4226-BF1B-D91C821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B535-1B29-4329-B6FD-32973B7F1DD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55120"/>
            <a:ext cx="777240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9966"/>
                </a:solidFill>
                <a:latin typeface="Calibri"/>
              </a:rPr>
              <a:t>绿色家园</a:t>
            </a:r>
            <a:r>
              <a:rPr b="0" lang="zh-CN" sz="3600" spc="-1" strike="noStrike">
                <a:solidFill>
                  <a:srgbClr val="339966"/>
                </a:solidFill>
                <a:latin typeface="Calibri"/>
                <a:ea typeface="宋体"/>
              </a:rPr>
              <a:t>PPT</a:t>
            </a:r>
            <a:r>
              <a:rPr b="0" lang="fr-FR" sz="3600" spc="-1" strike="noStrike">
                <a:solidFill>
                  <a:srgbClr val="339966"/>
                </a:solidFill>
                <a:latin typeface="Calibri"/>
              </a:rPr>
              <a:t>演示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665840" y="480384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93840" y="47322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206280"/>
            <a:ext cx="6202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84000" y="1200240"/>
            <a:ext cx="6202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5768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7:00:45Z</dcterms:created>
  <dc:creator/>
  <dc:description/>
  <dc:language>en-US</dc:language>
  <cp:lastModifiedBy>Ric6000</cp:lastModifiedBy>
  <dcterms:modified xsi:type="dcterms:W3CDTF">2015-01-08T12:57:1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