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12360" y="35254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31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9184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7168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1236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9184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7168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31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12360" y="35254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31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9184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71680" y="12682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1236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9184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71680" y="3525480"/>
            <a:ext cx="2551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4360" y="189000"/>
            <a:ext cx="77724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3160" y="35254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268280"/>
            <a:ext cx="386712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2360" y="3525480"/>
            <a:ext cx="7924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蓝色简约色块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7240" y="645336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360" y="1268280"/>
            <a:ext cx="792468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85200" y="5518080"/>
            <a:ext cx="44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08:25:25Z</dcterms:created>
  <dc:creator>FiSh</dc:creator>
  <dc:description/>
  <dc:language>en-US</dc:language>
  <cp:lastModifiedBy>FiSh</cp:lastModifiedBy>
  <dcterms:modified xsi:type="dcterms:W3CDTF">2015-01-07T09:25:14Z</dcterms:modified>
  <cp:revision>1</cp:revision>
  <dc:subject/>
  <dc:title>Welco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