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C7FF-D15F-4E3D-AAC6-ADE749235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928E-F1E2-4739-982C-0425CCF6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FE1D-0A86-4A35-AEFA-FC6E5F1EE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EC18-0623-4400-88CB-319FFB8EE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3C73-0443-4F8E-8A80-C3B983F4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8B2F-5A2A-4D22-B52F-66CBF694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06D8-1E17-4B93-97B9-9DAA2AC4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1EF5-283D-4EA5-AE32-02535296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418A-AB16-4D68-B3A1-C94FFF95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8B67-A502-4491-A3B6-70810AA3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E531-9E11-4E70-97F9-49BA200A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7EF2-5EE6-4DFA-90C4-53CA56FD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FA0F-E782-49EC-9EC9-638BBA955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蓝色简约商务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43" name=""/>
          <p:cNvSpPr/>
          <p:nvPr/>
        </p:nvSpPr>
        <p:spPr>
          <a:xfrm>
            <a:off x="25920" y="645336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62600" y="609300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ccff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9T07:40:44Z</dcterms:created>
  <dc:creator>FiSh</dc:creator>
  <dc:description/>
  <dc:language>en-US</dc:language>
  <cp:lastModifiedBy>FiSh</cp:lastModifiedBy>
  <dcterms:modified xsi:type="dcterms:W3CDTF">2015-01-07T09:23:16Z</dcterms:modified>
  <cp:revision>1</cp:revision>
  <dc:subject/>
  <dc:title>Company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