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2C8-B117-495E-8BD4-A28F9A67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2E51-F99B-40CC-B301-B4980E7A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6BF6-CFE2-4888-B82C-68042ABB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75A-9A55-4762-87D5-BEEF71B5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D484-8431-440D-BE8F-C32B8205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781C-A781-4FE2-93CE-010AF6A3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BD32-A76A-4592-864F-13B17BC7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2023-0205-4160-AE6A-4EBCF421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315D-8ABA-4061-AEE5-E268303D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2C08-5F4C-4931-91D1-2F1E92DF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8790-128A-45FF-8457-7766F2B1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0B0-CE23-43B7-B0B4-1B547EC5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CAEB-89BE-4424-BD3D-CFC6A6B8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C4DB-B425-49C3-A63B-DD841D40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1004-0063-400D-9E03-FF562203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E146-6A5C-4E75-B2A4-E7536649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C13E-B32C-4615-8F3A-F224F1DC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C39A4-9D3E-407B-B403-6299B469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E2152-9318-4D36-8BBD-DDFB7D01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D5B45-9646-470A-B5DD-D77A4377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93720-9919-4E83-9571-6A6315E0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3EA6B-BE09-40B7-BD64-A118722D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135D-CEB1-4585-B2DB-B0812A4C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7F030-D047-4C62-AFE9-52E4C34D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D5861-7BC2-48B5-9DD5-3A617C20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8C50C-A985-4304-89A3-922FDB36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2032B-DA54-4129-8D92-C81BCEA3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D071D-120F-4CA7-9983-B8D0A821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F27F3-864B-4AC9-84C5-2D2F4654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85656-FFFF-4F10-817A-BD3FD9D1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7C2F2-A3D8-4F11-80DB-48D05B65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E2BA5-1009-4E1E-97BC-F2C7B2D1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CF349-2CB2-4AAB-9867-AC732858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C226-74F0-49B9-ACBD-F6DEF118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1138C-8C26-4B7D-B3E2-BFFA7EE2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ED702-3258-4E2A-8A68-8C05B266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1BB24-3E90-455D-96FF-6335F840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701CD-931B-481C-840F-0B5D6C82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5856E-2FB4-4565-BBA1-D942E13C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3476D-C80D-436D-879A-D2E7FF16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2B90E-E00B-42C5-B61E-5FA498B1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4F9C4-9924-49F0-808A-7CB3C838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2D939-FAD0-4071-BFEC-19FDFAE4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AC8-10B8-48F6-BD42-9AF2A53D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F1B-5E0F-4DFA-B8D9-AD23A9B7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B72-A0F1-438B-AE89-474BAC9F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173-1A42-431E-9F12-67AAA9A5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54B6-FBAF-4B0E-AE25-3CD132AC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4961-F9EA-4C17-BB17-FAF1A559F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6" name=""/>
            <p:cNvGrpSpPr/>
            <p:nvPr/>
          </p:nvGrpSpPr>
          <p:grpSpPr>
            <a:xfrm>
              <a:off x="6480" y="5340600"/>
              <a:ext cx="673200" cy="672840"/>
              <a:chOff x="6480" y="5340600"/>
              <a:chExt cx="673200" cy="672840"/>
            </a:xfrm>
          </p:grpSpPr>
          <p:sp>
            <p:nvSpPr>
              <p:cNvPr id="7" name=""/>
              <p:cNvSpPr/>
              <p:nvPr/>
            </p:nvSpPr>
            <p:spPr>
              <a:xfrm>
                <a:off x="6480" y="5340600"/>
                <a:ext cx="673200" cy="672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58760" y="5492520"/>
                <a:ext cx="100080" cy="9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540000" y="5873760"/>
              <a:ext cx="291960" cy="291960"/>
              <a:chOff x="540000" y="5873760"/>
              <a:chExt cx="291960" cy="291960"/>
            </a:xfrm>
          </p:grpSpPr>
          <p:sp>
            <p:nvSpPr>
              <p:cNvPr id="10" name=""/>
              <p:cNvSpPr/>
              <p:nvPr/>
            </p:nvSpPr>
            <p:spPr>
              <a:xfrm>
                <a:off x="540000" y="5873760"/>
                <a:ext cx="29196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06600" y="5940360"/>
                <a:ext cx="3816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131760" y="6039000"/>
              <a:ext cx="444600" cy="444600"/>
              <a:chOff x="131760" y="6039000"/>
              <a:chExt cx="444600" cy="444600"/>
            </a:xfrm>
          </p:grpSpPr>
          <p:sp>
            <p:nvSpPr>
              <p:cNvPr id="13" name=""/>
              <p:cNvSpPr/>
              <p:nvPr/>
            </p:nvSpPr>
            <p:spPr>
              <a:xfrm>
                <a:off x="131760" y="6039000"/>
                <a:ext cx="444600" cy="444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476800" y="6470640"/>
              <a:ext cx="368280" cy="368280"/>
              <a:chOff x="2476800" y="6470640"/>
              <a:chExt cx="368280" cy="368280"/>
            </a:xfrm>
          </p:grpSpPr>
          <p:sp>
            <p:nvSpPr>
              <p:cNvPr id="16" name=""/>
              <p:cNvSpPr/>
              <p:nvPr/>
            </p:nvSpPr>
            <p:spPr>
              <a:xfrm>
                <a:off x="247680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56104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6480" y="4426200"/>
              <a:ext cx="368280" cy="368280"/>
              <a:chOff x="6480" y="4426200"/>
              <a:chExt cx="368280" cy="368280"/>
            </a:xfrm>
          </p:grpSpPr>
          <p:sp>
            <p:nvSpPr>
              <p:cNvPr id="19" name=""/>
              <p:cNvSpPr/>
              <p:nvPr/>
            </p:nvSpPr>
            <p:spPr>
              <a:xfrm>
                <a:off x="6480" y="442620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90720" y="451044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22" name="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5" name="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262920" y="649152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8" name="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31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23520" y="1927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8693280" y="2521080"/>
              <a:ext cx="216000" cy="216000"/>
              <a:chOff x="8693280" y="2521080"/>
              <a:chExt cx="216000" cy="216000"/>
            </a:xfrm>
          </p:grpSpPr>
          <p:sp>
            <p:nvSpPr>
              <p:cNvPr id="34" name=""/>
              <p:cNvSpPr/>
              <p:nvPr/>
            </p:nvSpPr>
            <p:spPr>
              <a:xfrm>
                <a:off x="8693280" y="25210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744040" y="25718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7" name="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" name=""/>
            <p:cNvGrpSpPr/>
            <p:nvPr/>
          </p:nvGrpSpPr>
          <p:grpSpPr>
            <a:xfrm>
              <a:off x="1911600" y="158760"/>
              <a:ext cx="368280" cy="368280"/>
              <a:chOff x="1911600" y="158760"/>
              <a:chExt cx="368280" cy="368280"/>
            </a:xfrm>
          </p:grpSpPr>
          <p:sp>
            <p:nvSpPr>
              <p:cNvPr id="40" name=""/>
              <p:cNvSpPr/>
              <p:nvPr/>
            </p:nvSpPr>
            <p:spPr>
              <a:xfrm>
                <a:off x="191160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1995840" y="2430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6480" y="615960"/>
            <a:ext cx="9118440" cy="6222960"/>
            <a:chOff x="6480" y="615960"/>
            <a:chExt cx="9118440" cy="6222960"/>
          </a:xfrm>
        </p:grpSpPr>
        <p:grpSp>
          <p:nvGrpSpPr>
            <p:cNvPr id="79" name=""/>
            <p:cNvGrpSpPr/>
            <p:nvPr/>
          </p:nvGrpSpPr>
          <p:grpSpPr>
            <a:xfrm>
              <a:off x="6480" y="5340240"/>
              <a:ext cx="673200" cy="673200"/>
              <a:chOff x="6480" y="5340240"/>
              <a:chExt cx="673200" cy="673200"/>
            </a:xfrm>
          </p:grpSpPr>
          <p:sp>
            <p:nvSpPr>
              <p:cNvPr id="80" name=""/>
              <p:cNvSpPr/>
              <p:nvPr/>
            </p:nvSpPr>
            <p:spPr>
              <a:xfrm>
                <a:off x="6480" y="534024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58760" y="549252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540000" y="5873760"/>
              <a:ext cx="291960" cy="291960"/>
              <a:chOff x="540000" y="5873760"/>
              <a:chExt cx="291960" cy="291960"/>
            </a:xfrm>
          </p:grpSpPr>
          <p:sp>
            <p:nvSpPr>
              <p:cNvPr id="83" name=""/>
              <p:cNvSpPr/>
              <p:nvPr/>
            </p:nvSpPr>
            <p:spPr>
              <a:xfrm>
                <a:off x="540000" y="5873760"/>
                <a:ext cx="29196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6600" y="5940360"/>
                <a:ext cx="3816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151680" y="5734080"/>
              <a:ext cx="444600" cy="444600"/>
              <a:chOff x="6151680" y="5734080"/>
              <a:chExt cx="444600" cy="444600"/>
            </a:xfrm>
          </p:grpSpPr>
          <p:sp>
            <p:nvSpPr>
              <p:cNvPr id="86" name=""/>
              <p:cNvSpPr/>
              <p:nvPr/>
            </p:nvSpPr>
            <p:spPr>
              <a:xfrm>
                <a:off x="6151680" y="5734080"/>
                <a:ext cx="444600" cy="444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53200" y="583560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476800" y="6470640"/>
              <a:ext cx="368280" cy="368280"/>
              <a:chOff x="2476800" y="6470640"/>
              <a:chExt cx="368280" cy="368280"/>
            </a:xfrm>
          </p:grpSpPr>
          <p:sp>
            <p:nvSpPr>
              <p:cNvPr id="89" name=""/>
              <p:cNvSpPr/>
              <p:nvPr/>
            </p:nvSpPr>
            <p:spPr>
              <a:xfrm>
                <a:off x="247680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56104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92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720" y="45100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492880" y="615960"/>
              <a:ext cx="673200" cy="673200"/>
              <a:chOff x="5492880" y="615960"/>
              <a:chExt cx="673200" cy="673200"/>
            </a:xfrm>
          </p:grpSpPr>
          <p:sp>
            <p:nvSpPr>
              <p:cNvPr id="95" name=""/>
              <p:cNvSpPr/>
              <p:nvPr/>
            </p:nvSpPr>
            <p:spPr>
              <a:xfrm>
                <a:off x="5492880" y="6159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45160" y="7682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112000" y="920880"/>
              <a:ext cx="368280" cy="368280"/>
              <a:chOff x="5112000" y="920880"/>
              <a:chExt cx="368280" cy="368280"/>
            </a:xfrm>
          </p:grpSpPr>
          <p:sp>
            <p:nvSpPr>
              <p:cNvPr id="98" name=""/>
              <p:cNvSpPr/>
              <p:nvPr/>
            </p:nvSpPr>
            <p:spPr>
              <a:xfrm>
                <a:off x="5112000" y="9208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96240" y="100512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178680" y="615960"/>
              <a:ext cx="368280" cy="368280"/>
              <a:chOff x="6178680" y="615960"/>
              <a:chExt cx="368280" cy="368280"/>
            </a:xfrm>
          </p:grpSpPr>
          <p:sp>
            <p:nvSpPr>
              <p:cNvPr id="101" name=""/>
              <p:cNvSpPr/>
              <p:nvPr/>
            </p:nvSpPr>
            <p:spPr>
              <a:xfrm>
                <a:off x="6178680" y="6159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62920" y="7002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104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723520" y="1927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8693280" y="2521080"/>
              <a:ext cx="216000" cy="215640"/>
              <a:chOff x="8693280" y="2521080"/>
              <a:chExt cx="216000" cy="215640"/>
            </a:xfrm>
          </p:grpSpPr>
          <p:sp>
            <p:nvSpPr>
              <p:cNvPr id="107" name=""/>
              <p:cNvSpPr/>
              <p:nvPr/>
            </p:nvSpPr>
            <p:spPr>
              <a:xfrm>
                <a:off x="8693280" y="25210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744040" y="257148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225800" y="1225440"/>
              <a:ext cx="520560" cy="520560"/>
              <a:chOff x="1225800" y="1225440"/>
              <a:chExt cx="520560" cy="520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225800" y="122544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43160" y="13428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1758960" y="1378080"/>
              <a:ext cx="368280" cy="368280"/>
              <a:chOff x="1758960" y="1378080"/>
              <a:chExt cx="368280" cy="368280"/>
            </a:xfrm>
          </p:grpSpPr>
          <p:sp>
            <p:nvSpPr>
              <p:cNvPr id="113" name=""/>
              <p:cNvSpPr/>
              <p:nvPr/>
            </p:nvSpPr>
            <p:spPr>
              <a:xfrm>
                <a:off x="1758960" y="13780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843200" y="146232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8F1F-8765-4A82-BBC1-A6AA3F57D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rcRect l="0" t="75723" r="0" b="0"/>
          <a:stretch/>
        </p:blipFill>
        <p:spPr>
          <a:xfrm>
            <a:off x="0" y="0"/>
            <a:ext cx="9150480" cy="1665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3F8C-3888-48C9-8603-66F65E574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F371-13F9-4E5E-A9E3-AD27266FA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rcRect l="0" t="0" r="80669" b="0"/>
          <a:stretch/>
        </p:blipFill>
        <p:spPr>
          <a:xfrm>
            <a:off x="0" y="0"/>
            <a:ext cx="17654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Times New Roman"/>
              </a:rPr>
              <a:t>蓝色泡泡</a:t>
            </a:r>
            <a:r>
              <a:rPr b="0" lang="zh-CN" sz="4400" spc="-1" strike="noStrike">
                <a:solidFill>
                  <a:srgbClr val="080808"/>
                </a:solidFill>
                <a:latin typeface="Times New Roman"/>
              </a:rPr>
              <a:t>PPT</a:t>
            </a:r>
            <a:r>
              <a:rPr b="0" lang="zh-CN" sz="4400" spc="-1" strike="noStrike">
                <a:solidFill>
                  <a:srgbClr val="080808"/>
                </a:solidFill>
                <a:latin typeface="Times New Roman"/>
              </a:rPr>
              <a:t>模板下载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3576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14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黄华林</dc:creator>
  <dc:description/>
  <dc:language>en-US</dc:language>
  <cp:lastModifiedBy>黄华林</cp:lastModifiedBy>
  <dcterms:modified xsi:type="dcterms:W3CDTF">2015-01-07T17:19:10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