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5BDF-D095-4081-BB5C-F7C049F80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7321-699A-4867-8FF1-2ECE733C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AF3D-EFF1-4757-91FC-FF14E6234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D2A0-CD12-43BF-984A-1181D5B45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1DC7-1BCE-40E8-9BC8-07F8028D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2731-F7AD-46D4-A816-DB813569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E66C-36C1-4FDC-95C7-809B529E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A74F-3A31-4E52-90DF-74C73513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665B-8332-4735-A022-63DC2F6B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8A10-BDE5-4FAE-B870-EA8DAB7E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474F-EE34-425C-B620-2B2A680B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EABE-B0A3-4471-A771-104099F7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3E7D-839C-4B52-9B9C-BF63A42A377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9419-CA14-44D1-B574-2F1645024A6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绿水青山自然风景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7165800" y="6454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17:51:47Z</dcterms:created>
  <dc:creator>Administrator</dc:creator>
  <dc:description/>
  <dc:language>en-US</dc:language>
  <cp:lastModifiedBy>微软用户</cp:lastModifiedBy>
  <dcterms:modified xsi:type="dcterms:W3CDTF">2015-01-08T12:25:50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