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77407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03280" y="3901680"/>
            <a:ext cx="77407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69760" y="131400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03280" y="390168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69760" y="390168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24922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20480" y="1314000"/>
            <a:ext cx="24922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7680" y="1314000"/>
            <a:ext cx="24922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03280" y="3901680"/>
            <a:ext cx="24922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020480" y="3901680"/>
            <a:ext cx="24922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7680" y="3901680"/>
            <a:ext cx="24922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03280" y="1314000"/>
            <a:ext cx="77407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7740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3777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69760" y="1314000"/>
            <a:ext cx="3777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32000" y="98280"/>
            <a:ext cx="69292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69760" y="1314000"/>
            <a:ext cx="3777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03280" y="390168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03280" y="1314000"/>
            <a:ext cx="77407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3777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69760" y="131400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69760" y="390168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69760" y="131400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03280" y="3901680"/>
            <a:ext cx="77407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77407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03280" y="3901680"/>
            <a:ext cx="77407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69760" y="131400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03280" y="390168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69760" y="390168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24922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020480" y="1314000"/>
            <a:ext cx="24922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637680" y="1314000"/>
            <a:ext cx="24922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03280" y="3901680"/>
            <a:ext cx="24922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020480" y="3901680"/>
            <a:ext cx="24922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637680" y="3901680"/>
            <a:ext cx="24922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7740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3777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369760" y="1314000"/>
            <a:ext cx="3777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32000" y="98280"/>
            <a:ext cx="69292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69760" y="1314000"/>
            <a:ext cx="3777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03280" y="390168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3777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69760" y="131400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69760" y="390168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69760" y="131400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03280" y="3901680"/>
            <a:ext cx="77407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76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03280" y="1314000"/>
            <a:ext cx="7740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Text Box 33"/>
          <p:cNvSpPr/>
          <p:nvPr/>
        </p:nvSpPr>
        <p:spPr>
          <a:xfrm>
            <a:off x="6958080" y="6583320"/>
            <a:ext cx="218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HY견고딕"/>
              </a:rPr>
              <a:t>Your site 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34"/>
          <p:cNvSpPr/>
          <p:nvPr/>
        </p:nvSpPr>
        <p:spPr>
          <a:xfrm>
            <a:off x="0" y="0"/>
            <a:ext cx="1197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AutoShape 35"/>
          <p:cNvSpPr/>
          <p:nvPr/>
        </p:nvSpPr>
        <p:spPr>
          <a:xfrm flipH="1" rot="16248600">
            <a:off x="4393080" y="-3526560"/>
            <a:ext cx="358560" cy="913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568" y="275"/>
                  <a:pt x="1535" y="5080"/>
                  <a:pt x="1535" y="10800"/>
                </a:cubicBezTo>
                <a:cubicBezTo>
                  <a:pt x="1535" y="16520"/>
                  <a:pt x="11568" y="2132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737373"/>
              </a:gs>
            </a:gsLst>
            <a:lin ang="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52" descr="ball_many"/>
          <p:cNvPicPr/>
          <p:nvPr/>
        </p:nvPicPr>
        <p:blipFill>
          <a:blip r:embed="rId2"/>
          <a:stretch/>
        </p:blipFill>
        <p:spPr>
          <a:xfrm>
            <a:off x="8352000" y="219240"/>
            <a:ext cx="630000" cy="46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76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34"/>
          <p:cNvSpPr/>
          <p:nvPr/>
        </p:nvSpPr>
        <p:spPr>
          <a:xfrm flipH="1" rot="2065800">
            <a:off x="2382840" y="-2420640"/>
            <a:ext cx="5116680" cy="10217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94" y="34"/>
                  <a:pt x="188" y="5080"/>
                  <a:pt x="188" y="10800"/>
                </a:cubicBezTo>
                <a:cubicBezTo>
                  <a:pt x="188" y="16520"/>
                  <a:pt x="10894" y="215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35"/>
          <p:cNvSpPr/>
          <p:nvPr/>
        </p:nvSpPr>
        <p:spPr>
          <a:xfrm flipH="1" rot="2065800">
            <a:off x="2642400" y="-2933640"/>
            <a:ext cx="5389560" cy="11027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81" y="29"/>
                  <a:pt x="161" y="5080"/>
                  <a:pt x="161" y="10800"/>
                </a:cubicBezTo>
                <a:cubicBezTo>
                  <a:pt x="161" y="16520"/>
                  <a:pt x="10881" y="2157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36"/>
          <p:cNvSpPr/>
          <p:nvPr/>
        </p:nvSpPr>
        <p:spPr>
          <a:xfrm flipH="1" rot="2065800">
            <a:off x="2738880" y="-3402000"/>
            <a:ext cx="5837400" cy="1173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97" y="35"/>
                  <a:pt x="193" y="5080"/>
                  <a:pt x="193" y="10800"/>
                </a:cubicBezTo>
                <a:cubicBezTo>
                  <a:pt x="193" y="16520"/>
                  <a:pt x="10897" y="2156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37"/>
          <p:cNvSpPr/>
          <p:nvPr/>
        </p:nvSpPr>
        <p:spPr>
          <a:xfrm flipH="1" rot="14940000">
            <a:off x="510120" y="-574560"/>
            <a:ext cx="1922400" cy="3538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94" y="34"/>
                  <a:pt x="188" y="5080"/>
                  <a:pt x="188" y="10800"/>
                </a:cubicBezTo>
                <a:cubicBezTo>
                  <a:pt x="188" y="16520"/>
                  <a:pt x="10894" y="215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38"/>
          <p:cNvSpPr/>
          <p:nvPr/>
        </p:nvSpPr>
        <p:spPr>
          <a:xfrm flipH="1" rot="14940000">
            <a:off x="543600" y="-497880"/>
            <a:ext cx="1927440" cy="3538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94" y="34"/>
                  <a:pt x="188" y="5080"/>
                  <a:pt x="188" y="10800"/>
                </a:cubicBezTo>
                <a:cubicBezTo>
                  <a:pt x="188" y="16520"/>
                  <a:pt x="10894" y="215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AutoShape 39"/>
          <p:cNvSpPr/>
          <p:nvPr/>
        </p:nvSpPr>
        <p:spPr>
          <a:xfrm flipH="1" rot="14940000">
            <a:off x="578160" y="-418680"/>
            <a:ext cx="1926720" cy="3538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94" y="34"/>
                  <a:pt x="188" y="5080"/>
                  <a:pt x="188" y="10800"/>
                </a:cubicBezTo>
                <a:cubicBezTo>
                  <a:pt x="188" y="16520"/>
                  <a:pt x="10894" y="215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Picture 44" descr="ball"/>
          <p:cNvPicPr/>
          <p:nvPr/>
        </p:nvPicPr>
        <p:blipFill>
          <a:blip r:embed="rId2"/>
          <a:stretch/>
        </p:blipFill>
        <p:spPr>
          <a:xfrm>
            <a:off x="297000" y="4508640"/>
            <a:ext cx="3825720" cy="16635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403280" y="1314000"/>
            <a:ext cx="7740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76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76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88"/>
          <p:cNvSpPr/>
          <p:nvPr/>
        </p:nvSpPr>
        <p:spPr>
          <a:xfrm>
            <a:off x="7956720" y="6627960"/>
            <a:ext cx="1093680" cy="1857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2560" y="638172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4T00:07:35Z</dcterms:created>
  <dc:creator/>
  <dc:description/>
  <dc:language>en-US</dc:language>
  <cp:lastModifiedBy>微软中国</cp:lastModifiedBy>
  <dcterms:modified xsi:type="dcterms:W3CDTF">2015-01-07T09:19:23Z</dcterms:modified>
  <cp:revision>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