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754F-E391-42D3-860A-427D02725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AF15-367D-4D53-BA4C-5CD56E33F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C879-9B24-472A-813F-F62E95A74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6EEA-3A84-435C-B300-96DCED42E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CA34-E3AC-4C97-92FB-AB76A3CD7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1C8B-278C-4C3F-8D72-2D7DC38BD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20E7-5429-4610-B57E-E4C3DC356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F448-A467-49EE-A906-FB24744C8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108F-1AE4-4180-BDA4-8FF906929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ACD1-B2BC-40DF-901F-329EE778A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E087-64A7-4E66-BD8E-3D6CA4EC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EA8B-24FA-4ED0-B771-42CBFC5B0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rcRect l="0" t="0" r="0" b="92246"/>
          <a:stretch/>
        </p:blipFill>
        <p:spPr>
          <a:xfrm>
            <a:off x="0" y="0"/>
            <a:ext cx="9169560" cy="53352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4"/>
          <a:srcRect l="0" t="0" r="90836" b="92225"/>
          <a:stretch/>
        </p:blipFill>
        <p:spPr>
          <a:xfrm>
            <a:off x="0" y="0"/>
            <a:ext cx="838080" cy="533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234360" cy="692640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6"/>
          <a:srcRect l="0" t="53336" r="0" b="0"/>
          <a:stretch/>
        </p:blipFill>
        <p:spPr>
          <a:xfrm>
            <a:off x="0" y="3962520"/>
            <a:ext cx="9144000" cy="3200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2141E-3D1C-4EB6-965F-B89225F192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6480"/>
            <a:ext cx="9144000" cy="6851520"/>
            <a:chOff x="0" y="6480"/>
            <a:chExt cx="9144000" cy="6851520"/>
          </a:xfrm>
        </p:grpSpPr>
        <p:grpSp>
          <p:nvGrpSpPr>
            <p:cNvPr id="47" name=""/>
            <p:cNvGrpSpPr/>
            <p:nvPr/>
          </p:nvGrpSpPr>
          <p:grpSpPr>
            <a:xfrm>
              <a:off x="0" y="6480"/>
              <a:ext cx="9144000" cy="6851520"/>
              <a:chOff x="0" y="6480"/>
              <a:chExt cx="9144000" cy="6851520"/>
            </a:xfrm>
          </p:grpSpPr>
          <p:sp>
            <p:nvSpPr>
              <p:cNvPr id="48" name=""/>
              <p:cNvSpPr/>
              <p:nvPr/>
            </p:nvSpPr>
            <p:spPr>
              <a:xfrm>
                <a:off x="0" y="5486400"/>
                <a:ext cx="9144000" cy="1371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9" name="" descr=""/>
              <p:cNvPicPr/>
              <p:nvPr/>
            </p:nvPicPr>
            <p:blipFill>
              <a:blip r:embed="rId2"/>
              <a:srcRect l="0" t="0" r="0" b="64506"/>
              <a:stretch/>
            </p:blipFill>
            <p:spPr>
              <a:xfrm>
                <a:off x="7920" y="6480"/>
                <a:ext cx="9136080" cy="2432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" name="" descr=""/>
              <p:cNvPicPr/>
              <p:nvPr/>
            </p:nvPicPr>
            <p:blipFill>
              <a:blip r:embed="rId3"/>
              <a:srcRect l="0" t="50900" r="0" b="8160"/>
              <a:stretch/>
            </p:blipFill>
            <p:spPr>
              <a:xfrm>
                <a:off x="0" y="2830680"/>
                <a:ext cx="9144000" cy="28083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1" name="" descr=""/>
            <p:cNvPicPr/>
            <p:nvPr/>
          </p:nvPicPr>
          <p:blipFill>
            <a:blip r:embed="rId4"/>
            <a:srcRect l="38209" t="87824" r="35213" b="4430"/>
            <a:stretch/>
          </p:blipFill>
          <p:spPr>
            <a:xfrm>
              <a:off x="3352680" y="5562720"/>
              <a:ext cx="243864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086600" y="64771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763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单击此处添加内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2652840" y="1604880"/>
            <a:ext cx="4286160" cy="615960"/>
            <a:chOff x="2652840" y="1604880"/>
            <a:chExt cx="4286160" cy="615960"/>
          </a:xfrm>
        </p:grpSpPr>
        <p:grpSp>
          <p:nvGrpSpPr>
            <p:cNvPr id="58" name=""/>
            <p:cNvGrpSpPr/>
            <p:nvPr/>
          </p:nvGrpSpPr>
          <p:grpSpPr>
            <a:xfrm>
              <a:off x="2652840" y="1604880"/>
              <a:ext cx="4286160" cy="615960"/>
              <a:chOff x="2652840" y="1604880"/>
              <a:chExt cx="4286160" cy="615960"/>
            </a:xfrm>
          </p:grpSpPr>
          <p:sp>
            <p:nvSpPr>
              <p:cNvPr id="59" name="AutoShape 3"/>
              <p:cNvSpPr/>
              <p:nvPr/>
            </p:nvSpPr>
            <p:spPr>
              <a:xfrm>
                <a:off x="2653200" y="1604880"/>
                <a:ext cx="4285080" cy="6159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5400000"/>
              </a:gradFill>
              <a:ln w="0">
                <a:noFill/>
              </a:ln>
              <a:effectLst>
                <a:outerShdw dist="38183" dir="2700000" blurRad="0" rotWithShape="0">
                  <a:srgbClr val="00000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AutoShape 3"/>
              <p:cNvSpPr/>
              <p:nvPr/>
            </p:nvSpPr>
            <p:spPr>
              <a:xfrm>
                <a:off x="2652840" y="1649160"/>
                <a:ext cx="4286160" cy="5274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057cff"/>
                  </a:gs>
                  <a:gs pos="100000">
                    <a:srgbClr val="05004c"/>
                  </a:gs>
                </a:gsLst>
                <a:lin ang="54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Rectangle 13"/>
            <p:cNvSpPr/>
            <p:nvPr/>
          </p:nvSpPr>
          <p:spPr>
            <a:xfrm>
              <a:off x="3859200" y="1717560"/>
              <a:ext cx="188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.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2652840" y="2557440"/>
            <a:ext cx="4286160" cy="615960"/>
            <a:chOff x="2652840" y="2557440"/>
            <a:chExt cx="4286160" cy="615960"/>
          </a:xfrm>
        </p:grpSpPr>
        <p:grpSp>
          <p:nvGrpSpPr>
            <p:cNvPr id="63" name=""/>
            <p:cNvGrpSpPr/>
            <p:nvPr/>
          </p:nvGrpSpPr>
          <p:grpSpPr>
            <a:xfrm>
              <a:off x="2652840" y="2557440"/>
              <a:ext cx="4286160" cy="615960"/>
              <a:chOff x="2652840" y="2557440"/>
              <a:chExt cx="4286160" cy="615960"/>
            </a:xfrm>
          </p:grpSpPr>
          <p:sp>
            <p:nvSpPr>
              <p:cNvPr id="64" name="AutoShape 3"/>
              <p:cNvSpPr/>
              <p:nvPr/>
            </p:nvSpPr>
            <p:spPr>
              <a:xfrm>
                <a:off x="2653200" y="2557440"/>
                <a:ext cx="4285080" cy="6159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5400000"/>
              </a:gradFill>
              <a:ln w="0">
                <a:noFill/>
              </a:ln>
              <a:effectLst>
                <a:outerShdw dist="38183" dir="2700000" blurRad="0" rotWithShape="0">
                  <a:srgbClr val="00000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AutoShape 3"/>
              <p:cNvSpPr/>
              <p:nvPr/>
            </p:nvSpPr>
            <p:spPr>
              <a:xfrm>
                <a:off x="2652840" y="2601720"/>
                <a:ext cx="4286160" cy="5274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057cff"/>
                  </a:gs>
                  <a:gs pos="100000">
                    <a:srgbClr val="05004c"/>
                  </a:gs>
                </a:gsLst>
                <a:lin ang="54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" name="Rectangle 13"/>
            <p:cNvSpPr/>
            <p:nvPr/>
          </p:nvSpPr>
          <p:spPr>
            <a:xfrm>
              <a:off x="3859200" y="2670120"/>
              <a:ext cx="188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.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2652840" y="3510000"/>
            <a:ext cx="4286160" cy="615960"/>
            <a:chOff x="2652840" y="3510000"/>
            <a:chExt cx="4286160" cy="615960"/>
          </a:xfrm>
        </p:grpSpPr>
        <p:grpSp>
          <p:nvGrpSpPr>
            <p:cNvPr id="68" name=""/>
            <p:cNvGrpSpPr/>
            <p:nvPr/>
          </p:nvGrpSpPr>
          <p:grpSpPr>
            <a:xfrm>
              <a:off x="2652840" y="3510000"/>
              <a:ext cx="4286160" cy="615960"/>
              <a:chOff x="2652840" y="3510000"/>
              <a:chExt cx="4286160" cy="615960"/>
            </a:xfrm>
          </p:grpSpPr>
          <p:sp>
            <p:nvSpPr>
              <p:cNvPr id="69" name="AutoShape 3"/>
              <p:cNvSpPr/>
              <p:nvPr/>
            </p:nvSpPr>
            <p:spPr>
              <a:xfrm>
                <a:off x="2653200" y="3510000"/>
                <a:ext cx="4285080" cy="6159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5400000"/>
              </a:gradFill>
              <a:ln w="0">
                <a:noFill/>
              </a:ln>
              <a:effectLst>
                <a:outerShdw dist="38183" dir="2700000" blurRad="0" rotWithShape="0">
                  <a:srgbClr val="00000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AutoShape 3"/>
              <p:cNvSpPr/>
              <p:nvPr/>
            </p:nvSpPr>
            <p:spPr>
              <a:xfrm>
                <a:off x="2652840" y="3554280"/>
                <a:ext cx="4286160" cy="5274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057cff"/>
                  </a:gs>
                  <a:gs pos="100000">
                    <a:srgbClr val="05004c"/>
                  </a:gs>
                </a:gsLst>
                <a:lin ang="54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" name="Rectangle 13"/>
            <p:cNvSpPr/>
            <p:nvPr/>
          </p:nvSpPr>
          <p:spPr>
            <a:xfrm>
              <a:off x="3859200" y="3622680"/>
              <a:ext cx="188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.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2652840" y="4462560"/>
            <a:ext cx="4286160" cy="615960"/>
            <a:chOff x="2652840" y="4462560"/>
            <a:chExt cx="4286160" cy="615960"/>
          </a:xfrm>
        </p:grpSpPr>
        <p:grpSp>
          <p:nvGrpSpPr>
            <p:cNvPr id="73" name=""/>
            <p:cNvGrpSpPr/>
            <p:nvPr/>
          </p:nvGrpSpPr>
          <p:grpSpPr>
            <a:xfrm>
              <a:off x="2652840" y="4462560"/>
              <a:ext cx="4286160" cy="615960"/>
              <a:chOff x="2652840" y="4462560"/>
              <a:chExt cx="4286160" cy="615960"/>
            </a:xfrm>
          </p:grpSpPr>
          <p:sp>
            <p:nvSpPr>
              <p:cNvPr id="74" name="AutoShape 3"/>
              <p:cNvSpPr/>
              <p:nvPr/>
            </p:nvSpPr>
            <p:spPr>
              <a:xfrm>
                <a:off x="2653200" y="4462560"/>
                <a:ext cx="4285080" cy="6159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5400000"/>
              </a:gradFill>
              <a:ln w="0">
                <a:noFill/>
              </a:ln>
              <a:effectLst>
                <a:outerShdw dist="38183" dir="2700000" blurRad="0" rotWithShape="0">
                  <a:srgbClr val="00000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AutoShape 3"/>
              <p:cNvSpPr/>
              <p:nvPr/>
            </p:nvSpPr>
            <p:spPr>
              <a:xfrm>
                <a:off x="2652840" y="4506840"/>
                <a:ext cx="4286160" cy="5274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057cff"/>
                  </a:gs>
                  <a:gs pos="100000">
                    <a:srgbClr val="05004c"/>
                  </a:gs>
                </a:gsLst>
                <a:lin ang="54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Rectangle 13"/>
            <p:cNvSpPr/>
            <p:nvPr/>
          </p:nvSpPr>
          <p:spPr>
            <a:xfrm>
              <a:off x="3859200" y="4575240"/>
              <a:ext cx="188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.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071800" y="2395440"/>
            <a:ext cx="900000" cy="8715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2071800" y="1447920"/>
            <a:ext cx="900000" cy="871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2071800" y="4300560"/>
            <a:ext cx="900000" cy="8715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2071800" y="3352680"/>
            <a:ext cx="900000" cy="8715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7086600" y="6400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763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单击此处添加内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11560" y="6477120"/>
            <a:ext cx="50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8T05:50:01Z</dcterms:created>
  <dc:creator/>
  <dc:description/>
  <dc:language>en-US</dc:language>
  <cp:lastModifiedBy>User</cp:lastModifiedBy>
  <dcterms:modified xsi:type="dcterms:W3CDTF">2015-01-07T09:16:46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  <property fmtid="{D5CDD505-2E9C-101B-9397-08002B2CF9AE}" pid="3" name="Version">
    <vt:r8>1</vt:r8>
  </property>
</Properties>
</file>