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0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7D13-FE65-46C4-9842-26AFE12A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46E8-8E8B-40C7-84DA-52F8042C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F9A2-25F4-4DA4-8A9B-5185413F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4D5-DA81-4258-8D0E-B17E91BB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58C8-0D8C-43CE-933E-43267EA4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8165-BE81-4BF0-805D-EF1A74F1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7AFA-7090-416A-9346-4970525D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472B-901B-415C-A84F-A477616A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92BA-8AB0-4EE0-94DE-0FA6CA2A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CBFF-1D37-49FA-832B-BA528982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EE40-0215-4A89-B8C2-8A1C19AE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22B-D695-49CE-8870-F577C172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DF4E-1B1A-43DD-8E89-495B5CE6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7480-A979-490B-B492-4865A2E1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EBFB-B075-4C14-A962-9B61C351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24D6-CF28-4845-A30A-E3D5B47E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3AA7-A238-4D51-A482-31490850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8B2-81F0-4E54-B01E-2ABD4EC6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CF7-BBBD-4A1B-A9C9-B727A9B5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39E4-55F9-4C7A-9CDE-50A2469B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BDD-9F3C-4626-8F8F-EDBC51CD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618-3E55-49D9-8D85-8896AF75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7D9-C18C-4D3B-AF3E-CD005485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E3C-6F38-4B73-9253-95843EF2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0985-4557-4130-BA8E-21CAC82E4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yangkang\Desktop\TO-卡瓦\首界面.jpg"/>
          <p:cNvPicPr/>
          <p:nvPr/>
        </p:nvPicPr>
        <p:blipFill>
          <a:blip r:embed="rId4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EE29-6090-4EDD-A247-9D7168E85A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0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色商务动态</a:t>
            </a: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4313880" y="5688000"/>
            <a:ext cx="1400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5439600" y="2314440"/>
            <a:ext cx="1400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圆角矩形 1"/>
          <p:cNvSpPr/>
          <p:nvPr/>
        </p:nvSpPr>
        <p:spPr>
          <a:xfrm>
            <a:off x="0" y="1689120"/>
            <a:ext cx="914400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7f7f7f">
                  <a:alpha val="32156"/>
                </a:srgbClr>
              </a:gs>
            </a:gsLst>
            <a:lin ang="54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7" descr="anniu副本"/>
          <p:cNvPicPr/>
          <p:nvPr/>
        </p:nvPicPr>
        <p:blipFill>
          <a:blip r:embed="rId2"/>
          <a:stretch/>
        </p:blipFill>
        <p:spPr>
          <a:xfrm>
            <a:off x="628560" y="-1554120"/>
            <a:ext cx="8713800" cy="1577880"/>
          </a:xfrm>
          <a:prstGeom prst="rect">
            <a:avLst/>
          </a:prstGeom>
          <a:ln w="0">
            <a:noFill/>
          </a:ln>
        </p:spPr>
      </p:pic>
      <p:sp>
        <p:nvSpPr>
          <p:cNvPr id="851" name="Text Box 5"/>
          <p:cNvSpPr/>
          <p:nvPr/>
        </p:nvSpPr>
        <p:spPr>
          <a:xfrm>
            <a:off x="1152360" y="198432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4" descr=""/>
          <p:cNvPicPr/>
          <p:nvPr/>
        </p:nvPicPr>
        <p:blipFill>
          <a:blip r:embed="rId3"/>
          <a:stretch/>
        </p:blipFill>
        <p:spPr>
          <a:xfrm>
            <a:off x="0" y="1628640"/>
            <a:ext cx="1177920" cy="117792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6" descr="anniu"/>
          <p:cNvPicPr/>
          <p:nvPr/>
        </p:nvPicPr>
        <p:blipFill>
          <a:blip r:embed="rId4"/>
          <a:stretch/>
        </p:blipFill>
        <p:spPr>
          <a:xfrm>
            <a:off x="3419640" y="3068640"/>
            <a:ext cx="2520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矩形 24"/>
          <p:cNvSpPr/>
          <p:nvPr/>
        </p:nvSpPr>
        <p:spPr>
          <a:xfrm>
            <a:off x="1342080" y="2997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3092400" y="2941560"/>
            <a:ext cx="522360" cy="412920"/>
            <a:chOff x="3092400" y="2941560"/>
            <a:chExt cx="522360" cy="412920"/>
          </a:xfrm>
        </p:grpSpPr>
        <p:sp>
          <p:nvSpPr>
            <p:cNvPr id="856" name="燕尾形 11"/>
            <p:cNvSpPr/>
            <p:nvPr/>
          </p:nvSpPr>
          <p:spPr>
            <a:xfrm>
              <a:off x="3092400" y="2941560"/>
              <a:ext cx="282600" cy="41292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燕尾形 12"/>
            <p:cNvSpPr/>
            <p:nvPr/>
          </p:nvSpPr>
          <p:spPr>
            <a:xfrm>
              <a:off x="3332160" y="2941560"/>
              <a:ext cx="282600" cy="41292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5838840" y="2941560"/>
            <a:ext cx="522360" cy="412920"/>
            <a:chOff x="5838840" y="2941560"/>
            <a:chExt cx="522360" cy="412920"/>
          </a:xfrm>
        </p:grpSpPr>
        <p:sp>
          <p:nvSpPr>
            <p:cNvPr id="859" name="燕尾形 14"/>
            <p:cNvSpPr/>
            <p:nvPr/>
          </p:nvSpPr>
          <p:spPr>
            <a:xfrm>
              <a:off x="5838840" y="2941560"/>
              <a:ext cx="282600" cy="41292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燕尾形 15"/>
            <p:cNvSpPr/>
            <p:nvPr/>
          </p:nvSpPr>
          <p:spPr>
            <a:xfrm>
              <a:off x="6078600" y="2941560"/>
              <a:ext cx="282600" cy="41292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3094200" y="3933720"/>
            <a:ext cx="2952720" cy="1892520"/>
            <a:chOff x="3094200" y="3933720"/>
            <a:chExt cx="2952720" cy="1892520"/>
          </a:xfrm>
        </p:grpSpPr>
        <p:pic>
          <p:nvPicPr>
            <p:cNvPr id="862" name="矩形 17" descr=""/>
            <p:cNvPicPr/>
            <p:nvPr/>
          </p:nvPicPr>
          <p:blipFill>
            <a:blip r:embed="rId2"/>
            <a:stretch/>
          </p:blipFill>
          <p:spPr>
            <a:xfrm>
              <a:off x="3094200" y="4933080"/>
              <a:ext cx="2952720" cy="89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" name="Picture 2" descr="E:\PPT素材\图片素材\PNG\3dicon_01.png"/>
            <p:cNvPicPr/>
            <p:nvPr/>
          </p:nvPicPr>
          <p:blipFill>
            <a:blip r:embed="rId3"/>
            <a:stretch/>
          </p:blipFill>
          <p:spPr>
            <a:xfrm>
              <a:off x="3569760" y="3933720"/>
              <a:ext cx="1886040" cy="184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4" name="矩形 24"/>
          <p:cNvSpPr/>
          <p:nvPr/>
        </p:nvSpPr>
        <p:spPr>
          <a:xfrm>
            <a:off x="4173480" y="2997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24"/>
          <p:cNvSpPr/>
          <p:nvPr/>
        </p:nvSpPr>
        <p:spPr>
          <a:xfrm>
            <a:off x="6986520" y="2997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4" descr="anniu2"/>
          <p:cNvPicPr/>
          <p:nvPr/>
        </p:nvPicPr>
        <p:blipFill>
          <a:blip r:embed="rId4"/>
          <a:stretch/>
        </p:blipFill>
        <p:spPr>
          <a:xfrm>
            <a:off x="2871720" y="1096920"/>
            <a:ext cx="3468600" cy="976320"/>
          </a:xfrm>
          <a:prstGeom prst="rect">
            <a:avLst/>
          </a:prstGeom>
          <a:ln w="0">
            <a:noFill/>
          </a:ln>
        </p:spPr>
      </p:pic>
      <p:sp>
        <p:nvSpPr>
          <p:cNvPr id="867" name="矩形 24"/>
          <p:cNvSpPr/>
          <p:nvPr/>
        </p:nvSpPr>
        <p:spPr>
          <a:xfrm>
            <a:off x="3997440" y="1484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圆角矩形 1"/>
          <p:cNvSpPr/>
          <p:nvPr/>
        </p:nvSpPr>
        <p:spPr>
          <a:xfrm>
            <a:off x="0" y="1689120"/>
            <a:ext cx="914400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7f7f7f">
                  <a:alpha val="32156"/>
                </a:srgbClr>
              </a:gs>
            </a:gsLst>
            <a:lin ang="54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7" descr="anniu副本"/>
          <p:cNvPicPr/>
          <p:nvPr/>
        </p:nvPicPr>
        <p:blipFill>
          <a:blip r:embed="rId2"/>
          <a:stretch/>
        </p:blipFill>
        <p:spPr>
          <a:xfrm>
            <a:off x="628560" y="-1554120"/>
            <a:ext cx="8713800" cy="1577880"/>
          </a:xfrm>
          <a:prstGeom prst="rect">
            <a:avLst/>
          </a:prstGeom>
          <a:ln w="0">
            <a:noFill/>
          </a:ln>
        </p:spPr>
      </p:pic>
      <p:sp>
        <p:nvSpPr>
          <p:cNvPr id="871" name="Text Box 5"/>
          <p:cNvSpPr/>
          <p:nvPr/>
        </p:nvSpPr>
        <p:spPr>
          <a:xfrm>
            <a:off x="1152360" y="198432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Picture 4" descr=""/>
          <p:cNvPicPr/>
          <p:nvPr/>
        </p:nvPicPr>
        <p:blipFill>
          <a:blip r:embed="rId3"/>
          <a:stretch/>
        </p:blipFill>
        <p:spPr>
          <a:xfrm>
            <a:off x="1440" y="1628640"/>
            <a:ext cx="1175040" cy="117792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6" descr="dq"/>
          <p:cNvPicPr/>
          <p:nvPr/>
        </p:nvPicPr>
        <p:blipFill>
          <a:blip r:embed="rId4"/>
          <a:stretch/>
        </p:blipFill>
        <p:spPr>
          <a:xfrm>
            <a:off x="2448000" y="2516040"/>
            <a:ext cx="4248000" cy="368172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1208520" y="608328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971640" y="2697120"/>
            <a:ext cx="8121600" cy="3684600"/>
            <a:chOff x="971640" y="2697120"/>
            <a:chExt cx="8121600" cy="3684600"/>
          </a:xfrm>
        </p:grpSpPr>
        <p:grpSp>
          <p:nvGrpSpPr>
            <p:cNvPr id="90" name=""/>
            <p:cNvGrpSpPr/>
            <p:nvPr/>
          </p:nvGrpSpPr>
          <p:grpSpPr>
            <a:xfrm>
              <a:off x="971640" y="4105440"/>
              <a:ext cx="8121600" cy="2276280"/>
              <a:chOff x="971640" y="4105440"/>
              <a:chExt cx="8121600" cy="2276280"/>
            </a:xfrm>
          </p:grpSpPr>
          <p:pic>
            <p:nvPicPr>
              <p:cNvPr id="91" name="新月形 34" descr=""/>
              <p:cNvPicPr/>
              <p:nvPr/>
            </p:nvPicPr>
            <p:blipFill>
              <a:blip r:embed="rId2"/>
              <a:stretch/>
            </p:blipFill>
            <p:spPr>
              <a:xfrm>
                <a:off x="971640" y="4105440"/>
                <a:ext cx="8121600" cy="22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 rot="16200000">
                <a:off x="4332960" y="2385720"/>
                <a:ext cx="1399680" cy="541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3" name="矩形 30" descr=""/>
            <p:cNvPicPr/>
            <p:nvPr/>
          </p:nvPicPr>
          <p:blipFill>
            <a:blip r:embed="rId3"/>
            <a:stretch/>
          </p:blipFill>
          <p:spPr>
            <a:xfrm>
              <a:off x="1403280" y="2697120"/>
              <a:ext cx="7251840" cy="36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2554200" y="1176480"/>
            <a:ext cx="4535640" cy="4157640"/>
            <a:chOff x="2554200" y="1176480"/>
            <a:chExt cx="4535640" cy="4157640"/>
          </a:xfrm>
        </p:grpSpPr>
        <p:pic>
          <p:nvPicPr>
            <p:cNvPr id="95" name="Freeform 2" descr=""/>
            <p:cNvPicPr/>
            <p:nvPr/>
          </p:nvPicPr>
          <p:blipFill>
            <a:blip r:embed="rId4"/>
            <a:stretch/>
          </p:blipFill>
          <p:spPr>
            <a:xfrm>
              <a:off x="2554200" y="1176480"/>
              <a:ext cx="4535640" cy="41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597040" y="1214640"/>
              <a:ext cx="4456080" cy="40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851440" y="2077920"/>
            <a:ext cx="1450800" cy="1433520"/>
            <a:chOff x="5851440" y="2077920"/>
            <a:chExt cx="1450800" cy="1433520"/>
          </a:xfrm>
        </p:grpSpPr>
        <p:pic>
          <p:nvPicPr>
            <p:cNvPr id="98" name="橢圓 9" descr=""/>
            <p:cNvPicPr/>
            <p:nvPr/>
          </p:nvPicPr>
          <p:blipFill>
            <a:blip r:embed="rId5"/>
            <a:stretch/>
          </p:blipFill>
          <p:spPr>
            <a:xfrm>
              <a:off x="5851440" y="2077920"/>
              <a:ext cx="14508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076800" y="2301840"/>
              <a:ext cx="1008000" cy="9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138560" y="817560"/>
            <a:ext cx="1450800" cy="1432080"/>
            <a:chOff x="4138560" y="817560"/>
            <a:chExt cx="1450800" cy="1432080"/>
          </a:xfrm>
        </p:grpSpPr>
        <p:pic>
          <p:nvPicPr>
            <p:cNvPr id="101" name="橢圓 9" descr=""/>
            <p:cNvPicPr/>
            <p:nvPr/>
          </p:nvPicPr>
          <p:blipFill>
            <a:blip r:embed="rId6"/>
            <a:stretch/>
          </p:blipFill>
          <p:spPr>
            <a:xfrm>
              <a:off x="4138560" y="817560"/>
              <a:ext cx="14508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363920" y="1039680"/>
              <a:ext cx="10080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00560" y="4022640"/>
            <a:ext cx="1455840" cy="1433520"/>
            <a:chOff x="5200560" y="4022640"/>
            <a:chExt cx="1455840" cy="1433520"/>
          </a:xfrm>
        </p:grpSpPr>
        <p:pic>
          <p:nvPicPr>
            <p:cNvPr id="104" name="橢圓 9" descr=""/>
            <p:cNvPicPr/>
            <p:nvPr/>
          </p:nvPicPr>
          <p:blipFill>
            <a:blip r:embed="rId7"/>
            <a:stretch/>
          </p:blipFill>
          <p:spPr>
            <a:xfrm>
              <a:off x="5200560" y="4022640"/>
              <a:ext cx="145584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429160" y="4244760"/>
              <a:ext cx="100800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054240" y="3949560"/>
            <a:ext cx="1457280" cy="1433520"/>
            <a:chOff x="3054240" y="3949560"/>
            <a:chExt cx="1457280" cy="1433520"/>
          </a:xfrm>
        </p:grpSpPr>
        <p:pic>
          <p:nvPicPr>
            <p:cNvPr id="107" name="橢圓 9" descr=""/>
            <p:cNvPicPr/>
            <p:nvPr/>
          </p:nvPicPr>
          <p:blipFill>
            <a:blip r:embed="rId8"/>
            <a:stretch/>
          </p:blipFill>
          <p:spPr>
            <a:xfrm>
              <a:off x="3054240" y="3949560"/>
              <a:ext cx="145728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282840" y="4173480"/>
              <a:ext cx="1008000" cy="9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481120" y="2146320"/>
            <a:ext cx="1457280" cy="1438200"/>
            <a:chOff x="2481120" y="2146320"/>
            <a:chExt cx="1457280" cy="1438200"/>
          </a:xfrm>
        </p:grpSpPr>
        <p:pic>
          <p:nvPicPr>
            <p:cNvPr id="110" name="橢圓 9" descr=""/>
            <p:cNvPicPr/>
            <p:nvPr/>
          </p:nvPicPr>
          <p:blipFill>
            <a:blip r:embed="rId9"/>
            <a:stretch/>
          </p:blipFill>
          <p:spPr>
            <a:xfrm>
              <a:off x="2481120" y="2146320"/>
              <a:ext cx="1457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706480" y="2370240"/>
              <a:ext cx="1008000" cy="9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TextBox 36" descr=""/>
          <p:cNvPicPr/>
          <p:nvPr/>
        </p:nvPicPr>
        <p:blipFill>
          <a:blip r:embed="rId10"/>
          <a:stretch/>
        </p:blipFill>
        <p:spPr>
          <a:xfrm>
            <a:off x="4127400" y="2755800"/>
            <a:ext cx="1560600" cy="785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renwu "/>
          <p:cNvPicPr/>
          <p:nvPr/>
        </p:nvPicPr>
        <p:blipFill>
          <a:blip r:embed="rId11"/>
          <a:stretch/>
        </p:blipFill>
        <p:spPr>
          <a:xfrm>
            <a:off x="38160" y="4062240"/>
            <a:ext cx="1746360" cy="24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anniu副本"/>
          <p:cNvPicPr/>
          <p:nvPr/>
        </p:nvPicPr>
        <p:blipFill>
          <a:blip r:embed="rId2"/>
          <a:stretch/>
        </p:blipFill>
        <p:spPr>
          <a:xfrm>
            <a:off x="628560" y="-1554120"/>
            <a:ext cx="8713800" cy="157788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0" y="1628640"/>
            <a:ext cx="9180360" cy="1179720"/>
            <a:chOff x="0" y="1628640"/>
            <a:chExt cx="9180360" cy="1179720"/>
          </a:xfrm>
        </p:grpSpPr>
        <p:sp>
          <p:nvSpPr>
            <p:cNvPr id="116" name="圆角矩形 1"/>
            <p:cNvSpPr/>
            <p:nvPr/>
          </p:nvSpPr>
          <p:spPr>
            <a:xfrm>
              <a:off x="0" y="1690560"/>
              <a:ext cx="9144000" cy="108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7f7f7f">
                    <a:alpha val="32156"/>
                  </a:srgbClr>
                </a:gs>
              </a:gsLst>
              <a:lin ang="5400000"/>
            </a:gradFill>
            <a:ln w="9360">
              <a:solidFill>
                <a:srgbClr val="d5e8ea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5"/>
            <p:cNvSpPr/>
            <p:nvPr/>
          </p:nvSpPr>
          <p:spPr>
            <a:xfrm>
              <a:off x="1152000" y="1984680"/>
              <a:ext cx="80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4" descr="E:\PPT素材\图片素材\数字图标\数字图标（蓝色）\1.png"/>
            <p:cNvPicPr/>
            <p:nvPr/>
          </p:nvPicPr>
          <p:blipFill>
            <a:blip r:embed="rId3"/>
            <a:stretch/>
          </p:blipFill>
          <p:spPr>
            <a:xfrm>
              <a:off x="0" y="1628640"/>
              <a:ext cx="1177920" cy="117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11" descr="rem"/>
          <p:cNvPicPr/>
          <p:nvPr/>
        </p:nvPicPr>
        <p:blipFill>
          <a:blip r:embed="rId4"/>
          <a:stretch/>
        </p:blipFill>
        <p:spPr>
          <a:xfrm>
            <a:off x="2894040" y="2808360"/>
            <a:ext cx="32972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0" name="直接箭头连接符 73"/>
          <p:cNvCxnSpPr/>
          <p:nvPr/>
        </p:nvCxnSpPr>
        <p:spPr>
          <a:xfrm>
            <a:off x="6365880" y="3943080"/>
            <a:ext cx="519840" cy="64980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1" name="直接箭头连接符 59"/>
          <p:cNvCxnSpPr/>
          <p:nvPr/>
        </p:nvCxnSpPr>
        <p:spPr>
          <a:xfrm>
            <a:off x="3652920" y="3881160"/>
            <a:ext cx="459360" cy="64980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2" name="矩形 5"/>
          <p:cNvSpPr/>
          <p:nvPr/>
        </p:nvSpPr>
        <p:spPr>
          <a:xfrm>
            <a:off x="772200" y="27464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356000" y="2076480"/>
            <a:ext cx="1008000" cy="1008000"/>
            <a:chOff x="4356000" y="2076480"/>
            <a:chExt cx="1008000" cy="1008000"/>
          </a:xfrm>
        </p:grpSpPr>
        <p:pic>
          <p:nvPicPr>
            <p:cNvPr id="124" name="Oval 2" descr=""/>
            <p:cNvPicPr/>
            <p:nvPr/>
          </p:nvPicPr>
          <p:blipFill>
            <a:blip r:embed="rId2"/>
            <a:stretch/>
          </p:blipFill>
          <p:spPr>
            <a:xfrm>
              <a:off x="4356000" y="2076480"/>
              <a:ext cx="1008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椭圆 11"/>
            <p:cNvSpPr/>
            <p:nvPr/>
          </p:nvSpPr>
          <p:spPr>
            <a:xfrm rot="19388400">
              <a:off x="4519440" y="2254680"/>
              <a:ext cx="461520" cy="317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591440" y="2282760"/>
              <a:ext cx="541080" cy="545400"/>
              <a:chOff x="4591440" y="2282760"/>
              <a:chExt cx="541080" cy="545400"/>
            </a:xfrm>
          </p:grpSpPr>
          <p:pic>
            <p:nvPicPr>
              <p:cNvPr id="127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4591440" y="2282760"/>
                <a:ext cx="541080" cy="54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4673160" y="2366640"/>
                <a:ext cx="37800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2416320" y="4522680"/>
            <a:ext cx="426960" cy="428760"/>
            <a:chOff x="2416320" y="4522680"/>
            <a:chExt cx="426960" cy="428760"/>
          </a:xfrm>
        </p:grpSpPr>
        <p:pic>
          <p:nvPicPr>
            <p:cNvPr id="130" name="Oval 2" descr=""/>
            <p:cNvPicPr/>
            <p:nvPr/>
          </p:nvPicPr>
          <p:blipFill>
            <a:blip r:embed="rId4"/>
            <a:stretch/>
          </p:blipFill>
          <p:spPr>
            <a:xfrm>
              <a:off x="2416320" y="4522680"/>
              <a:ext cx="42696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椭圆 15"/>
            <p:cNvSpPr/>
            <p:nvPr/>
          </p:nvSpPr>
          <p:spPr>
            <a:xfrm rot="19388400">
              <a:off x="2529720" y="4632120"/>
              <a:ext cx="136800" cy="936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548800" y="4637520"/>
              <a:ext cx="164520" cy="166680"/>
              <a:chOff x="2548800" y="4637520"/>
              <a:chExt cx="164520" cy="166680"/>
            </a:xfrm>
          </p:grpSpPr>
          <p:pic>
            <p:nvPicPr>
              <p:cNvPr id="133" name="椭圆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548800" y="4637520"/>
                <a:ext cx="164520" cy="1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2575080" y="4664880"/>
                <a:ext cx="11196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3132000" y="3360600"/>
            <a:ext cx="668520" cy="669960"/>
            <a:chOff x="3132000" y="3360600"/>
            <a:chExt cx="668520" cy="669960"/>
          </a:xfrm>
        </p:grpSpPr>
        <p:pic>
          <p:nvPicPr>
            <p:cNvPr id="136" name="Oval 2" descr=""/>
            <p:cNvPicPr/>
            <p:nvPr/>
          </p:nvPicPr>
          <p:blipFill>
            <a:blip r:embed="rId6"/>
            <a:stretch/>
          </p:blipFill>
          <p:spPr>
            <a:xfrm>
              <a:off x="3132000" y="3360600"/>
              <a:ext cx="66852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椭圆 19"/>
            <p:cNvSpPr/>
            <p:nvPr/>
          </p:nvSpPr>
          <p:spPr>
            <a:xfrm rot="19388400">
              <a:off x="3273120" y="3504600"/>
              <a:ext cx="262800" cy="180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313440" y="3520080"/>
              <a:ext cx="312840" cy="311760"/>
              <a:chOff x="3313440" y="3520080"/>
              <a:chExt cx="312840" cy="311760"/>
            </a:xfrm>
          </p:grpSpPr>
          <p:pic>
            <p:nvPicPr>
              <p:cNvPr id="139" name="椭圆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13440" y="3520080"/>
                <a:ext cx="312840" cy="31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3361320" y="3568320"/>
                <a:ext cx="215640" cy="21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3929040" y="4522680"/>
            <a:ext cx="426960" cy="428760"/>
            <a:chOff x="3929040" y="4522680"/>
            <a:chExt cx="426960" cy="428760"/>
          </a:xfrm>
        </p:grpSpPr>
        <p:pic>
          <p:nvPicPr>
            <p:cNvPr id="142" name="Oval 2" descr=""/>
            <p:cNvPicPr/>
            <p:nvPr/>
          </p:nvPicPr>
          <p:blipFill>
            <a:blip r:embed="rId8"/>
            <a:stretch/>
          </p:blipFill>
          <p:spPr>
            <a:xfrm>
              <a:off x="3929040" y="4522680"/>
              <a:ext cx="42696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椭圆 23"/>
            <p:cNvSpPr/>
            <p:nvPr/>
          </p:nvSpPr>
          <p:spPr>
            <a:xfrm rot="19388400">
              <a:off x="4042080" y="4631760"/>
              <a:ext cx="135720" cy="936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4060800" y="4637520"/>
              <a:ext cx="163440" cy="166680"/>
              <a:chOff x="4060800" y="4637520"/>
              <a:chExt cx="163440" cy="166680"/>
            </a:xfrm>
          </p:grpSpPr>
          <p:pic>
            <p:nvPicPr>
              <p:cNvPr id="145" name="椭圆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4060800" y="4637520"/>
                <a:ext cx="163440" cy="1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4087440" y="4664880"/>
                <a:ext cx="11124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5845320" y="3422520"/>
            <a:ext cx="668160" cy="669960"/>
            <a:chOff x="5845320" y="3422520"/>
            <a:chExt cx="668160" cy="669960"/>
          </a:xfrm>
        </p:grpSpPr>
        <p:pic>
          <p:nvPicPr>
            <p:cNvPr id="148" name="Oval 2" descr=""/>
            <p:cNvPicPr/>
            <p:nvPr/>
          </p:nvPicPr>
          <p:blipFill>
            <a:blip r:embed="rId10"/>
            <a:stretch/>
          </p:blipFill>
          <p:spPr>
            <a:xfrm>
              <a:off x="5845320" y="3422520"/>
              <a:ext cx="6681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椭圆 43"/>
            <p:cNvSpPr/>
            <p:nvPr/>
          </p:nvSpPr>
          <p:spPr>
            <a:xfrm rot="19388400">
              <a:off x="5986440" y="3567240"/>
              <a:ext cx="262800" cy="180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6026400" y="3582000"/>
              <a:ext cx="312840" cy="315360"/>
              <a:chOff x="6026400" y="3582000"/>
              <a:chExt cx="312840" cy="315360"/>
            </a:xfrm>
          </p:grpSpPr>
          <p:pic>
            <p:nvPicPr>
              <p:cNvPr id="151" name="椭圆 44" descr=""/>
              <p:cNvPicPr/>
              <p:nvPr/>
            </p:nvPicPr>
            <p:blipFill>
              <a:blip r:embed="rId11"/>
              <a:stretch/>
            </p:blipFill>
            <p:spPr>
              <a:xfrm>
                <a:off x="6026400" y="3582000"/>
                <a:ext cx="312840" cy="31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6074640" y="3630960"/>
                <a:ext cx="215640" cy="21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53" name="直接箭头连接符 50"/>
          <p:cNvCxnSpPr>
            <a:stCxn id="124" idx="3"/>
          </p:cNvCxnSpPr>
          <p:nvPr/>
        </p:nvCxnSpPr>
        <p:spPr>
          <a:xfrm flipH="1">
            <a:off x="3702960" y="2936520"/>
            <a:ext cx="803880" cy="523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54" name="直接箭头连接符 54"/>
          <p:cNvCxnSpPr/>
          <p:nvPr/>
        </p:nvCxnSpPr>
        <p:spPr>
          <a:xfrm>
            <a:off x="5216040" y="2936520"/>
            <a:ext cx="762840" cy="55620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55" name="直接箭头连接符 56"/>
          <p:cNvCxnSpPr>
            <a:stCxn id="136" idx="3"/>
          </p:cNvCxnSpPr>
          <p:nvPr/>
        </p:nvCxnSpPr>
        <p:spPr>
          <a:xfrm flipH="1">
            <a:off x="2781000" y="3931920"/>
            <a:ext cx="451440" cy="65484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grpSp>
        <p:nvGrpSpPr>
          <p:cNvPr id="156" name=""/>
          <p:cNvGrpSpPr/>
          <p:nvPr/>
        </p:nvGrpSpPr>
        <p:grpSpPr>
          <a:xfrm>
            <a:off x="5256360" y="4586400"/>
            <a:ext cx="428400" cy="426960"/>
            <a:chOff x="5256360" y="4586400"/>
            <a:chExt cx="428400" cy="426960"/>
          </a:xfrm>
        </p:grpSpPr>
        <p:pic>
          <p:nvPicPr>
            <p:cNvPr id="157" name="Oval 2" descr=""/>
            <p:cNvPicPr/>
            <p:nvPr/>
          </p:nvPicPr>
          <p:blipFill>
            <a:blip r:embed="rId12"/>
            <a:stretch/>
          </p:blipFill>
          <p:spPr>
            <a:xfrm>
              <a:off x="5256360" y="4586400"/>
              <a:ext cx="4284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椭圆 64"/>
            <p:cNvSpPr/>
            <p:nvPr/>
          </p:nvSpPr>
          <p:spPr>
            <a:xfrm rot="19388400">
              <a:off x="5368680" y="4696200"/>
              <a:ext cx="136080" cy="932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5388480" y="4703760"/>
              <a:ext cx="163800" cy="163440"/>
              <a:chOff x="5388480" y="4703760"/>
              <a:chExt cx="163800" cy="163440"/>
            </a:xfrm>
          </p:grpSpPr>
          <p:pic>
            <p:nvPicPr>
              <p:cNvPr id="160" name="椭圆 65" descr=""/>
              <p:cNvPicPr/>
              <p:nvPr/>
            </p:nvPicPr>
            <p:blipFill>
              <a:blip r:embed="rId13"/>
              <a:stretch/>
            </p:blipFill>
            <p:spPr>
              <a:xfrm>
                <a:off x="5388480" y="4703760"/>
                <a:ext cx="163800" cy="16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>
                <a:off x="5414400" y="4728960"/>
                <a:ext cx="111960" cy="11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6700680" y="4586400"/>
            <a:ext cx="428760" cy="426960"/>
            <a:chOff x="6700680" y="4586400"/>
            <a:chExt cx="428760" cy="426960"/>
          </a:xfrm>
        </p:grpSpPr>
        <p:pic>
          <p:nvPicPr>
            <p:cNvPr id="163" name="Oval 2" descr=""/>
            <p:cNvPicPr/>
            <p:nvPr/>
          </p:nvPicPr>
          <p:blipFill>
            <a:blip r:embed="rId14"/>
            <a:stretch/>
          </p:blipFill>
          <p:spPr>
            <a:xfrm>
              <a:off x="6700680" y="4586400"/>
              <a:ext cx="42876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椭圆 68"/>
            <p:cNvSpPr/>
            <p:nvPr/>
          </p:nvSpPr>
          <p:spPr>
            <a:xfrm rot="19388400">
              <a:off x="6813000" y="4696200"/>
              <a:ext cx="136440" cy="932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6833160" y="4703760"/>
              <a:ext cx="163800" cy="163440"/>
              <a:chOff x="6833160" y="4703760"/>
              <a:chExt cx="163800" cy="163440"/>
            </a:xfrm>
          </p:grpSpPr>
          <p:pic>
            <p:nvPicPr>
              <p:cNvPr id="166" name="椭圆 69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33160" y="4703760"/>
                <a:ext cx="163800" cy="16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"/>
              <p:cNvSpPr/>
              <p:nvPr/>
            </p:nvSpPr>
            <p:spPr>
              <a:xfrm>
                <a:off x="6859080" y="4728960"/>
                <a:ext cx="111960" cy="11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68" name="直接箭头连接符 71"/>
          <p:cNvCxnSpPr>
            <a:stCxn id="148" idx="3"/>
            <a:endCxn id="158" idx="6"/>
          </p:cNvCxnSpPr>
          <p:nvPr/>
        </p:nvCxnSpPr>
        <p:spPr>
          <a:xfrm flipH="1">
            <a:off x="5516280" y="3994200"/>
            <a:ext cx="429120" cy="6292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69" name="直接连接符 75"/>
          <p:cNvSpPr/>
          <p:nvPr/>
        </p:nvSpPr>
        <p:spPr>
          <a:xfrm>
            <a:off x="324000" y="4191120"/>
            <a:ext cx="8820000" cy="0"/>
          </a:xfrm>
          <a:prstGeom prst="line">
            <a:avLst/>
          </a:prstGeom>
          <a:ln w="936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76"/>
          <p:cNvSpPr/>
          <p:nvPr/>
        </p:nvSpPr>
        <p:spPr>
          <a:xfrm>
            <a:off x="324000" y="3227400"/>
            <a:ext cx="8820000" cy="0"/>
          </a:xfrm>
          <a:prstGeom prst="line">
            <a:avLst/>
          </a:prstGeom>
          <a:ln w="936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46"/>
          <p:cNvSpPr/>
          <p:nvPr/>
        </p:nvSpPr>
        <p:spPr>
          <a:xfrm>
            <a:off x="772200" y="3583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7"/>
          <p:cNvSpPr/>
          <p:nvPr/>
        </p:nvSpPr>
        <p:spPr>
          <a:xfrm>
            <a:off x="772200" y="45147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0" descr="circuler_1"/>
          <p:cNvPicPr/>
          <p:nvPr/>
        </p:nvPicPr>
        <p:blipFill>
          <a:blip r:embed="rId2"/>
          <a:stretch/>
        </p:blipFill>
        <p:spPr>
          <a:xfrm>
            <a:off x="2492280" y="4325760"/>
            <a:ext cx="1220760" cy="1225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circuler_1"/>
          <p:cNvPicPr/>
          <p:nvPr/>
        </p:nvPicPr>
        <p:blipFill>
          <a:blip r:embed="rId3"/>
          <a:stretch/>
        </p:blipFill>
        <p:spPr>
          <a:xfrm>
            <a:off x="5237280" y="4316400"/>
            <a:ext cx="1222200" cy="122544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2490840" y="1697040"/>
            <a:ext cx="1222200" cy="1235160"/>
            <a:chOff x="2490840" y="1697040"/>
            <a:chExt cx="1222200" cy="1235160"/>
          </a:xfrm>
        </p:grpSpPr>
        <p:pic>
          <p:nvPicPr>
            <p:cNvPr id="176" name="Picture 8" descr="circuler_1"/>
            <p:cNvPicPr/>
            <p:nvPr/>
          </p:nvPicPr>
          <p:blipFill>
            <a:blip r:embed="rId4"/>
            <a:stretch/>
          </p:blipFill>
          <p:spPr>
            <a:xfrm>
              <a:off x="2490840" y="1699920"/>
              <a:ext cx="1222200" cy="12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Oval 9"/>
            <p:cNvSpPr/>
            <p:nvPr/>
          </p:nvSpPr>
          <p:spPr>
            <a:xfrm>
              <a:off x="2490840" y="1697040"/>
              <a:ext cx="1214280" cy="123516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6"/>
            <p:cNvSpPr/>
            <p:nvPr/>
          </p:nvSpPr>
          <p:spPr>
            <a:xfrm>
              <a:off x="2566800" y="1960920"/>
              <a:ext cx="106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492280" y="4322880"/>
            <a:ext cx="1216080" cy="1234800"/>
            <a:chOff x="2492280" y="4322880"/>
            <a:chExt cx="1216080" cy="1234800"/>
          </a:xfrm>
        </p:grpSpPr>
        <p:sp>
          <p:nvSpPr>
            <p:cNvPr id="180" name="Oval 11"/>
            <p:cNvSpPr/>
            <p:nvPr/>
          </p:nvSpPr>
          <p:spPr>
            <a:xfrm>
              <a:off x="2492280" y="4322880"/>
              <a:ext cx="1216080" cy="12348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0"/>
            <p:cNvSpPr/>
            <p:nvPr/>
          </p:nvSpPr>
          <p:spPr>
            <a:xfrm>
              <a:off x="2566800" y="4565880"/>
              <a:ext cx="1105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237280" y="4303800"/>
            <a:ext cx="1216080" cy="1231920"/>
            <a:chOff x="5237280" y="4303800"/>
            <a:chExt cx="1216080" cy="1231920"/>
          </a:xfrm>
        </p:grpSpPr>
        <p:sp>
          <p:nvSpPr>
            <p:cNvPr id="183" name="Oval 13"/>
            <p:cNvSpPr/>
            <p:nvPr/>
          </p:nvSpPr>
          <p:spPr>
            <a:xfrm>
              <a:off x="5237280" y="4303800"/>
              <a:ext cx="1216080" cy="123192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361480" y="4566960"/>
              <a:ext cx="1010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747520" y="1890360"/>
            <a:ext cx="3471120" cy="3471120"/>
            <a:chOff x="2747520" y="1890360"/>
            <a:chExt cx="3471120" cy="3471120"/>
          </a:xfrm>
        </p:grpSpPr>
        <p:sp>
          <p:nvSpPr>
            <p:cNvPr id="186" name="AutoShape 3"/>
            <p:cNvSpPr/>
            <p:nvPr/>
          </p:nvSpPr>
          <p:spPr>
            <a:xfrm rot="18900000">
              <a:off x="3255840" y="2398680"/>
              <a:ext cx="2454480" cy="2454480"/>
            </a:xfrm>
            <a:custGeom>
              <a:avLst/>
              <a:gdLst>
                <a:gd name="textAreaLeft" fmla="*/ 613440 w 2454480"/>
                <a:gd name="textAreaRight" fmla="*/ 1841040 w 2454480"/>
                <a:gd name="textAreaTop" fmla="*/ 613440 h 2454480"/>
                <a:gd name="textAreaBottom" fmla="*/ 1841040 h 245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5400"/>
                  </a:moveTo>
                  <a:lnTo>
                    <a:pt x="9450" y="5400"/>
                  </a:lnTo>
                  <a:lnTo>
                    <a:pt x="9450" y="2700"/>
                  </a:lnTo>
                  <a:lnTo>
                    <a:pt x="8100" y="2700"/>
                  </a:lnTo>
                  <a:lnTo>
                    <a:pt x="10800" y="0"/>
                  </a:lnTo>
                  <a:lnTo>
                    <a:pt x="13500" y="2700"/>
                  </a:lnTo>
                  <a:lnTo>
                    <a:pt x="12150" y="2700"/>
                  </a:lnTo>
                  <a:lnTo>
                    <a:pt x="12150" y="5400"/>
                  </a:lnTo>
                  <a:lnTo>
                    <a:pt x="16200" y="5400"/>
                  </a:lnTo>
                  <a:lnTo>
                    <a:pt x="16200" y="9450"/>
                  </a:lnTo>
                  <a:lnTo>
                    <a:pt x="18900" y="9450"/>
                  </a:lnTo>
                  <a:lnTo>
                    <a:pt x="18900" y="8100"/>
                  </a:lnTo>
                  <a:lnTo>
                    <a:pt x="21600" y="10800"/>
                  </a:lnTo>
                  <a:lnTo>
                    <a:pt x="18900" y="13500"/>
                  </a:lnTo>
                  <a:lnTo>
                    <a:pt x="18900" y="12150"/>
                  </a:lnTo>
                  <a:lnTo>
                    <a:pt x="16200" y="12150"/>
                  </a:lnTo>
                  <a:lnTo>
                    <a:pt x="16200" y="16200"/>
                  </a:lnTo>
                  <a:lnTo>
                    <a:pt x="12150" y="16200"/>
                  </a:lnTo>
                  <a:lnTo>
                    <a:pt x="12150" y="18900"/>
                  </a:lnTo>
                  <a:lnTo>
                    <a:pt x="13500" y="18900"/>
                  </a:lnTo>
                  <a:lnTo>
                    <a:pt x="10800" y="21600"/>
                  </a:lnTo>
                  <a:lnTo>
                    <a:pt x="8100" y="18900"/>
                  </a:lnTo>
                  <a:lnTo>
                    <a:pt x="9450" y="18900"/>
                  </a:lnTo>
                  <a:lnTo>
                    <a:pt x="9450" y="16200"/>
                  </a:lnTo>
                  <a:lnTo>
                    <a:pt x="5400" y="16200"/>
                  </a:lnTo>
                  <a:lnTo>
                    <a:pt x="5400" y="12150"/>
                  </a:lnTo>
                  <a:lnTo>
                    <a:pt x="2700" y="12150"/>
                  </a:lnTo>
                  <a:lnTo>
                    <a:pt x="2700" y="13500"/>
                  </a:lnTo>
                  <a:lnTo>
                    <a:pt x="0" y="10800"/>
                  </a:lnTo>
                  <a:lnTo>
                    <a:pt x="2700" y="8100"/>
                  </a:lnTo>
                  <a:lnTo>
                    <a:pt x="2700" y="9450"/>
                  </a:lnTo>
                  <a:lnTo>
                    <a:pt x="5400" y="9450"/>
                  </a:lnTo>
                  <a:close/>
                </a:path>
              </a:pathLst>
            </a:custGeom>
            <a:solidFill>
              <a:srgbClr val="008000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Text Box 52" descr=""/>
            <p:cNvPicPr/>
            <p:nvPr/>
          </p:nvPicPr>
          <p:blipFill>
            <a:blip r:embed="rId5"/>
            <a:stretch/>
          </p:blipFill>
          <p:spPr>
            <a:xfrm>
              <a:off x="3840840" y="3237120"/>
              <a:ext cx="1401480" cy="77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"/>
          <p:cNvGrpSpPr/>
          <p:nvPr/>
        </p:nvGrpSpPr>
        <p:grpSpPr>
          <a:xfrm>
            <a:off x="5237280" y="1684440"/>
            <a:ext cx="1220760" cy="1234800"/>
            <a:chOff x="5237280" y="1684440"/>
            <a:chExt cx="1220760" cy="1234800"/>
          </a:xfrm>
        </p:grpSpPr>
        <p:pic>
          <p:nvPicPr>
            <p:cNvPr id="189" name="Picture 14" descr="circuler_1"/>
            <p:cNvPicPr/>
            <p:nvPr/>
          </p:nvPicPr>
          <p:blipFill>
            <a:blip r:embed="rId6"/>
            <a:stretch/>
          </p:blipFill>
          <p:spPr>
            <a:xfrm>
              <a:off x="5237280" y="1685880"/>
              <a:ext cx="1220760" cy="12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Oval 15"/>
            <p:cNvSpPr/>
            <p:nvPr/>
          </p:nvSpPr>
          <p:spPr>
            <a:xfrm>
              <a:off x="5237280" y="1684440"/>
              <a:ext cx="1216080" cy="12348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4"/>
            <p:cNvSpPr/>
            <p:nvPr/>
          </p:nvSpPr>
          <p:spPr>
            <a:xfrm>
              <a:off x="5538600" y="197676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655560" y="1125360"/>
            <a:ext cx="8123400" cy="1604880"/>
            <a:chOff x="655560" y="1125360"/>
            <a:chExt cx="8123400" cy="1604880"/>
          </a:xfrm>
        </p:grpSpPr>
        <p:sp>
          <p:nvSpPr>
            <p:cNvPr id="193" name="矩形 6"/>
            <p:cNvSpPr/>
            <p:nvPr/>
          </p:nvSpPr>
          <p:spPr>
            <a:xfrm>
              <a:off x="1465560" y="227052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7"/>
            <p:cNvSpPr/>
            <p:nvPr/>
          </p:nvSpPr>
          <p:spPr>
            <a:xfrm>
              <a:off x="6136560" y="227052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655560" y="1154880"/>
              <a:ext cx="8123400" cy="1122480"/>
              <a:chOff x="655560" y="1154880"/>
              <a:chExt cx="8123400" cy="1122480"/>
            </a:xfrm>
          </p:grpSpPr>
          <p:pic>
            <p:nvPicPr>
              <p:cNvPr id="196" name="新月形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655560" y="1154880"/>
                <a:ext cx="8123400" cy="112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 rot="16200000">
                <a:off x="4371480" y="-924840"/>
                <a:ext cx="688320" cy="542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8" name="矩形 11" descr=""/>
            <p:cNvPicPr/>
            <p:nvPr/>
          </p:nvPicPr>
          <p:blipFill>
            <a:blip r:embed="rId3"/>
            <a:stretch/>
          </p:blipFill>
          <p:spPr>
            <a:xfrm>
              <a:off x="2799000" y="1125360"/>
              <a:ext cx="3665880" cy="85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左大括号 12"/>
          <p:cNvSpPr/>
          <p:nvPr/>
        </p:nvSpPr>
        <p:spPr>
          <a:xfrm rot="16200000">
            <a:off x="4361400" y="-762480"/>
            <a:ext cx="728640" cy="8140680"/>
          </a:xfrm>
          <a:custGeom>
            <a:avLst/>
            <a:gdLst>
              <a:gd name="textAreaLeft" fmla="*/ 465480 w 728640"/>
              <a:gd name="textAreaRight" fmla="*/ 729000 w 728640"/>
              <a:gd name="textAreaTop" fmla="*/ 84240 h 8140680"/>
              <a:gd name="textAreaBottom" fmla="*/ 8056440 h 814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9"/>
                  <a:pt x="10800" y="717"/>
                </a:cubicBezTo>
                <a:lnTo>
                  <a:pt x="10800" y="10083"/>
                </a:lnTo>
                <a:cubicBezTo>
                  <a:pt x="10800" y="10442"/>
                  <a:pt x="5400" y="10800"/>
                  <a:pt x="0" y="10800"/>
                </a:cubicBezTo>
                <a:cubicBezTo>
                  <a:pt x="5400" y="10800"/>
                  <a:pt x="10800" y="11159"/>
                  <a:pt x="10800" y="11517"/>
                </a:cubicBezTo>
                <a:lnTo>
                  <a:pt x="10800" y="20883"/>
                </a:lnTo>
                <a:cubicBezTo>
                  <a:pt x="10800" y="21242"/>
                  <a:pt x="162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effafb"/>
              </a:gs>
              <a:gs pos="100000">
                <a:srgbClr val="666666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TextBox 14" descr=""/>
          <p:cNvPicPr/>
          <p:nvPr/>
        </p:nvPicPr>
        <p:blipFill>
          <a:blip r:embed="rId4"/>
          <a:stretch/>
        </p:blipFill>
        <p:spPr>
          <a:xfrm>
            <a:off x="2567160" y="3693960"/>
            <a:ext cx="4248000" cy="74952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1257480" y="4924440"/>
            <a:ext cx="1277640" cy="719280"/>
            <a:chOff x="1257480" y="4924440"/>
            <a:chExt cx="1277640" cy="719280"/>
          </a:xfrm>
        </p:grpSpPr>
        <p:sp>
          <p:nvSpPr>
            <p:cNvPr id="202" name="椭圆 16"/>
            <p:cNvSpPr/>
            <p:nvPr/>
          </p:nvSpPr>
          <p:spPr>
            <a:xfrm>
              <a:off x="1257480" y="4924440"/>
              <a:ext cx="1277640" cy="719280"/>
            </a:xfrm>
            <a:prstGeom prst="ellipse">
              <a:avLst/>
            </a:pr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19"/>
            <p:cNvSpPr/>
            <p:nvPr/>
          </p:nvSpPr>
          <p:spPr>
            <a:xfrm>
              <a:off x="1403640" y="5055480"/>
              <a:ext cx="86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262240" y="4902120"/>
            <a:ext cx="1278000" cy="720720"/>
            <a:chOff x="2262240" y="4902120"/>
            <a:chExt cx="1278000" cy="720720"/>
          </a:xfrm>
        </p:grpSpPr>
        <p:sp>
          <p:nvSpPr>
            <p:cNvPr id="205" name="椭圆 17"/>
            <p:cNvSpPr/>
            <p:nvPr/>
          </p:nvSpPr>
          <p:spPr>
            <a:xfrm>
              <a:off x="2262240" y="4903560"/>
              <a:ext cx="1278000" cy="719280"/>
            </a:xfrm>
            <a:prstGeom prst="ellipse">
              <a:avLst/>
            </a:pr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矩形 20"/>
            <p:cNvSpPr/>
            <p:nvPr/>
          </p:nvSpPr>
          <p:spPr>
            <a:xfrm>
              <a:off x="2610720" y="4902120"/>
              <a:ext cx="86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671480" y="5513400"/>
            <a:ext cx="1278000" cy="719280"/>
            <a:chOff x="1671480" y="5513400"/>
            <a:chExt cx="1278000" cy="719280"/>
          </a:xfrm>
        </p:grpSpPr>
        <p:sp>
          <p:nvSpPr>
            <p:cNvPr id="208" name="椭圆 18"/>
            <p:cNvSpPr/>
            <p:nvPr/>
          </p:nvSpPr>
          <p:spPr>
            <a:xfrm>
              <a:off x="1671480" y="5513400"/>
              <a:ext cx="1278000" cy="719280"/>
            </a:xfrm>
            <a:prstGeom prst="ellipse">
              <a:avLst/>
            </a:pr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21"/>
            <p:cNvSpPr/>
            <p:nvPr/>
          </p:nvSpPr>
          <p:spPr>
            <a:xfrm>
              <a:off x="2015280" y="5590800"/>
              <a:ext cx="86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692440" y="5479920"/>
            <a:ext cx="1276200" cy="719280"/>
            <a:chOff x="2692440" y="5479920"/>
            <a:chExt cx="1276200" cy="719280"/>
          </a:xfrm>
        </p:grpSpPr>
        <p:sp>
          <p:nvSpPr>
            <p:cNvPr id="211" name="椭圆 22"/>
            <p:cNvSpPr/>
            <p:nvPr/>
          </p:nvSpPr>
          <p:spPr>
            <a:xfrm>
              <a:off x="2692440" y="5479920"/>
              <a:ext cx="1276200" cy="719280"/>
            </a:xfrm>
            <a:prstGeom prst="ellipse">
              <a:avLst/>
            </a:prstGeom>
            <a:gradFill rotWithShape="0">
              <a:gsLst>
                <a:gs pos="0">
                  <a:srgbClr val="cfffff"/>
                </a:gs>
                <a:gs pos="100000">
                  <a:srgbClr val="f0ffff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23"/>
            <p:cNvSpPr/>
            <p:nvPr/>
          </p:nvSpPr>
          <p:spPr>
            <a:xfrm>
              <a:off x="3119760" y="5783760"/>
              <a:ext cx="84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302000" y="5241960"/>
            <a:ext cx="1258920" cy="708120"/>
            <a:chOff x="4302000" y="5241960"/>
            <a:chExt cx="1258920" cy="708120"/>
          </a:xfrm>
        </p:grpSpPr>
        <p:sp>
          <p:nvSpPr>
            <p:cNvPr id="214" name="燕尾形 31"/>
            <p:cNvSpPr/>
            <p:nvPr/>
          </p:nvSpPr>
          <p:spPr>
            <a:xfrm>
              <a:off x="4302000" y="5241960"/>
              <a:ext cx="774720" cy="70812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134" y="0"/>
                  </a:lnTo>
                  <a:lnTo>
                    <a:pt x="21600" y="10800"/>
                  </a:lnTo>
                  <a:lnTo>
                    <a:pt x="10134" y="21600"/>
                  </a:lnTo>
                  <a:lnTo>
                    <a:pt x="0" y="21600"/>
                  </a:lnTo>
                  <a:lnTo>
                    <a:pt x="11466" y="10800"/>
                  </a:lnTo>
                  <a:close/>
                </a:path>
              </a:pathLst>
            </a:cu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燕尾形 32"/>
            <p:cNvSpPr/>
            <p:nvPr/>
          </p:nvSpPr>
          <p:spPr>
            <a:xfrm>
              <a:off x="4786200" y="5241960"/>
              <a:ext cx="774720" cy="70812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134" y="0"/>
                  </a:lnTo>
                  <a:lnTo>
                    <a:pt x="21600" y="10800"/>
                  </a:lnTo>
                  <a:lnTo>
                    <a:pt x="10134" y="21600"/>
                  </a:lnTo>
                  <a:lnTo>
                    <a:pt x="0" y="21600"/>
                  </a:lnTo>
                  <a:lnTo>
                    <a:pt x="11466" y="10800"/>
                  </a:lnTo>
                  <a:close/>
                </a:path>
              </a:pathLst>
            </a:custGeom>
            <a:solidFill>
              <a:srgbClr val="3333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anniu副本"/>
          <p:cNvPicPr/>
          <p:nvPr/>
        </p:nvPicPr>
        <p:blipFill>
          <a:blip r:embed="rId2"/>
          <a:stretch/>
        </p:blipFill>
        <p:spPr>
          <a:xfrm>
            <a:off x="628560" y="-1554120"/>
            <a:ext cx="8713800" cy="157788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0" y="1628640"/>
            <a:ext cx="9144000" cy="1179720"/>
            <a:chOff x="0" y="1628640"/>
            <a:chExt cx="9144000" cy="1179720"/>
          </a:xfrm>
        </p:grpSpPr>
        <p:sp>
          <p:nvSpPr>
            <p:cNvPr id="219" name="圆角矩形 1"/>
            <p:cNvSpPr/>
            <p:nvPr/>
          </p:nvSpPr>
          <p:spPr>
            <a:xfrm>
              <a:off x="0" y="1690560"/>
              <a:ext cx="9144000" cy="1080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7f7f7f">
                    <a:alpha val="32156"/>
                  </a:srgbClr>
                </a:gs>
              </a:gsLst>
              <a:lin ang="5400000"/>
            </a:gradFill>
            <a:ln w="9360">
              <a:solidFill>
                <a:srgbClr val="d5e8ea"/>
              </a:solidFill>
              <a:miter/>
            </a:ln>
            <a:effectLst>
              <a:outerShdw dist="20160" dir="5400000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5"/>
            <p:cNvSpPr/>
            <p:nvPr/>
          </p:nvSpPr>
          <p:spPr>
            <a:xfrm>
              <a:off x="1177920" y="1984680"/>
              <a:ext cx="760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1" name="Picture 4" descr=""/>
            <p:cNvPicPr/>
            <p:nvPr/>
          </p:nvPicPr>
          <p:blipFill>
            <a:blip r:embed="rId3"/>
            <a:stretch/>
          </p:blipFill>
          <p:spPr>
            <a:xfrm>
              <a:off x="0" y="1628640"/>
              <a:ext cx="1177920" cy="117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"/>
          <p:cNvGrpSpPr/>
          <p:nvPr/>
        </p:nvGrpSpPr>
        <p:grpSpPr>
          <a:xfrm>
            <a:off x="1101600" y="3402000"/>
            <a:ext cx="7306920" cy="2225520"/>
            <a:chOff x="1101600" y="3402000"/>
            <a:chExt cx="7306920" cy="2225520"/>
          </a:xfrm>
        </p:grpSpPr>
        <p:grpSp>
          <p:nvGrpSpPr>
            <p:cNvPr id="223" name=""/>
            <p:cNvGrpSpPr/>
            <p:nvPr/>
          </p:nvGrpSpPr>
          <p:grpSpPr>
            <a:xfrm>
              <a:off x="1117800" y="4079880"/>
              <a:ext cx="1746720" cy="810720"/>
              <a:chOff x="1117800" y="4079880"/>
              <a:chExt cx="1746720" cy="810720"/>
            </a:xfrm>
          </p:grpSpPr>
          <p:sp>
            <p:nvSpPr>
              <p:cNvPr id="224" name="Freeform 13"/>
              <p:cNvSpPr/>
              <p:nvPr/>
            </p:nvSpPr>
            <p:spPr>
              <a:xfrm>
                <a:off x="1117800" y="4421520"/>
                <a:ext cx="1746720" cy="469080"/>
              </a:xfrm>
              <a:custGeom>
                <a:avLst/>
                <a:gdLst>
                  <a:gd name="textAreaLeft" fmla="*/ 0 w 1746720"/>
                  <a:gd name="textAreaRight" fmla="*/ 1747080 w 1746720"/>
                  <a:gd name="textAreaTop" fmla="*/ 0 h 469080"/>
                  <a:gd name="textAreaBottom" fmla="*/ 469440 h 469080"/>
                </a:gdLst>
                <a:ahLst/>
                <a:rect l="textAreaLeft" t="textAreaTop" r="textAreaRight" b="textAreaBottom"/>
                <a:pathLst>
                  <a:path w="161" h="44">
                    <a:moveTo>
                      <a:pt x="0" y="22"/>
                    </a:moveTo>
                    <a:lnTo>
                      <a:pt x="81" y="0"/>
                    </a:lnTo>
                    <a:lnTo>
                      <a:pt x="161" y="22"/>
                    </a:lnTo>
                    <a:lnTo>
                      <a:pt x="81" y="44"/>
                    </a:lnTo>
                    <a:lnTo>
                      <a:pt x="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caca"/>
                  </a:gs>
                  <a:gs pos="100000">
                    <a:srgbClr val="b2b2b2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  <a:effectLst>
                <a:outerShdw dist="12600" dir="54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1312920" y="4079880"/>
                <a:ext cx="1351800" cy="574560"/>
                <a:chOff x="1312920" y="4079880"/>
                <a:chExt cx="1351800" cy="5745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2084760" y="4079880"/>
                  <a:ext cx="579960" cy="558000"/>
                  <a:chOff x="2084760" y="4079880"/>
                  <a:chExt cx="579960" cy="558000"/>
                </a:xfrm>
              </p:grpSpPr>
              <p:sp>
                <p:nvSpPr>
                  <p:cNvPr id="227" name="Freeform 16"/>
                  <p:cNvSpPr/>
                  <p:nvPr/>
                </p:nvSpPr>
                <p:spPr>
                  <a:xfrm>
                    <a:off x="2084760" y="4079880"/>
                    <a:ext cx="579960" cy="558000"/>
                  </a:xfrm>
                  <a:custGeom>
                    <a:avLst/>
                    <a:gdLst>
                      <a:gd name="textAreaLeft" fmla="*/ 0 w 579960"/>
                      <a:gd name="textAreaRight" fmla="*/ 579960 w 579960"/>
                      <a:gd name="textAreaTop" fmla="*/ 0 h 558000"/>
                      <a:gd name="textAreaBottom" fmla="*/ 558360 h 558000"/>
                    </a:gdLst>
                    <a:ahLst/>
                    <a:rect l="textAreaLeft" t="textAreaTop" r="textAreaRight" b="textAreaBottom"/>
                    <a:pathLst>
                      <a:path w="1535" h="1472">
                        <a:moveTo>
                          <a:pt x="258" y="0"/>
                        </a:moveTo>
                        <a:lnTo>
                          <a:pt x="0" y="69"/>
                        </a:lnTo>
                        <a:lnTo>
                          <a:pt x="0" y="1131"/>
                        </a:lnTo>
                        <a:lnTo>
                          <a:pt x="1280" y="1472"/>
                        </a:lnTo>
                        <a:lnTo>
                          <a:pt x="1280" y="411"/>
                        </a:lnTo>
                        <a:lnTo>
                          <a:pt x="1535" y="343"/>
                        </a:lnTo>
                        <a:lnTo>
                          <a:pt x="258" y="0"/>
                        </a:lnTo>
                        <a:close/>
                      </a:path>
                    </a:pathLst>
                  </a:custGeom>
                  <a:solidFill>
                    <a:srgbClr val="6d6d6c"/>
                  </a:solidFill>
                  <a:ln w="9360">
                    <a:solidFill>
                      <a:srgbClr val="54555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17"/>
                  <p:cNvSpPr/>
                  <p:nvPr/>
                </p:nvSpPr>
                <p:spPr>
                  <a:xfrm>
                    <a:off x="2084760" y="4468680"/>
                    <a:ext cx="579960" cy="155520"/>
                  </a:xfrm>
                  <a:custGeom>
                    <a:avLst/>
                    <a:gdLst>
                      <a:gd name="textAreaLeft" fmla="*/ 0 w 579960"/>
                      <a:gd name="textAreaRight" fmla="*/ 579960 w 579960"/>
                      <a:gd name="textAreaTop" fmla="*/ 0 h 155520"/>
                      <a:gd name="textAreaBottom" fmla="*/ 155880 h 155520"/>
                    </a:gdLst>
                    <a:ahLst/>
                    <a:rect l="textAreaLeft" t="textAreaTop" r="textAreaRight" b="textAreaBottom"/>
                    <a:pathLst>
                      <a:path w="1535" h="410">
                        <a:moveTo>
                          <a:pt x="1535" y="342"/>
                        </a:moveTo>
                        <a:lnTo>
                          <a:pt x="255" y="0"/>
                        </a:lnTo>
                        <a:lnTo>
                          <a:pt x="0" y="68"/>
                        </a:lnTo>
                        <a:lnTo>
                          <a:pt x="1280" y="410"/>
                        </a:lnTo>
                        <a:lnTo>
                          <a:pt x="1535" y="342"/>
                        </a:lnTo>
                        <a:close/>
                      </a:path>
                    </a:pathLst>
                  </a:custGeom>
                  <a:solidFill>
                    <a:srgbClr val="303030"/>
                  </a:solidFill>
                  <a:ln w="9360">
                    <a:solidFill>
                      <a:srgbClr val="54555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18"/>
                  <p:cNvSpPr/>
                  <p:nvPr/>
                </p:nvSpPr>
                <p:spPr>
                  <a:xfrm>
                    <a:off x="2084760" y="4369320"/>
                    <a:ext cx="579960" cy="155520"/>
                  </a:xfrm>
                  <a:custGeom>
                    <a:avLst/>
                    <a:gdLst>
                      <a:gd name="textAreaLeft" fmla="*/ 0 w 579960"/>
                      <a:gd name="textAreaRight" fmla="*/ 579960 w 579960"/>
                      <a:gd name="textAreaTop" fmla="*/ 0 h 155520"/>
                      <a:gd name="textAreaBottom" fmla="*/ 155880 h 155520"/>
                    </a:gdLst>
                    <a:ahLst/>
                    <a:rect l="textAreaLeft" t="textAreaTop" r="textAreaRight" b="textAreaBottom"/>
                    <a:pathLst>
                      <a:path w="1535" h="411">
                        <a:moveTo>
                          <a:pt x="1535" y="342"/>
                        </a:moveTo>
                        <a:lnTo>
                          <a:pt x="255" y="0"/>
                        </a:lnTo>
                        <a:lnTo>
                          <a:pt x="0" y="69"/>
                        </a:lnTo>
                        <a:lnTo>
                          <a:pt x="1280" y="411"/>
                        </a:lnTo>
                        <a:lnTo>
                          <a:pt x="1535" y="342"/>
                        </a:lnTo>
                        <a:close/>
                      </a:path>
                    </a:pathLst>
                  </a:custGeom>
                  <a:solidFill>
                    <a:srgbClr val="303030"/>
                  </a:solidFill>
                  <a:ln w="9360">
                    <a:solidFill>
                      <a:srgbClr val="54555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19"/>
                  <p:cNvSpPr/>
                  <p:nvPr/>
                </p:nvSpPr>
                <p:spPr>
                  <a:xfrm>
                    <a:off x="2084760" y="4267800"/>
                    <a:ext cx="579960" cy="155160"/>
                  </a:xfrm>
                  <a:custGeom>
                    <a:avLst/>
                    <a:gdLst>
                      <a:gd name="textAreaLeft" fmla="*/ 0 w 579960"/>
                      <a:gd name="textAreaRight" fmla="*/ 579960 w 57996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1535" h="411">
                        <a:moveTo>
                          <a:pt x="1535" y="343"/>
                        </a:moveTo>
                        <a:lnTo>
                          <a:pt x="255" y="0"/>
                        </a:lnTo>
                        <a:lnTo>
                          <a:pt x="0" y="69"/>
                        </a:lnTo>
                        <a:lnTo>
                          <a:pt x="1280" y="411"/>
                        </a:lnTo>
                        <a:lnTo>
                          <a:pt x="1535" y="343"/>
                        </a:lnTo>
                        <a:close/>
                      </a:path>
                    </a:pathLst>
                  </a:custGeom>
                  <a:solidFill>
                    <a:srgbClr val="303030"/>
                  </a:solidFill>
                  <a:ln w="9360">
                    <a:solidFill>
                      <a:srgbClr val="54555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20"/>
                  <p:cNvSpPr/>
                  <p:nvPr/>
                </p:nvSpPr>
                <p:spPr>
                  <a:xfrm>
                    <a:off x="2084760" y="4167000"/>
                    <a:ext cx="579960" cy="155520"/>
                  </a:xfrm>
                  <a:custGeom>
                    <a:avLst/>
                    <a:gdLst>
                      <a:gd name="textAreaLeft" fmla="*/ 0 w 579960"/>
                      <a:gd name="textAreaRight" fmla="*/ 579960 w 579960"/>
                      <a:gd name="textAreaTop" fmla="*/ 0 h 155520"/>
                      <a:gd name="textAreaBottom" fmla="*/ 155880 h 155520"/>
                    </a:gdLst>
                    <a:ahLst/>
                    <a:rect l="textAreaLeft" t="textAreaTop" r="textAreaRight" b="textAreaBottom"/>
                    <a:pathLst>
                      <a:path w="1535" h="408">
                        <a:moveTo>
                          <a:pt x="1535" y="340"/>
                        </a:moveTo>
                        <a:lnTo>
                          <a:pt x="255" y="0"/>
                        </a:lnTo>
                        <a:lnTo>
                          <a:pt x="0" y="68"/>
                        </a:lnTo>
                        <a:lnTo>
                          <a:pt x="1280" y="408"/>
                        </a:lnTo>
                        <a:lnTo>
                          <a:pt x="1535" y="340"/>
                        </a:lnTo>
                        <a:close/>
                      </a:path>
                    </a:pathLst>
                  </a:custGeom>
                  <a:solidFill>
                    <a:srgbClr val="303030"/>
                  </a:solidFill>
                  <a:ln w="9360">
                    <a:solidFill>
                      <a:srgbClr val="54555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2084760" y="4105080"/>
                    <a:ext cx="483480" cy="532080"/>
                    <a:chOff x="2084760" y="4105080"/>
                    <a:chExt cx="483480" cy="532080"/>
                  </a:xfrm>
                </p:grpSpPr>
                <p:sp>
                  <p:nvSpPr>
                    <p:cNvPr id="233" name="Freeform 22"/>
                    <p:cNvSpPr/>
                    <p:nvPr/>
                  </p:nvSpPr>
                  <p:spPr>
                    <a:xfrm>
                      <a:off x="2084760" y="4406400"/>
                      <a:ext cx="483480" cy="230760"/>
                    </a:xfrm>
                    <a:custGeom>
                      <a:avLst/>
                      <a:gdLst>
                        <a:gd name="textAreaLeft" fmla="*/ 0 w 483480"/>
                        <a:gd name="textAreaRight" fmla="*/ 483840 w 483480"/>
                        <a:gd name="textAreaTop" fmla="*/ 0 h 230760"/>
                        <a:gd name="textAreaBottom" fmla="*/ 230760 h 230760"/>
                      </a:gdLst>
                      <a:ahLst/>
                      <a:rect l="textAreaLeft" t="textAreaTop" r="textAreaRight" b="textAreaBottom"/>
                      <a:pathLst>
                        <a:path w="1280" h="607">
                          <a:moveTo>
                            <a:pt x="0" y="0"/>
                          </a:moveTo>
                          <a:lnTo>
                            <a:pt x="0" y="264"/>
                          </a:lnTo>
                          <a:lnTo>
                            <a:pt x="1280" y="607"/>
                          </a:lnTo>
                          <a:lnTo>
                            <a:pt x="1280" y="342"/>
                          </a:lnTo>
                          <a:lnTo>
                            <a:pt x="0" y="0"/>
                          </a:lnTo>
                          <a:close/>
                          <a:moveTo>
                            <a:pt x="1250" y="566"/>
                          </a:moveTo>
                          <a:lnTo>
                            <a:pt x="33" y="240"/>
                          </a:lnTo>
                          <a:lnTo>
                            <a:pt x="33" y="42"/>
                          </a:lnTo>
                          <a:lnTo>
                            <a:pt x="1247" y="368"/>
                          </a:lnTo>
                          <a:lnTo>
                            <a:pt x="1250" y="368"/>
                          </a:lnTo>
                          <a:lnTo>
                            <a:pt x="1250" y="566"/>
                          </a:lnTo>
                          <a:close/>
                        </a:path>
                      </a:pathLst>
                    </a:custGeom>
                    <a:solidFill>
                      <a:srgbClr val="545554"/>
                    </a:solidFill>
                    <a:ln w="9360">
                      <a:solidFill>
                        <a:srgbClr val="54555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Freeform 23"/>
                    <p:cNvSpPr/>
                    <p:nvPr/>
                  </p:nvSpPr>
                  <p:spPr>
                    <a:xfrm>
                      <a:off x="2084760" y="4305960"/>
                      <a:ext cx="483480" cy="230760"/>
                    </a:xfrm>
                    <a:custGeom>
                      <a:avLst/>
                      <a:gdLst>
                        <a:gd name="textAreaLeft" fmla="*/ 0 w 483480"/>
                        <a:gd name="textAreaRight" fmla="*/ 483840 w 483480"/>
                        <a:gd name="textAreaTop" fmla="*/ 0 h 230760"/>
                        <a:gd name="textAreaBottom" fmla="*/ 230760 h 230760"/>
                      </a:gdLst>
                      <a:ahLst/>
                      <a:rect l="textAreaLeft" t="textAreaTop" r="textAreaRight" b="textAreaBottom"/>
                      <a:pathLst>
                        <a:path w="1280" h="607">
                          <a:moveTo>
                            <a:pt x="0" y="0"/>
                          </a:moveTo>
                          <a:lnTo>
                            <a:pt x="0" y="265"/>
                          </a:lnTo>
                          <a:lnTo>
                            <a:pt x="1280" y="607"/>
                          </a:lnTo>
                          <a:lnTo>
                            <a:pt x="1280" y="343"/>
                          </a:lnTo>
                          <a:lnTo>
                            <a:pt x="0" y="0"/>
                          </a:lnTo>
                          <a:close/>
                          <a:moveTo>
                            <a:pt x="1250" y="565"/>
                          </a:moveTo>
                          <a:lnTo>
                            <a:pt x="33" y="241"/>
                          </a:lnTo>
                          <a:lnTo>
                            <a:pt x="33" y="43"/>
                          </a:lnTo>
                          <a:lnTo>
                            <a:pt x="1247" y="366"/>
                          </a:lnTo>
                          <a:lnTo>
                            <a:pt x="1250" y="366"/>
                          </a:lnTo>
                          <a:lnTo>
                            <a:pt x="1250" y="565"/>
                          </a:lnTo>
                          <a:close/>
                        </a:path>
                      </a:pathLst>
                    </a:custGeom>
                    <a:solidFill>
                      <a:srgbClr val="545554"/>
                    </a:solidFill>
                    <a:ln w="9360">
                      <a:solidFill>
                        <a:srgbClr val="54555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4"/>
                    <p:cNvSpPr/>
                    <p:nvPr/>
                  </p:nvSpPr>
                  <p:spPr>
                    <a:xfrm>
                      <a:off x="2084760" y="4205520"/>
                      <a:ext cx="483480" cy="230400"/>
                    </a:xfrm>
                    <a:custGeom>
                      <a:avLst/>
                      <a:gdLst>
                        <a:gd name="textAreaLeft" fmla="*/ 0 w 483480"/>
                        <a:gd name="textAreaRight" fmla="*/ 483840 w 483480"/>
                        <a:gd name="textAreaTop" fmla="*/ 0 h 230400"/>
                        <a:gd name="textAreaBottom" fmla="*/ 230760 h 230400"/>
                      </a:gdLst>
                      <a:ahLst/>
                      <a:rect l="textAreaLeft" t="textAreaTop" r="textAreaRight" b="textAreaBottom"/>
                      <a:pathLst>
                        <a:path w="1280" h="607">
                          <a:moveTo>
                            <a:pt x="0" y="0"/>
                          </a:moveTo>
                          <a:lnTo>
                            <a:pt x="0" y="265"/>
                          </a:lnTo>
                          <a:lnTo>
                            <a:pt x="1280" y="607"/>
                          </a:lnTo>
                          <a:lnTo>
                            <a:pt x="1280" y="343"/>
                          </a:lnTo>
                          <a:lnTo>
                            <a:pt x="0" y="0"/>
                          </a:lnTo>
                          <a:close/>
                          <a:moveTo>
                            <a:pt x="1250" y="567"/>
                          </a:moveTo>
                          <a:lnTo>
                            <a:pt x="33" y="241"/>
                          </a:lnTo>
                          <a:lnTo>
                            <a:pt x="33" y="43"/>
                          </a:lnTo>
                          <a:lnTo>
                            <a:pt x="1247" y="366"/>
                          </a:lnTo>
                          <a:lnTo>
                            <a:pt x="1250" y="366"/>
                          </a:lnTo>
                          <a:lnTo>
                            <a:pt x="1250" y="567"/>
                          </a:lnTo>
                          <a:close/>
                        </a:path>
                      </a:pathLst>
                    </a:custGeom>
                    <a:solidFill>
                      <a:srgbClr val="545554"/>
                    </a:solidFill>
                    <a:ln w="9360">
                      <a:solidFill>
                        <a:srgbClr val="54555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Freeform 25"/>
                    <p:cNvSpPr/>
                    <p:nvPr/>
                  </p:nvSpPr>
                  <p:spPr>
                    <a:xfrm>
                      <a:off x="2084760" y="4105080"/>
                      <a:ext cx="483480" cy="230400"/>
                    </a:xfrm>
                    <a:custGeom>
                      <a:avLst/>
                      <a:gdLst>
                        <a:gd name="textAreaLeft" fmla="*/ 0 w 483480"/>
                        <a:gd name="textAreaRight" fmla="*/ 483840 w 483480"/>
                        <a:gd name="textAreaTop" fmla="*/ 0 h 230400"/>
                        <a:gd name="textAreaBottom" fmla="*/ 230760 h 230400"/>
                      </a:gdLst>
                      <a:ahLst/>
                      <a:rect l="textAreaLeft" t="textAreaTop" r="textAreaRight" b="textAreaBottom"/>
                      <a:pathLst>
                        <a:path w="1280" h="607">
                          <a:moveTo>
                            <a:pt x="0" y="0"/>
                          </a:moveTo>
                          <a:lnTo>
                            <a:pt x="0" y="264"/>
                          </a:lnTo>
                          <a:lnTo>
                            <a:pt x="1280" y="607"/>
                          </a:lnTo>
                          <a:lnTo>
                            <a:pt x="1280" y="342"/>
                          </a:lnTo>
                          <a:lnTo>
                            <a:pt x="0" y="0"/>
                          </a:lnTo>
                          <a:close/>
                          <a:moveTo>
                            <a:pt x="1250" y="564"/>
                          </a:moveTo>
                          <a:lnTo>
                            <a:pt x="33" y="241"/>
                          </a:lnTo>
                          <a:lnTo>
                            <a:pt x="33" y="40"/>
                          </a:lnTo>
                          <a:lnTo>
                            <a:pt x="1247" y="366"/>
                          </a:lnTo>
                          <a:lnTo>
                            <a:pt x="1250" y="366"/>
                          </a:lnTo>
                          <a:lnTo>
                            <a:pt x="1250" y="564"/>
                          </a:lnTo>
                          <a:close/>
                        </a:path>
                      </a:pathLst>
                    </a:custGeom>
                    <a:solidFill>
                      <a:srgbClr val="545554"/>
                    </a:solidFill>
                    <a:ln w="9360">
                      <a:solidFill>
                        <a:srgbClr val="54555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7" name="Freeform 26"/>
                  <p:cNvSpPr/>
                  <p:nvPr/>
                </p:nvSpPr>
                <p:spPr>
                  <a:xfrm>
                    <a:off x="2568240" y="4209840"/>
                    <a:ext cx="96480" cy="427680"/>
                  </a:xfrm>
                  <a:custGeom>
                    <a:avLst/>
                    <a:gdLst>
                      <a:gd name="textAreaLeft" fmla="*/ 0 w 96480"/>
                      <a:gd name="textAreaRight" fmla="*/ 96840 w 96480"/>
                      <a:gd name="textAreaTop" fmla="*/ 0 h 427680"/>
                      <a:gd name="textAreaBottom" fmla="*/ 428040 h 427680"/>
                    </a:gdLst>
                    <a:ahLst/>
                    <a:rect l="textAreaLeft" t="textAreaTop" r="textAreaRight" b="textAreaBottom"/>
                    <a:pathLst>
                      <a:path w="255" h="1129">
                        <a:moveTo>
                          <a:pt x="0" y="68"/>
                        </a:moveTo>
                        <a:lnTo>
                          <a:pt x="0" y="333"/>
                        </a:lnTo>
                        <a:lnTo>
                          <a:pt x="0" y="373"/>
                        </a:lnTo>
                        <a:lnTo>
                          <a:pt x="0" y="564"/>
                        </a:lnTo>
                        <a:lnTo>
                          <a:pt x="0" y="597"/>
                        </a:lnTo>
                        <a:lnTo>
                          <a:pt x="0" y="864"/>
                        </a:lnTo>
                        <a:lnTo>
                          <a:pt x="0" y="897"/>
                        </a:lnTo>
                        <a:lnTo>
                          <a:pt x="0" y="1129"/>
                        </a:lnTo>
                        <a:lnTo>
                          <a:pt x="255" y="1060"/>
                        </a:lnTo>
                        <a:lnTo>
                          <a:pt x="255" y="829"/>
                        </a:lnTo>
                        <a:lnTo>
                          <a:pt x="255" y="796"/>
                        </a:lnTo>
                        <a:lnTo>
                          <a:pt x="255" y="529"/>
                        </a:lnTo>
                        <a:lnTo>
                          <a:pt x="255" y="496"/>
                        </a:lnTo>
                        <a:lnTo>
                          <a:pt x="255" y="304"/>
                        </a:lnTo>
                        <a:lnTo>
                          <a:pt x="255" y="264"/>
                        </a:lnTo>
                        <a:lnTo>
                          <a:pt x="255" y="0"/>
                        </a:lnTo>
                        <a:lnTo>
                          <a:pt x="0" y="68"/>
                        </a:lnTo>
                        <a:close/>
                      </a:path>
                    </a:pathLst>
                  </a:custGeom>
                  <a:solidFill>
                    <a:srgbClr val="828282"/>
                  </a:solidFill>
                  <a:ln w="9360">
                    <a:solidFill>
                      <a:srgbClr val="54555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1312920" y="4083120"/>
                  <a:ext cx="575280" cy="554040"/>
                  <a:chOff x="1312920" y="4083120"/>
                  <a:chExt cx="575280" cy="554040"/>
                </a:xfrm>
              </p:grpSpPr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1312920" y="4083120"/>
                    <a:ext cx="575280" cy="554040"/>
                    <a:chOff x="1312920" y="4083120"/>
                    <a:chExt cx="575280" cy="554040"/>
                  </a:xfrm>
                </p:grpSpPr>
                <p:grpSp>
                  <p:nvGrpSpPr>
                    <p:cNvPr id="240" name=""/>
                    <p:cNvGrpSpPr/>
                    <p:nvPr/>
                  </p:nvGrpSpPr>
                  <p:grpSpPr>
                    <a:xfrm>
                      <a:off x="1312920" y="4382640"/>
                      <a:ext cx="575280" cy="254520"/>
                      <a:chOff x="1312920" y="4382640"/>
                      <a:chExt cx="575280" cy="254520"/>
                    </a:xfrm>
                  </p:grpSpPr>
                  <p:grpSp>
                    <p:nvGrpSpPr>
                      <p:cNvPr id="241" name=""/>
                      <p:cNvGrpSpPr/>
                      <p:nvPr/>
                    </p:nvGrpSpPr>
                    <p:grpSpPr>
                      <a:xfrm>
                        <a:off x="1696680" y="4382640"/>
                        <a:ext cx="191520" cy="151200"/>
                        <a:chOff x="1696680" y="4382640"/>
                        <a:chExt cx="191520" cy="151200"/>
                      </a:xfrm>
                    </p:grpSpPr>
                    <p:sp>
                      <p:nvSpPr>
                        <p:cNvPr id="242" name="Freeform 31"/>
                        <p:cNvSpPr/>
                        <p:nvPr/>
                      </p:nvSpPr>
                      <p:spPr>
                        <a:xfrm flipH="1">
                          <a:off x="1792440" y="438264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Freeform 32"/>
                        <p:cNvSpPr/>
                        <p:nvPr/>
                      </p:nvSpPr>
                      <p:spPr>
                        <a:xfrm flipH="1">
                          <a:off x="1696680" y="446976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" bIns="4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Freeform 33"/>
                        <p:cNvSpPr/>
                        <p:nvPr/>
                      </p:nvSpPr>
                      <p:spPr>
                        <a:xfrm flipH="1">
                          <a:off x="1696680" y="440820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Freeform 34"/>
                        <p:cNvSpPr/>
                        <p:nvPr/>
                      </p:nvSpPr>
                      <p:spPr>
                        <a:xfrm flipH="1">
                          <a:off x="1792440" y="440820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Freeform 35"/>
                        <p:cNvSpPr/>
                        <p:nvPr/>
                      </p:nvSpPr>
                      <p:spPr>
                        <a:xfrm flipH="1">
                          <a:off x="1696680" y="4382640"/>
                          <a:ext cx="191520" cy="5148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47" name=""/>
                      <p:cNvGrpSpPr/>
                      <p:nvPr/>
                    </p:nvGrpSpPr>
                    <p:grpSpPr>
                      <a:xfrm>
                        <a:off x="1600200" y="4408200"/>
                        <a:ext cx="192240" cy="151200"/>
                        <a:chOff x="1600200" y="4408200"/>
                        <a:chExt cx="192240" cy="151200"/>
                      </a:xfrm>
                    </p:grpSpPr>
                    <p:sp>
                      <p:nvSpPr>
                        <p:cNvPr id="248" name="Freeform 37"/>
                        <p:cNvSpPr/>
                        <p:nvPr/>
                      </p:nvSpPr>
                      <p:spPr>
                        <a:xfrm flipH="1">
                          <a:off x="1695960" y="4408200"/>
                          <a:ext cx="96120" cy="125640"/>
                        </a:xfrm>
                        <a:custGeom>
                          <a:avLst/>
                          <a:gdLst>
                            <a:gd name="textAreaLeft" fmla="*/ -360 w 96120"/>
                            <a:gd name="textAreaRight" fmla="*/ 96120 w 9612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Freeform 38"/>
                        <p:cNvSpPr/>
                        <p:nvPr/>
                      </p:nvSpPr>
                      <p:spPr>
                        <a:xfrm flipH="1">
                          <a:off x="1600200" y="4495320"/>
                          <a:ext cx="192240" cy="51120"/>
                        </a:xfrm>
                        <a:custGeom>
                          <a:avLst/>
                          <a:gdLst>
                            <a:gd name="textAreaLeft" fmla="*/ 360 w 192240"/>
                            <a:gd name="textAreaRight" fmla="*/ 192960 w 19224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" bIns="4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Freeform 39"/>
                        <p:cNvSpPr/>
                        <p:nvPr/>
                      </p:nvSpPr>
                      <p:spPr>
                        <a:xfrm flipH="1">
                          <a:off x="1599840" y="4433760"/>
                          <a:ext cx="96120" cy="125640"/>
                        </a:xfrm>
                        <a:custGeom>
                          <a:avLst/>
                          <a:gdLst>
                            <a:gd name="textAreaLeft" fmla="*/ -360 w 96120"/>
                            <a:gd name="textAreaRight" fmla="*/ 96120 w 9612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Freeform 40"/>
                        <p:cNvSpPr/>
                        <p:nvPr/>
                      </p:nvSpPr>
                      <p:spPr>
                        <a:xfrm flipH="1">
                          <a:off x="1695960" y="4433760"/>
                          <a:ext cx="96120" cy="125640"/>
                        </a:xfrm>
                        <a:custGeom>
                          <a:avLst/>
                          <a:gdLst>
                            <a:gd name="textAreaLeft" fmla="*/ -360 w 96120"/>
                            <a:gd name="textAreaRight" fmla="*/ 96120 w 9612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Freeform 41"/>
                        <p:cNvSpPr/>
                        <p:nvPr/>
                      </p:nvSpPr>
                      <p:spPr>
                        <a:xfrm flipH="1">
                          <a:off x="1600200" y="4408200"/>
                          <a:ext cx="192240" cy="51480"/>
                        </a:xfrm>
                        <a:custGeom>
                          <a:avLst/>
                          <a:gdLst>
                            <a:gd name="textAreaLeft" fmla="*/ 360 w 192240"/>
                            <a:gd name="textAreaRight" fmla="*/ 192960 w 19224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53" name=""/>
                      <p:cNvGrpSpPr/>
                      <p:nvPr/>
                    </p:nvGrpSpPr>
                    <p:grpSpPr>
                      <a:xfrm>
                        <a:off x="1504440" y="4434120"/>
                        <a:ext cx="191520" cy="151560"/>
                        <a:chOff x="1504440" y="4434120"/>
                        <a:chExt cx="191520" cy="151560"/>
                      </a:xfrm>
                    </p:grpSpPr>
                    <p:sp>
                      <p:nvSpPr>
                        <p:cNvPr id="254" name="Freeform 43"/>
                        <p:cNvSpPr/>
                        <p:nvPr/>
                      </p:nvSpPr>
                      <p:spPr>
                        <a:xfrm flipH="1">
                          <a:off x="1600200" y="443412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Freeform 44"/>
                        <p:cNvSpPr/>
                        <p:nvPr/>
                      </p:nvSpPr>
                      <p:spPr>
                        <a:xfrm flipH="1">
                          <a:off x="1504440" y="4521240"/>
                          <a:ext cx="191520" cy="5148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Freeform 45"/>
                        <p:cNvSpPr/>
                        <p:nvPr/>
                      </p:nvSpPr>
                      <p:spPr>
                        <a:xfrm flipH="1">
                          <a:off x="1504440" y="4459680"/>
                          <a:ext cx="95760" cy="12600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6000"/>
                            <a:gd name="textAreaBottom" fmla="*/ 126360 h 12600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Freeform 46"/>
                        <p:cNvSpPr/>
                        <p:nvPr/>
                      </p:nvSpPr>
                      <p:spPr>
                        <a:xfrm flipH="1">
                          <a:off x="1600200" y="4459680"/>
                          <a:ext cx="95760" cy="12600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6000"/>
                            <a:gd name="textAreaBottom" fmla="*/ 126360 h 12600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Freeform 47"/>
                        <p:cNvSpPr/>
                        <p:nvPr/>
                      </p:nvSpPr>
                      <p:spPr>
                        <a:xfrm flipH="1">
                          <a:off x="1504440" y="4434120"/>
                          <a:ext cx="191520" cy="5148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59" name=""/>
                      <p:cNvGrpSpPr/>
                      <p:nvPr/>
                    </p:nvGrpSpPr>
                    <p:grpSpPr>
                      <a:xfrm>
                        <a:off x="1408320" y="4460040"/>
                        <a:ext cx="191520" cy="151200"/>
                        <a:chOff x="1408320" y="4460040"/>
                        <a:chExt cx="191520" cy="151200"/>
                      </a:xfrm>
                    </p:grpSpPr>
                    <p:sp>
                      <p:nvSpPr>
                        <p:cNvPr id="260" name="Freeform 49"/>
                        <p:cNvSpPr/>
                        <p:nvPr/>
                      </p:nvSpPr>
                      <p:spPr>
                        <a:xfrm flipH="1">
                          <a:off x="1504080" y="446004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Freeform 50"/>
                        <p:cNvSpPr/>
                        <p:nvPr/>
                      </p:nvSpPr>
                      <p:spPr>
                        <a:xfrm flipH="1">
                          <a:off x="1408320" y="454716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" bIns="4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Freeform 51"/>
                        <p:cNvSpPr/>
                        <p:nvPr/>
                      </p:nvSpPr>
                      <p:spPr>
                        <a:xfrm flipH="1">
                          <a:off x="1408320" y="448560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" name="Freeform 52"/>
                        <p:cNvSpPr/>
                        <p:nvPr/>
                      </p:nvSpPr>
                      <p:spPr>
                        <a:xfrm flipH="1">
                          <a:off x="1504080" y="448560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4" name="Freeform 53"/>
                        <p:cNvSpPr/>
                        <p:nvPr/>
                      </p:nvSpPr>
                      <p:spPr>
                        <a:xfrm flipH="1">
                          <a:off x="1408320" y="4460040"/>
                          <a:ext cx="191520" cy="5148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65" name=""/>
                      <p:cNvGrpSpPr/>
                      <p:nvPr/>
                    </p:nvGrpSpPr>
                    <p:grpSpPr>
                      <a:xfrm>
                        <a:off x="1312920" y="4485960"/>
                        <a:ext cx="191520" cy="151200"/>
                        <a:chOff x="1312920" y="4485960"/>
                        <a:chExt cx="191520" cy="151200"/>
                      </a:xfrm>
                    </p:grpSpPr>
                    <p:sp>
                      <p:nvSpPr>
                        <p:cNvPr id="266" name="Freeform 55"/>
                        <p:cNvSpPr/>
                        <p:nvPr/>
                      </p:nvSpPr>
                      <p:spPr>
                        <a:xfrm flipH="1">
                          <a:off x="1408680" y="448596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7" name="Freeform 56"/>
                        <p:cNvSpPr/>
                        <p:nvPr/>
                      </p:nvSpPr>
                      <p:spPr>
                        <a:xfrm flipH="1">
                          <a:off x="1312920" y="457308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" bIns="4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8" name="Freeform 57"/>
                        <p:cNvSpPr/>
                        <p:nvPr/>
                      </p:nvSpPr>
                      <p:spPr>
                        <a:xfrm flipH="1">
                          <a:off x="1312920" y="451152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9" name="Freeform 58"/>
                        <p:cNvSpPr/>
                        <p:nvPr/>
                      </p:nvSpPr>
                      <p:spPr>
                        <a:xfrm flipH="1">
                          <a:off x="1408680" y="451152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0" name="Freeform 59"/>
                        <p:cNvSpPr/>
                        <p:nvPr/>
                      </p:nvSpPr>
                      <p:spPr>
                        <a:xfrm flipH="1">
                          <a:off x="1312920" y="4485960"/>
                          <a:ext cx="191520" cy="5148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71" name=""/>
                    <p:cNvGrpSpPr/>
                    <p:nvPr/>
                  </p:nvGrpSpPr>
                  <p:grpSpPr>
                    <a:xfrm>
                      <a:off x="1312920" y="4282920"/>
                      <a:ext cx="575280" cy="254520"/>
                      <a:chOff x="1312920" y="4282920"/>
                      <a:chExt cx="575280" cy="254520"/>
                    </a:xfrm>
                  </p:grpSpPr>
                  <p:grpSp>
                    <p:nvGrpSpPr>
                      <p:cNvPr id="272" name=""/>
                      <p:cNvGrpSpPr/>
                      <p:nvPr/>
                    </p:nvGrpSpPr>
                    <p:grpSpPr>
                      <a:xfrm>
                        <a:off x="1696680" y="4282920"/>
                        <a:ext cx="191520" cy="151200"/>
                        <a:chOff x="1696680" y="4282920"/>
                        <a:chExt cx="191520" cy="151200"/>
                      </a:xfrm>
                    </p:grpSpPr>
                    <p:sp>
                      <p:nvSpPr>
                        <p:cNvPr id="273" name="Freeform 62"/>
                        <p:cNvSpPr/>
                        <p:nvPr/>
                      </p:nvSpPr>
                      <p:spPr>
                        <a:xfrm flipH="1">
                          <a:off x="1792440" y="428292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" name="Freeform 63"/>
                        <p:cNvSpPr/>
                        <p:nvPr/>
                      </p:nvSpPr>
                      <p:spPr>
                        <a:xfrm flipH="1">
                          <a:off x="1696680" y="437004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" bIns="4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" name="Freeform 64"/>
                        <p:cNvSpPr/>
                        <p:nvPr/>
                      </p:nvSpPr>
                      <p:spPr>
                        <a:xfrm flipH="1">
                          <a:off x="1696680" y="430848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6" name="Freeform 65"/>
                        <p:cNvSpPr/>
                        <p:nvPr/>
                      </p:nvSpPr>
                      <p:spPr>
                        <a:xfrm flipH="1">
                          <a:off x="1792440" y="430848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Freeform 66"/>
                        <p:cNvSpPr/>
                        <p:nvPr/>
                      </p:nvSpPr>
                      <p:spPr>
                        <a:xfrm flipH="1">
                          <a:off x="1696680" y="4282920"/>
                          <a:ext cx="191520" cy="5148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8" name=""/>
                      <p:cNvGrpSpPr/>
                      <p:nvPr/>
                    </p:nvGrpSpPr>
                    <p:grpSpPr>
                      <a:xfrm>
                        <a:off x="1600200" y="4308480"/>
                        <a:ext cx="192240" cy="151200"/>
                        <a:chOff x="1600200" y="4308480"/>
                        <a:chExt cx="192240" cy="151200"/>
                      </a:xfrm>
                    </p:grpSpPr>
                    <p:sp>
                      <p:nvSpPr>
                        <p:cNvPr id="279" name="Freeform 68"/>
                        <p:cNvSpPr/>
                        <p:nvPr/>
                      </p:nvSpPr>
                      <p:spPr>
                        <a:xfrm flipH="1">
                          <a:off x="1695960" y="4308480"/>
                          <a:ext cx="96120" cy="125640"/>
                        </a:xfrm>
                        <a:custGeom>
                          <a:avLst/>
                          <a:gdLst>
                            <a:gd name="textAreaLeft" fmla="*/ -360 w 96120"/>
                            <a:gd name="textAreaRight" fmla="*/ 96120 w 9612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Freeform 69"/>
                        <p:cNvSpPr/>
                        <p:nvPr/>
                      </p:nvSpPr>
                      <p:spPr>
                        <a:xfrm flipH="1">
                          <a:off x="1600200" y="4395600"/>
                          <a:ext cx="192240" cy="51120"/>
                        </a:xfrm>
                        <a:custGeom>
                          <a:avLst/>
                          <a:gdLst>
                            <a:gd name="textAreaLeft" fmla="*/ 360 w 192240"/>
                            <a:gd name="textAreaRight" fmla="*/ 192960 w 19224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" bIns="4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Freeform 70"/>
                        <p:cNvSpPr/>
                        <p:nvPr/>
                      </p:nvSpPr>
                      <p:spPr>
                        <a:xfrm flipH="1">
                          <a:off x="1599840" y="4334040"/>
                          <a:ext cx="96120" cy="125640"/>
                        </a:xfrm>
                        <a:custGeom>
                          <a:avLst/>
                          <a:gdLst>
                            <a:gd name="textAreaLeft" fmla="*/ -360 w 96120"/>
                            <a:gd name="textAreaRight" fmla="*/ 96120 w 9612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Freeform 71"/>
                        <p:cNvSpPr/>
                        <p:nvPr/>
                      </p:nvSpPr>
                      <p:spPr>
                        <a:xfrm flipH="1">
                          <a:off x="1695960" y="4334040"/>
                          <a:ext cx="96120" cy="125640"/>
                        </a:xfrm>
                        <a:custGeom>
                          <a:avLst/>
                          <a:gdLst>
                            <a:gd name="textAreaLeft" fmla="*/ -360 w 96120"/>
                            <a:gd name="textAreaRight" fmla="*/ 96120 w 9612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Freeform 72"/>
                        <p:cNvSpPr/>
                        <p:nvPr/>
                      </p:nvSpPr>
                      <p:spPr>
                        <a:xfrm flipH="1">
                          <a:off x="1600200" y="4308480"/>
                          <a:ext cx="192240" cy="51480"/>
                        </a:xfrm>
                        <a:custGeom>
                          <a:avLst/>
                          <a:gdLst>
                            <a:gd name="textAreaLeft" fmla="*/ 360 w 192240"/>
                            <a:gd name="textAreaRight" fmla="*/ 192960 w 19224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4" name=""/>
                      <p:cNvGrpSpPr/>
                      <p:nvPr/>
                    </p:nvGrpSpPr>
                    <p:grpSpPr>
                      <a:xfrm>
                        <a:off x="1504440" y="4334400"/>
                        <a:ext cx="191520" cy="151560"/>
                        <a:chOff x="1504440" y="4334400"/>
                        <a:chExt cx="191520" cy="151560"/>
                      </a:xfrm>
                    </p:grpSpPr>
                    <p:sp>
                      <p:nvSpPr>
                        <p:cNvPr id="285" name="Freeform 74"/>
                        <p:cNvSpPr/>
                        <p:nvPr/>
                      </p:nvSpPr>
                      <p:spPr>
                        <a:xfrm flipH="1">
                          <a:off x="1600200" y="433440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Freeform 75"/>
                        <p:cNvSpPr/>
                        <p:nvPr/>
                      </p:nvSpPr>
                      <p:spPr>
                        <a:xfrm flipH="1">
                          <a:off x="1504440" y="4421520"/>
                          <a:ext cx="191520" cy="5148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Freeform 76"/>
                        <p:cNvSpPr/>
                        <p:nvPr/>
                      </p:nvSpPr>
                      <p:spPr>
                        <a:xfrm flipH="1">
                          <a:off x="1504440" y="4359960"/>
                          <a:ext cx="95760" cy="12600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6000"/>
                            <a:gd name="textAreaBottom" fmla="*/ 126360 h 12600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Freeform 77"/>
                        <p:cNvSpPr/>
                        <p:nvPr/>
                      </p:nvSpPr>
                      <p:spPr>
                        <a:xfrm flipH="1">
                          <a:off x="1600200" y="4359960"/>
                          <a:ext cx="95760" cy="12600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6000"/>
                            <a:gd name="textAreaBottom" fmla="*/ 126360 h 12600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Freeform 78"/>
                        <p:cNvSpPr/>
                        <p:nvPr/>
                      </p:nvSpPr>
                      <p:spPr>
                        <a:xfrm flipH="1">
                          <a:off x="1504440" y="4334400"/>
                          <a:ext cx="191520" cy="5148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0" name=""/>
                      <p:cNvGrpSpPr/>
                      <p:nvPr/>
                    </p:nvGrpSpPr>
                    <p:grpSpPr>
                      <a:xfrm>
                        <a:off x="1408320" y="4360320"/>
                        <a:ext cx="191520" cy="151200"/>
                        <a:chOff x="1408320" y="4360320"/>
                        <a:chExt cx="191520" cy="151200"/>
                      </a:xfrm>
                    </p:grpSpPr>
                    <p:sp>
                      <p:nvSpPr>
                        <p:cNvPr id="291" name="Freeform 80"/>
                        <p:cNvSpPr/>
                        <p:nvPr/>
                      </p:nvSpPr>
                      <p:spPr>
                        <a:xfrm flipH="1">
                          <a:off x="1504080" y="436032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Freeform 81"/>
                        <p:cNvSpPr/>
                        <p:nvPr/>
                      </p:nvSpPr>
                      <p:spPr>
                        <a:xfrm flipH="1">
                          <a:off x="1408320" y="444744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" bIns="4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Freeform 82"/>
                        <p:cNvSpPr/>
                        <p:nvPr/>
                      </p:nvSpPr>
                      <p:spPr>
                        <a:xfrm flipH="1">
                          <a:off x="1408320" y="438588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Freeform 83"/>
                        <p:cNvSpPr/>
                        <p:nvPr/>
                      </p:nvSpPr>
                      <p:spPr>
                        <a:xfrm flipH="1">
                          <a:off x="1504080" y="438588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Freeform 84"/>
                        <p:cNvSpPr/>
                        <p:nvPr/>
                      </p:nvSpPr>
                      <p:spPr>
                        <a:xfrm flipH="1">
                          <a:off x="1408320" y="4360320"/>
                          <a:ext cx="191520" cy="5148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" name=""/>
                      <p:cNvGrpSpPr/>
                      <p:nvPr/>
                    </p:nvGrpSpPr>
                    <p:grpSpPr>
                      <a:xfrm>
                        <a:off x="1312920" y="4386240"/>
                        <a:ext cx="191520" cy="151200"/>
                        <a:chOff x="1312920" y="4386240"/>
                        <a:chExt cx="191520" cy="151200"/>
                      </a:xfrm>
                    </p:grpSpPr>
                    <p:sp>
                      <p:nvSpPr>
                        <p:cNvPr id="297" name="Freeform 86"/>
                        <p:cNvSpPr/>
                        <p:nvPr/>
                      </p:nvSpPr>
                      <p:spPr>
                        <a:xfrm flipH="1">
                          <a:off x="1408680" y="438624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Freeform 87"/>
                        <p:cNvSpPr/>
                        <p:nvPr/>
                      </p:nvSpPr>
                      <p:spPr>
                        <a:xfrm flipH="1">
                          <a:off x="1312920" y="447336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" bIns="4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Freeform 88"/>
                        <p:cNvSpPr/>
                        <p:nvPr/>
                      </p:nvSpPr>
                      <p:spPr>
                        <a:xfrm flipH="1">
                          <a:off x="1312920" y="441180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Freeform 89"/>
                        <p:cNvSpPr/>
                        <p:nvPr/>
                      </p:nvSpPr>
                      <p:spPr>
                        <a:xfrm flipH="1">
                          <a:off x="1408680" y="441180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Freeform 90"/>
                        <p:cNvSpPr/>
                        <p:nvPr/>
                      </p:nvSpPr>
                      <p:spPr>
                        <a:xfrm flipH="1">
                          <a:off x="1312920" y="4386240"/>
                          <a:ext cx="191520" cy="5148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02" name=""/>
                    <p:cNvGrpSpPr/>
                    <p:nvPr/>
                  </p:nvGrpSpPr>
                  <p:grpSpPr>
                    <a:xfrm>
                      <a:off x="1312920" y="4182840"/>
                      <a:ext cx="575280" cy="254520"/>
                      <a:chOff x="1312920" y="4182840"/>
                      <a:chExt cx="575280" cy="254520"/>
                    </a:xfrm>
                  </p:grpSpPr>
                  <p:grpSp>
                    <p:nvGrpSpPr>
                      <p:cNvPr id="303" name=""/>
                      <p:cNvGrpSpPr/>
                      <p:nvPr/>
                    </p:nvGrpSpPr>
                    <p:grpSpPr>
                      <a:xfrm>
                        <a:off x="1696680" y="4182840"/>
                        <a:ext cx="191520" cy="151200"/>
                        <a:chOff x="1696680" y="4182840"/>
                        <a:chExt cx="191520" cy="151200"/>
                      </a:xfrm>
                    </p:grpSpPr>
                    <p:sp>
                      <p:nvSpPr>
                        <p:cNvPr id="304" name="Freeform 93"/>
                        <p:cNvSpPr/>
                        <p:nvPr/>
                      </p:nvSpPr>
                      <p:spPr>
                        <a:xfrm flipH="1">
                          <a:off x="1792440" y="418284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Freeform 94"/>
                        <p:cNvSpPr/>
                        <p:nvPr/>
                      </p:nvSpPr>
                      <p:spPr>
                        <a:xfrm flipH="1">
                          <a:off x="1696680" y="426996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" bIns="4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Freeform 95"/>
                        <p:cNvSpPr/>
                        <p:nvPr/>
                      </p:nvSpPr>
                      <p:spPr>
                        <a:xfrm flipH="1">
                          <a:off x="1696680" y="420840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Freeform 96"/>
                        <p:cNvSpPr/>
                        <p:nvPr/>
                      </p:nvSpPr>
                      <p:spPr>
                        <a:xfrm flipH="1">
                          <a:off x="1792440" y="420840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Freeform 97"/>
                        <p:cNvSpPr/>
                        <p:nvPr/>
                      </p:nvSpPr>
                      <p:spPr>
                        <a:xfrm flipH="1">
                          <a:off x="1696680" y="4182840"/>
                          <a:ext cx="191520" cy="5148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9" name=""/>
                      <p:cNvGrpSpPr/>
                      <p:nvPr/>
                    </p:nvGrpSpPr>
                    <p:grpSpPr>
                      <a:xfrm>
                        <a:off x="1600200" y="4208400"/>
                        <a:ext cx="192240" cy="151200"/>
                        <a:chOff x="1600200" y="4208400"/>
                        <a:chExt cx="192240" cy="151200"/>
                      </a:xfrm>
                    </p:grpSpPr>
                    <p:sp>
                      <p:nvSpPr>
                        <p:cNvPr id="310" name="Freeform 99"/>
                        <p:cNvSpPr/>
                        <p:nvPr/>
                      </p:nvSpPr>
                      <p:spPr>
                        <a:xfrm flipH="1">
                          <a:off x="1695960" y="4208400"/>
                          <a:ext cx="96120" cy="125640"/>
                        </a:xfrm>
                        <a:custGeom>
                          <a:avLst/>
                          <a:gdLst>
                            <a:gd name="textAreaLeft" fmla="*/ -360 w 96120"/>
                            <a:gd name="textAreaRight" fmla="*/ 96120 w 9612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Freeform 100"/>
                        <p:cNvSpPr/>
                        <p:nvPr/>
                      </p:nvSpPr>
                      <p:spPr>
                        <a:xfrm flipH="1">
                          <a:off x="1600200" y="4295520"/>
                          <a:ext cx="192240" cy="51120"/>
                        </a:xfrm>
                        <a:custGeom>
                          <a:avLst/>
                          <a:gdLst>
                            <a:gd name="textAreaLeft" fmla="*/ 360 w 192240"/>
                            <a:gd name="textAreaRight" fmla="*/ 192960 w 19224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" bIns="4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Freeform 101"/>
                        <p:cNvSpPr/>
                        <p:nvPr/>
                      </p:nvSpPr>
                      <p:spPr>
                        <a:xfrm flipH="1">
                          <a:off x="1599840" y="4233960"/>
                          <a:ext cx="96120" cy="125640"/>
                        </a:xfrm>
                        <a:custGeom>
                          <a:avLst/>
                          <a:gdLst>
                            <a:gd name="textAreaLeft" fmla="*/ -360 w 96120"/>
                            <a:gd name="textAreaRight" fmla="*/ 96120 w 9612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Freeform 102"/>
                        <p:cNvSpPr/>
                        <p:nvPr/>
                      </p:nvSpPr>
                      <p:spPr>
                        <a:xfrm flipH="1">
                          <a:off x="1695960" y="4233960"/>
                          <a:ext cx="96120" cy="125640"/>
                        </a:xfrm>
                        <a:custGeom>
                          <a:avLst/>
                          <a:gdLst>
                            <a:gd name="textAreaLeft" fmla="*/ -360 w 96120"/>
                            <a:gd name="textAreaRight" fmla="*/ 96120 w 9612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4" name="Freeform 103"/>
                        <p:cNvSpPr/>
                        <p:nvPr/>
                      </p:nvSpPr>
                      <p:spPr>
                        <a:xfrm flipH="1">
                          <a:off x="1600200" y="4208400"/>
                          <a:ext cx="192240" cy="51480"/>
                        </a:xfrm>
                        <a:custGeom>
                          <a:avLst/>
                          <a:gdLst>
                            <a:gd name="textAreaLeft" fmla="*/ 360 w 192240"/>
                            <a:gd name="textAreaRight" fmla="*/ 192960 w 19224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15" name=""/>
                      <p:cNvGrpSpPr/>
                      <p:nvPr/>
                    </p:nvGrpSpPr>
                    <p:grpSpPr>
                      <a:xfrm>
                        <a:off x="1504440" y="4234320"/>
                        <a:ext cx="191520" cy="151560"/>
                        <a:chOff x="1504440" y="4234320"/>
                        <a:chExt cx="191520" cy="151560"/>
                      </a:xfrm>
                    </p:grpSpPr>
                    <p:sp>
                      <p:nvSpPr>
                        <p:cNvPr id="316" name="Freeform 105"/>
                        <p:cNvSpPr/>
                        <p:nvPr/>
                      </p:nvSpPr>
                      <p:spPr>
                        <a:xfrm flipH="1">
                          <a:off x="1600200" y="423432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7" name="Freeform 106"/>
                        <p:cNvSpPr/>
                        <p:nvPr/>
                      </p:nvSpPr>
                      <p:spPr>
                        <a:xfrm flipH="1">
                          <a:off x="1504440" y="4321440"/>
                          <a:ext cx="191520" cy="5148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8" name="Freeform 107"/>
                        <p:cNvSpPr/>
                        <p:nvPr/>
                      </p:nvSpPr>
                      <p:spPr>
                        <a:xfrm flipH="1">
                          <a:off x="1504440" y="4259880"/>
                          <a:ext cx="95760" cy="12600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6000"/>
                            <a:gd name="textAreaBottom" fmla="*/ 126360 h 12600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9" name="Freeform 108"/>
                        <p:cNvSpPr/>
                        <p:nvPr/>
                      </p:nvSpPr>
                      <p:spPr>
                        <a:xfrm flipH="1">
                          <a:off x="1600200" y="4259880"/>
                          <a:ext cx="95760" cy="12600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6000"/>
                            <a:gd name="textAreaBottom" fmla="*/ 126360 h 12600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0" name="Freeform 109"/>
                        <p:cNvSpPr/>
                        <p:nvPr/>
                      </p:nvSpPr>
                      <p:spPr>
                        <a:xfrm flipH="1">
                          <a:off x="1504440" y="4234320"/>
                          <a:ext cx="191520" cy="5148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21" name=""/>
                      <p:cNvGrpSpPr/>
                      <p:nvPr/>
                    </p:nvGrpSpPr>
                    <p:grpSpPr>
                      <a:xfrm>
                        <a:off x="1408320" y="4260240"/>
                        <a:ext cx="191520" cy="151200"/>
                        <a:chOff x="1408320" y="4260240"/>
                        <a:chExt cx="191520" cy="151200"/>
                      </a:xfrm>
                    </p:grpSpPr>
                    <p:sp>
                      <p:nvSpPr>
                        <p:cNvPr id="322" name="Freeform 111"/>
                        <p:cNvSpPr/>
                        <p:nvPr/>
                      </p:nvSpPr>
                      <p:spPr>
                        <a:xfrm flipH="1">
                          <a:off x="1504080" y="426024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3" name="Freeform 112"/>
                        <p:cNvSpPr/>
                        <p:nvPr/>
                      </p:nvSpPr>
                      <p:spPr>
                        <a:xfrm flipH="1">
                          <a:off x="1408320" y="434736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" bIns="4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Freeform 113"/>
                        <p:cNvSpPr/>
                        <p:nvPr/>
                      </p:nvSpPr>
                      <p:spPr>
                        <a:xfrm flipH="1">
                          <a:off x="1408320" y="428580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Freeform 114"/>
                        <p:cNvSpPr/>
                        <p:nvPr/>
                      </p:nvSpPr>
                      <p:spPr>
                        <a:xfrm flipH="1">
                          <a:off x="1504080" y="428580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Freeform 115"/>
                        <p:cNvSpPr/>
                        <p:nvPr/>
                      </p:nvSpPr>
                      <p:spPr>
                        <a:xfrm flipH="1">
                          <a:off x="1408320" y="4260240"/>
                          <a:ext cx="191520" cy="5148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27" name=""/>
                      <p:cNvGrpSpPr/>
                      <p:nvPr/>
                    </p:nvGrpSpPr>
                    <p:grpSpPr>
                      <a:xfrm>
                        <a:off x="1312920" y="4286160"/>
                        <a:ext cx="191520" cy="151200"/>
                        <a:chOff x="1312920" y="4286160"/>
                        <a:chExt cx="191520" cy="151200"/>
                      </a:xfrm>
                    </p:grpSpPr>
                    <p:sp>
                      <p:nvSpPr>
                        <p:cNvPr id="328" name="Freeform 117"/>
                        <p:cNvSpPr/>
                        <p:nvPr/>
                      </p:nvSpPr>
                      <p:spPr>
                        <a:xfrm flipH="1">
                          <a:off x="1408680" y="428616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Freeform 118"/>
                        <p:cNvSpPr/>
                        <p:nvPr/>
                      </p:nvSpPr>
                      <p:spPr>
                        <a:xfrm flipH="1">
                          <a:off x="1312920" y="437328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" bIns="4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Freeform 119"/>
                        <p:cNvSpPr/>
                        <p:nvPr/>
                      </p:nvSpPr>
                      <p:spPr>
                        <a:xfrm flipH="1">
                          <a:off x="1312920" y="431172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Freeform 120"/>
                        <p:cNvSpPr/>
                        <p:nvPr/>
                      </p:nvSpPr>
                      <p:spPr>
                        <a:xfrm flipH="1">
                          <a:off x="1408680" y="431172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Freeform 121"/>
                        <p:cNvSpPr/>
                        <p:nvPr/>
                      </p:nvSpPr>
                      <p:spPr>
                        <a:xfrm flipH="1">
                          <a:off x="1312920" y="4286160"/>
                          <a:ext cx="191520" cy="5148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33" name=""/>
                    <p:cNvGrpSpPr/>
                    <p:nvPr/>
                  </p:nvGrpSpPr>
                  <p:grpSpPr>
                    <a:xfrm>
                      <a:off x="1312920" y="4083120"/>
                      <a:ext cx="575280" cy="254520"/>
                      <a:chOff x="1312920" y="4083120"/>
                      <a:chExt cx="575280" cy="254520"/>
                    </a:xfrm>
                  </p:grpSpPr>
                  <p:grpSp>
                    <p:nvGrpSpPr>
                      <p:cNvPr id="334" name=""/>
                      <p:cNvGrpSpPr/>
                      <p:nvPr/>
                    </p:nvGrpSpPr>
                    <p:grpSpPr>
                      <a:xfrm>
                        <a:off x="1696680" y="4083120"/>
                        <a:ext cx="191520" cy="151200"/>
                        <a:chOff x="1696680" y="4083120"/>
                        <a:chExt cx="191520" cy="151200"/>
                      </a:xfrm>
                    </p:grpSpPr>
                    <p:sp>
                      <p:nvSpPr>
                        <p:cNvPr id="335" name="Freeform 124"/>
                        <p:cNvSpPr/>
                        <p:nvPr/>
                      </p:nvSpPr>
                      <p:spPr>
                        <a:xfrm flipH="1">
                          <a:off x="1792440" y="408312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Freeform 125"/>
                        <p:cNvSpPr/>
                        <p:nvPr/>
                      </p:nvSpPr>
                      <p:spPr>
                        <a:xfrm flipH="1">
                          <a:off x="1696680" y="417024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" bIns="4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Freeform 126"/>
                        <p:cNvSpPr/>
                        <p:nvPr/>
                      </p:nvSpPr>
                      <p:spPr>
                        <a:xfrm flipH="1">
                          <a:off x="1696680" y="410868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Freeform 127"/>
                        <p:cNvSpPr/>
                        <p:nvPr/>
                      </p:nvSpPr>
                      <p:spPr>
                        <a:xfrm flipH="1">
                          <a:off x="1792440" y="410868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Freeform 128"/>
                        <p:cNvSpPr/>
                        <p:nvPr/>
                      </p:nvSpPr>
                      <p:spPr>
                        <a:xfrm flipH="1">
                          <a:off x="1696680" y="4083120"/>
                          <a:ext cx="191520" cy="5148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40" name=""/>
                      <p:cNvGrpSpPr/>
                      <p:nvPr/>
                    </p:nvGrpSpPr>
                    <p:grpSpPr>
                      <a:xfrm>
                        <a:off x="1600200" y="4108680"/>
                        <a:ext cx="192240" cy="151200"/>
                        <a:chOff x="1600200" y="4108680"/>
                        <a:chExt cx="192240" cy="151200"/>
                      </a:xfrm>
                    </p:grpSpPr>
                    <p:sp>
                      <p:nvSpPr>
                        <p:cNvPr id="341" name="Freeform 130"/>
                        <p:cNvSpPr/>
                        <p:nvPr/>
                      </p:nvSpPr>
                      <p:spPr>
                        <a:xfrm flipH="1">
                          <a:off x="1695960" y="4108680"/>
                          <a:ext cx="96120" cy="125640"/>
                        </a:xfrm>
                        <a:custGeom>
                          <a:avLst/>
                          <a:gdLst>
                            <a:gd name="textAreaLeft" fmla="*/ -360 w 96120"/>
                            <a:gd name="textAreaRight" fmla="*/ 96120 w 9612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Freeform 131"/>
                        <p:cNvSpPr/>
                        <p:nvPr/>
                      </p:nvSpPr>
                      <p:spPr>
                        <a:xfrm flipH="1">
                          <a:off x="1600200" y="4195800"/>
                          <a:ext cx="192240" cy="51120"/>
                        </a:xfrm>
                        <a:custGeom>
                          <a:avLst/>
                          <a:gdLst>
                            <a:gd name="textAreaLeft" fmla="*/ 360 w 192240"/>
                            <a:gd name="textAreaRight" fmla="*/ 192960 w 19224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" bIns="4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Freeform 132"/>
                        <p:cNvSpPr/>
                        <p:nvPr/>
                      </p:nvSpPr>
                      <p:spPr>
                        <a:xfrm flipH="1">
                          <a:off x="1599840" y="4134240"/>
                          <a:ext cx="96120" cy="125640"/>
                        </a:xfrm>
                        <a:custGeom>
                          <a:avLst/>
                          <a:gdLst>
                            <a:gd name="textAreaLeft" fmla="*/ -360 w 96120"/>
                            <a:gd name="textAreaRight" fmla="*/ 96120 w 9612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Freeform 133"/>
                        <p:cNvSpPr/>
                        <p:nvPr/>
                      </p:nvSpPr>
                      <p:spPr>
                        <a:xfrm flipH="1">
                          <a:off x="1695960" y="4134240"/>
                          <a:ext cx="96120" cy="125640"/>
                        </a:xfrm>
                        <a:custGeom>
                          <a:avLst/>
                          <a:gdLst>
                            <a:gd name="textAreaLeft" fmla="*/ -360 w 96120"/>
                            <a:gd name="textAreaRight" fmla="*/ 96120 w 9612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Freeform 134"/>
                        <p:cNvSpPr/>
                        <p:nvPr/>
                      </p:nvSpPr>
                      <p:spPr>
                        <a:xfrm flipH="1">
                          <a:off x="1600200" y="4108680"/>
                          <a:ext cx="192240" cy="51480"/>
                        </a:xfrm>
                        <a:custGeom>
                          <a:avLst/>
                          <a:gdLst>
                            <a:gd name="textAreaLeft" fmla="*/ 360 w 192240"/>
                            <a:gd name="textAreaRight" fmla="*/ 192960 w 19224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46" name=""/>
                      <p:cNvGrpSpPr/>
                      <p:nvPr/>
                    </p:nvGrpSpPr>
                    <p:grpSpPr>
                      <a:xfrm>
                        <a:off x="1504440" y="4134600"/>
                        <a:ext cx="191520" cy="151560"/>
                        <a:chOff x="1504440" y="4134600"/>
                        <a:chExt cx="191520" cy="151560"/>
                      </a:xfrm>
                    </p:grpSpPr>
                    <p:sp>
                      <p:nvSpPr>
                        <p:cNvPr id="347" name="Freeform 136"/>
                        <p:cNvSpPr/>
                        <p:nvPr/>
                      </p:nvSpPr>
                      <p:spPr>
                        <a:xfrm flipH="1">
                          <a:off x="1600200" y="413460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Freeform 137"/>
                        <p:cNvSpPr/>
                        <p:nvPr/>
                      </p:nvSpPr>
                      <p:spPr>
                        <a:xfrm flipH="1">
                          <a:off x="1504440" y="4221720"/>
                          <a:ext cx="191520" cy="5148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Freeform 138"/>
                        <p:cNvSpPr/>
                        <p:nvPr/>
                      </p:nvSpPr>
                      <p:spPr>
                        <a:xfrm flipH="1">
                          <a:off x="1504440" y="4160160"/>
                          <a:ext cx="95760" cy="12600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6000"/>
                            <a:gd name="textAreaBottom" fmla="*/ 126360 h 12600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Freeform 139"/>
                        <p:cNvSpPr/>
                        <p:nvPr/>
                      </p:nvSpPr>
                      <p:spPr>
                        <a:xfrm flipH="1">
                          <a:off x="1600200" y="4160160"/>
                          <a:ext cx="95760" cy="12600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6000"/>
                            <a:gd name="textAreaBottom" fmla="*/ 126360 h 12600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Freeform 140"/>
                        <p:cNvSpPr/>
                        <p:nvPr/>
                      </p:nvSpPr>
                      <p:spPr>
                        <a:xfrm flipH="1">
                          <a:off x="1504440" y="4134600"/>
                          <a:ext cx="191520" cy="5148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2" name=""/>
                      <p:cNvGrpSpPr/>
                      <p:nvPr/>
                    </p:nvGrpSpPr>
                    <p:grpSpPr>
                      <a:xfrm>
                        <a:off x="1408320" y="4160520"/>
                        <a:ext cx="191520" cy="151200"/>
                        <a:chOff x="1408320" y="4160520"/>
                        <a:chExt cx="191520" cy="151200"/>
                      </a:xfrm>
                    </p:grpSpPr>
                    <p:sp>
                      <p:nvSpPr>
                        <p:cNvPr id="353" name="Freeform 142"/>
                        <p:cNvSpPr/>
                        <p:nvPr/>
                      </p:nvSpPr>
                      <p:spPr>
                        <a:xfrm flipH="1">
                          <a:off x="1504080" y="416052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Freeform 143"/>
                        <p:cNvSpPr/>
                        <p:nvPr/>
                      </p:nvSpPr>
                      <p:spPr>
                        <a:xfrm flipH="1">
                          <a:off x="1408320" y="424764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" bIns="4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Freeform 144"/>
                        <p:cNvSpPr/>
                        <p:nvPr/>
                      </p:nvSpPr>
                      <p:spPr>
                        <a:xfrm flipH="1">
                          <a:off x="1408320" y="418608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Freeform 145"/>
                        <p:cNvSpPr/>
                        <p:nvPr/>
                      </p:nvSpPr>
                      <p:spPr>
                        <a:xfrm flipH="1">
                          <a:off x="1504080" y="418608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Freeform 146"/>
                        <p:cNvSpPr/>
                        <p:nvPr/>
                      </p:nvSpPr>
                      <p:spPr>
                        <a:xfrm flipH="1">
                          <a:off x="1408320" y="4160520"/>
                          <a:ext cx="191520" cy="5148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8" name=""/>
                      <p:cNvGrpSpPr/>
                      <p:nvPr/>
                    </p:nvGrpSpPr>
                    <p:grpSpPr>
                      <a:xfrm>
                        <a:off x="1312920" y="4186440"/>
                        <a:ext cx="191520" cy="151200"/>
                        <a:chOff x="1312920" y="4186440"/>
                        <a:chExt cx="191520" cy="151200"/>
                      </a:xfrm>
                    </p:grpSpPr>
                    <p:sp>
                      <p:nvSpPr>
                        <p:cNvPr id="359" name="Freeform 148"/>
                        <p:cNvSpPr/>
                        <p:nvPr/>
                      </p:nvSpPr>
                      <p:spPr>
                        <a:xfrm flipH="1">
                          <a:off x="1408680" y="418644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3">
                              <a:moveTo>
                                <a:pt x="0" y="500"/>
                              </a:moveTo>
                              <a:lnTo>
                                <a:pt x="0" y="2433"/>
                              </a:lnTo>
                              <a:lnTo>
                                <a:pt x="1866" y="1932"/>
                              </a:lnTo>
                              <a:lnTo>
                                <a:pt x="1866" y="1001"/>
                              </a:lnTo>
                              <a:lnTo>
                                <a:pt x="1866" y="0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6d6d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Freeform 149"/>
                        <p:cNvSpPr/>
                        <p:nvPr/>
                      </p:nvSpPr>
                      <p:spPr>
                        <a:xfrm flipH="1">
                          <a:off x="1312920" y="4273560"/>
                          <a:ext cx="191520" cy="5112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120"/>
                            <a:gd name="textAreaBottom" fmla="*/ 51480 h 5112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03030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" bIns="4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1" name="Freeform 150"/>
                        <p:cNvSpPr/>
                        <p:nvPr/>
                      </p:nvSpPr>
                      <p:spPr>
                        <a:xfrm flipH="1">
                          <a:off x="1312920" y="421200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0" y="2434"/>
                              </a:moveTo>
                              <a:lnTo>
                                <a:pt x="1866" y="1933"/>
                              </a:lnTo>
                              <a:lnTo>
                                <a:pt x="1866" y="0"/>
                              </a:lnTo>
                              <a:lnTo>
                                <a:pt x="0" y="501"/>
                              </a:lnTo>
                              <a:lnTo>
                                <a:pt x="0" y="24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28282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2" name="Freeform 151"/>
                        <p:cNvSpPr/>
                        <p:nvPr/>
                      </p:nvSpPr>
                      <p:spPr>
                        <a:xfrm flipH="1">
                          <a:off x="1408680" y="4212000"/>
                          <a:ext cx="95760" cy="125640"/>
                        </a:xfrm>
                        <a:custGeom>
                          <a:avLst/>
                          <a:gdLst>
                            <a:gd name="textAreaLeft" fmla="*/ 360 w 95760"/>
                            <a:gd name="textAreaRight" fmla="*/ 96480 w 95760"/>
                            <a:gd name="textAreaTop" fmla="*/ 0 h 125640"/>
                            <a:gd name="textAreaBottom" fmla="*/ 126000 h 125640"/>
                          </a:gdLst>
                          <a:ahLst/>
                          <a:rect l="textAreaLeft" t="textAreaTop" r="textAreaRight" b="textAreaBottom"/>
                          <a:pathLst>
                            <a:path w="1866" h="2434">
                              <a:moveTo>
                                <a:pt x="1866" y="501"/>
                              </a:moveTo>
                              <a:lnTo>
                                <a:pt x="1632" y="437"/>
                              </a:lnTo>
                              <a:lnTo>
                                <a:pt x="1632" y="437"/>
                              </a:lnTo>
                              <a:lnTo>
                                <a:pt x="234" y="64"/>
                              </a:lnTo>
                              <a:lnTo>
                                <a:pt x="234" y="64"/>
                              </a:lnTo>
                              <a:lnTo>
                                <a:pt x="0" y="0"/>
                              </a:lnTo>
                              <a:lnTo>
                                <a:pt x="0" y="1933"/>
                              </a:lnTo>
                              <a:lnTo>
                                <a:pt x="234" y="1997"/>
                              </a:lnTo>
                              <a:lnTo>
                                <a:pt x="234" y="1997"/>
                              </a:lnTo>
                              <a:lnTo>
                                <a:pt x="1866" y="2434"/>
                              </a:lnTo>
                              <a:lnTo>
                                <a:pt x="1866" y="501"/>
                              </a:lnTo>
                              <a:close/>
                              <a:moveTo>
                                <a:pt x="234" y="1753"/>
                              </a:moveTo>
                              <a:lnTo>
                                <a:pt x="234" y="305"/>
                              </a:lnTo>
                              <a:lnTo>
                                <a:pt x="234" y="305"/>
                              </a:lnTo>
                              <a:lnTo>
                                <a:pt x="1630" y="681"/>
                              </a:lnTo>
                              <a:lnTo>
                                <a:pt x="1632" y="681"/>
                              </a:lnTo>
                              <a:lnTo>
                                <a:pt x="1632" y="2129"/>
                              </a:lnTo>
                              <a:lnTo>
                                <a:pt x="234" y="1753"/>
                              </a:lnTo>
                              <a:lnTo>
                                <a:pt x="234" y="17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45454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3" name="Freeform 152"/>
                        <p:cNvSpPr/>
                        <p:nvPr/>
                      </p:nvSpPr>
                      <p:spPr>
                        <a:xfrm flipH="1">
                          <a:off x="1312920" y="4186440"/>
                          <a:ext cx="191520" cy="51480"/>
                        </a:xfrm>
                        <a:custGeom>
                          <a:avLst/>
                          <a:gdLst>
                            <a:gd name="textAreaLeft" fmla="*/ 360 w 191520"/>
                            <a:gd name="textAreaRight" fmla="*/ 192240 w 191520"/>
                            <a:gd name="textAreaTop" fmla="*/ 0 h 51480"/>
                            <a:gd name="textAreaBottom" fmla="*/ 51840 h 51480"/>
                          </a:gdLst>
                          <a:ahLst/>
                          <a:rect l="textAreaLeft" t="textAreaTop" r="textAreaRight" b="textAreaBottom"/>
                          <a:pathLst>
                            <a:path w="3732" h="1001">
                              <a:moveTo>
                                <a:pt x="0" y="500"/>
                              </a:moveTo>
                              <a:lnTo>
                                <a:pt x="1866" y="0"/>
                              </a:lnTo>
                              <a:lnTo>
                                <a:pt x="3732" y="500"/>
                              </a:lnTo>
                              <a:lnTo>
                                <a:pt x="1866" y="1001"/>
                              </a:lnTo>
                              <a:lnTo>
                                <a:pt x="0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e6e"/>
                        </a:solidFill>
                        <a:ln w="6480">
                          <a:solidFill>
                            <a:srgbClr val="545554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1419120" y="4131720"/>
                    <a:ext cx="446760" cy="453960"/>
                    <a:chOff x="1419120" y="4131720"/>
                    <a:chExt cx="446760" cy="453960"/>
                  </a:xfrm>
                </p:grpSpPr>
                <p:grpSp>
                  <p:nvGrpSpPr>
                    <p:cNvPr id="365" name=""/>
                    <p:cNvGrpSpPr/>
                    <p:nvPr/>
                  </p:nvGrpSpPr>
                  <p:grpSpPr>
                    <a:xfrm>
                      <a:off x="1805040" y="4131720"/>
                      <a:ext cx="60480" cy="77040"/>
                      <a:chOff x="1805040" y="4131720"/>
                      <a:chExt cx="60480" cy="77040"/>
                    </a:xfrm>
                  </p:grpSpPr>
                  <p:sp>
                    <p:nvSpPr>
                      <p:cNvPr id="366" name="Freeform 155"/>
                      <p:cNvSpPr/>
                      <p:nvPr/>
                    </p:nvSpPr>
                    <p:spPr>
                      <a:xfrm>
                        <a:off x="1805040" y="413172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7" name="Freeform 156"/>
                      <p:cNvSpPr/>
                      <p:nvPr/>
                    </p:nvSpPr>
                    <p:spPr>
                      <a:xfrm>
                        <a:off x="1810080" y="4135680"/>
                        <a:ext cx="55440" cy="73080"/>
                      </a:xfrm>
                      <a:custGeom>
                        <a:avLst/>
                        <a:gdLst>
                          <a:gd name="textAreaLeft" fmla="*/ 0 w 55440"/>
                          <a:gd name="textAreaRight" fmla="*/ 55800 w 55440"/>
                          <a:gd name="textAreaTop" fmla="*/ 0 h 73080"/>
                          <a:gd name="textAreaBottom" fmla="*/ 73440 h 7308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8" name="Freeform 157"/>
                      <p:cNvSpPr/>
                      <p:nvPr/>
                    </p:nvSpPr>
                    <p:spPr>
                      <a:xfrm>
                        <a:off x="1805040" y="4149720"/>
                        <a:ext cx="5040" cy="5904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59040"/>
                          <a:gd name="textAreaBottom" fmla="*/ 59400 h 5904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69" name=""/>
                    <p:cNvGrpSpPr/>
                    <p:nvPr/>
                  </p:nvGrpSpPr>
                  <p:grpSpPr>
                    <a:xfrm>
                      <a:off x="1613520" y="4282200"/>
                      <a:ext cx="60480" cy="77040"/>
                      <a:chOff x="1613520" y="4282200"/>
                      <a:chExt cx="60480" cy="77040"/>
                    </a:xfrm>
                  </p:grpSpPr>
                  <p:sp>
                    <p:nvSpPr>
                      <p:cNvPr id="370" name="Freeform 159"/>
                      <p:cNvSpPr/>
                      <p:nvPr/>
                    </p:nvSpPr>
                    <p:spPr>
                      <a:xfrm>
                        <a:off x="1613520" y="428220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1" name="Freeform 160"/>
                      <p:cNvSpPr/>
                      <p:nvPr/>
                    </p:nvSpPr>
                    <p:spPr>
                      <a:xfrm>
                        <a:off x="1618560" y="4286160"/>
                        <a:ext cx="55440" cy="73080"/>
                      </a:xfrm>
                      <a:custGeom>
                        <a:avLst/>
                        <a:gdLst>
                          <a:gd name="textAreaLeft" fmla="*/ 0 w 55440"/>
                          <a:gd name="textAreaRight" fmla="*/ 55800 w 55440"/>
                          <a:gd name="textAreaTop" fmla="*/ 0 h 73080"/>
                          <a:gd name="textAreaBottom" fmla="*/ 73440 h 7308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2" name="Freeform 161"/>
                      <p:cNvSpPr/>
                      <p:nvPr/>
                    </p:nvSpPr>
                    <p:spPr>
                      <a:xfrm>
                        <a:off x="1613520" y="4300200"/>
                        <a:ext cx="5040" cy="5904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59040"/>
                          <a:gd name="textAreaBottom" fmla="*/ 59400 h 5904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3" name=""/>
                    <p:cNvGrpSpPr/>
                    <p:nvPr/>
                  </p:nvGrpSpPr>
                  <p:grpSpPr>
                    <a:xfrm>
                      <a:off x="1708200" y="4356720"/>
                      <a:ext cx="60480" cy="77040"/>
                      <a:chOff x="1708200" y="4356720"/>
                      <a:chExt cx="60480" cy="77040"/>
                    </a:xfrm>
                  </p:grpSpPr>
                  <p:sp>
                    <p:nvSpPr>
                      <p:cNvPr id="374" name="Freeform 163"/>
                      <p:cNvSpPr/>
                      <p:nvPr/>
                    </p:nvSpPr>
                    <p:spPr>
                      <a:xfrm>
                        <a:off x="1708200" y="435672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5" name="Freeform 164"/>
                      <p:cNvSpPr/>
                      <p:nvPr/>
                    </p:nvSpPr>
                    <p:spPr>
                      <a:xfrm>
                        <a:off x="1713240" y="4360680"/>
                        <a:ext cx="55440" cy="73080"/>
                      </a:xfrm>
                      <a:custGeom>
                        <a:avLst/>
                        <a:gdLst>
                          <a:gd name="textAreaLeft" fmla="*/ 0 w 55440"/>
                          <a:gd name="textAreaRight" fmla="*/ 55800 w 55440"/>
                          <a:gd name="textAreaTop" fmla="*/ 0 h 73080"/>
                          <a:gd name="textAreaBottom" fmla="*/ 73440 h 7308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6" name="Freeform 165"/>
                      <p:cNvSpPr/>
                      <p:nvPr/>
                    </p:nvSpPr>
                    <p:spPr>
                      <a:xfrm>
                        <a:off x="1708200" y="4374720"/>
                        <a:ext cx="5040" cy="5904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59040"/>
                          <a:gd name="textAreaBottom" fmla="*/ 59400 h 5904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7" name=""/>
                    <p:cNvGrpSpPr/>
                    <p:nvPr/>
                  </p:nvGrpSpPr>
                  <p:grpSpPr>
                    <a:xfrm>
                      <a:off x="1517400" y="4508640"/>
                      <a:ext cx="60480" cy="77040"/>
                      <a:chOff x="1517400" y="4508640"/>
                      <a:chExt cx="60480" cy="77040"/>
                    </a:xfrm>
                  </p:grpSpPr>
                  <p:sp>
                    <p:nvSpPr>
                      <p:cNvPr id="378" name="Freeform 167"/>
                      <p:cNvSpPr/>
                      <p:nvPr/>
                    </p:nvSpPr>
                    <p:spPr>
                      <a:xfrm>
                        <a:off x="1517400" y="450864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9" name="Freeform 168"/>
                      <p:cNvSpPr/>
                      <p:nvPr/>
                    </p:nvSpPr>
                    <p:spPr>
                      <a:xfrm>
                        <a:off x="1522440" y="4512600"/>
                        <a:ext cx="55440" cy="73080"/>
                      </a:xfrm>
                      <a:custGeom>
                        <a:avLst/>
                        <a:gdLst>
                          <a:gd name="textAreaLeft" fmla="*/ 0 w 55440"/>
                          <a:gd name="textAreaRight" fmla="*/ 55800 w 55440"/>
                          <a:gd name="textAreaTop" fmla="*/ 0 h 73080"/>
                          <a:gd name="textAreaBottom" fmla="*/ 73440 h 7308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0" name="Freeform 169"/>
                      <p:cNvSpPr/>
                      <p:nvPr/>
                    </p:nvSpPr>
                    <p:spPr>
                      <a:xfrm>
                        <a:off x="1517400" y="4526640"/>
                        <a:ext cx="5040" cy="5904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59040"/>
                          <a:gd name="textAreaBottom" fmla="*/ 59400 h 5904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81" name=""/>
                    <p:cNvGrpSpPr/>
                    <p:nvPr/>
                  </p:nvGrpSpPr>
                  <p:grpSpPr>
                    <a:xfrm>
                      <a:off x="1421280" y="4434480"/>
                      <a:ext cx="60840" cy="76680"/>
                      <a:chOff x="1421280" y="4434480"/>
                      <a:chExt cx="60840" cy="76680"/>
                    </a:xfrm>
                  </p:grpSpPr>
                  <p:sp>
                    <p:nvSpPr>
                      <p:cNvPr id="382" name="Freeform 171"/>
                      <p:cNvSpPr/>
                      <p:nvPr/>
                    </p:nvSpPr>
                    <p:spPr>
                      <a:xfrm>
                        <a:off x="1421280" y="4434480"/>
                        <a:ext cx="60840" cy="19080"/>
                      </a:xfrm>
                      <a:custGeom>
                        <a:avLst/>
                        <a:gdLst>
                          <a:gd name="textAreaLeft" fmla="*/ 0 w 60840"/>
                          <a:gd name="textAreaRight" fmla="*/ 61200 w 6084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3" name="Freeform 172"/>
                      <p:cNvSpPr/>
                      <p:nvPr/>
                    </p:nvSpPr>
                    <p:spPr>
                      <a:xfrm>
                        <a:off x="1426320" y="4438440"/>
                        <a:ext cx="55800" cy="72720"/>
                      </a:xfrm>
                      <a:custGeom>
                        <a:avLst/>
                        <a:gdLst>
                          <a:gd name="textAreaLeft" fmla="*/ 0 w 55800"/>
                          <a:gd name="textAreaRight" fmla="*/ 56160 w 55800"/>
                          <a:gd name="textAreaTop" fmla="*/ 0 h 72720"/>
                          <a:gd name="textAreaBottom" fmla="*/ 73080 h 7272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4" name="Freeform 173"/>
                      <p:cNvSpPr/>
                      <p:nvPr/>
                    </p:nvSpPr>
                    <p:spPr>
                      <a:xfrm>
                        <a:off x="1421280" y="4452480"/>
                        <a:ext cx="5040" cy="5868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58680"/>
                          <a:gd name="textAreaBottom" fmla="*/ 59040 h 5868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85" name=""/>
                    <p:cNvGrpSpPr/>
                    <p:nvPr/>
                  </p:nvGrpSpPr>
                  <p:grpSpPr>
                    <a:xfrm>
                      <a:off x="1613520" y="4384800"/>
                      <a:ext cx="60480" cy="77040"/>
                      <a:chOff x="1613520" y="4384800"/>
                      <a:chExt cx="60480" cy="77040"/>
                    </a:xfrm>
                  </p:grpSpPr>
                  <p:sp>
                    <p:nvSpPr>
                      <p:cNvPr id="386" name="Freeform 175"/>
                      <p:cNvSpPr/>
                      <p:nvPr/>
                    </p:nvSpPr>
                    <p:spPr>
                      <a:xfrm>
                        <a:off x="1613520" y="438480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7" name="Freeform 176"/>
                      <p:cNvSpPr/>
                      <p:nvPr/>
                    </p:nvSpPr>
                    <p:spPr>
                      <a:xfrm>
                        <a:off x="1618560" y="4388760"/>
                        <a:ext cx="55440" cy="73080"/>
                      </a:xfrm>
                      <a:custGeom>
                        <a:avLst/>
                        <a:gdLst>
                          <a:gd name="textAreaLeft" fmla="*/ 0 w 55440"/>
                          <a:gd name="textAreaRight" fmla="*/ 55800 w 55440"/>
                          <a:gd name="textAreaTop" fmla="*/ 0 h 73080"/>
                          <a:gd name="textAreaBottom" fmla="*/ 73440 h 7308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8" name="Freeform 177"/>
                      <p:cNvSpPr/>
                      <p:nvPr/>
                    </p:nvSpPr>
                    <p:spPr>
                      <a:xfrm>
                        <a:off x="1613520" y="4402800"/>
                        <a:ext cx="5040" cy="5904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59040"/>
                          <a:gd name="textAreaBottom" fmla="*/ 59400 h 5904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89" name=""/>
                    <p:cNvGrpSpPr/>
                    <p:nvPr/>
                  </p:nvGrpSpPr>
                  <p:grpSpPr>
                    <a:xfrm>
                      <a:off x="1708200" y="4157280"/>
                      <a:ext cx="60480" cy="77040"/>
                      <a:chOff x="1708200" y="4157280"/>
                      <a:chExt cx="60480" cy="77040"/>
                    </a:xfrm>
                  </p:grpSpPr>
                  <p:sp>
                    <p:nvSpPr>
                      <p:cNvPr id="390" name="Freeform 179"/>
                      <p:cNvSpPr/>
                      <p:nvPr/>
                    </p:nvSpPr>
                    <p:spPr>
                      <a:xfrm>
                        <a:off x="1708200" y="415728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1" name="Freeform 180"/>
                      <p:cNvSpPr/>
                      <p:nvPr/>
                    </p:nvSpPr>
                    <p:spPr>
                      <a:xfrm>
                        <a:off x="1713240" y="4161240"/>
                        <a:ext cx="55440" cy="73080"/>
                      </a:xfrm>
                      <a:custGeom>
                        <a:avLst/>
                        <a:gdLst>
                          <a:gd name="textAreaLeft" fmla="*/ 0 w 55440"/>
                          <a:gd name="textAreaRight" fmla="*/ 55800 w 55440"/>
                          <a:gd name="textAreaTop" fmla="*/ 0 h 73080"/>
                          <a:gd name="textAreaBottom" fmla="*/ 73440 h 7308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2" name="Freeform 181"/>
                      <p:cNvSpPr/>
                      <p:nvPr/>
                    </p:nvSpPr>
                    <p:spPr>
                      <a:xfrm>
                        <a:off x="1708200" y="4175280"/>
                        <a:ext cx="5040" cy="5904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59040"/>
                          <a:gd name="textAreaBottom" fmla="*/ 59400 h 5904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93" name=""/>
                    <p:cNvGrpSpPr/>
                    <p:nvPr/>
                  </p:nvGrpSpPr>
                  <p:grpSpPr>
                    <a:xfrm>
                      <a:off x="1419120" y="4336560"/>
                      <a:ext cx="60480" cy="77040"/>
                      <a:chOff x="1419120" y="4336560"/>
                      <a:chExt cx="60480" cy="77040"/>
                    </a:xfrm>
                  </p:grpSpPr>
                  <p:sp>
                    <p:nvSpPr>
                      <p:cNvPr id="394" name="Freeform 183"/>
                      <p:cNvSpPr/>
                      <p:nvPr/>
                    </p:nvSpPr>
                    <p:spPr>
                      <a:xfrm>
                        <a:off x="1419120" y="433656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Freeform 184"/>
                      <p:cNvSpPr/>
                      <p:nvPr/>
                    </p:nvSpPr>
                    <p:spPr>
                      <a:xfrm>
                        <a:off x="1424160" y="4340520"/>
                        <a:ext cx="55440" cy="73080"/>
                      </a:xfrm>
                      <a:custGeom>
                        <a:avLst/>
                        <a:gdLst>
                          <a:gd name="textAreaLeft" fmla="*/ 0 w 55440"/>
                          <a:gd name="textAreaRight" fmla="*/ 55800 w 55440"/>
                          <a:gd name="textAreaTop" fmla="*/ 0 h 73080"/>
                          <a:gd name="textAreaBottom" fmla="*/ 73440 h 7308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6" name="Freeform 185"/>
                      <p:cNvSpPr/>
                      <p:nvPr/>
                    </p:nvSpPr>
                    <p:spPr>
                      <a:xfrm>
                        <a:off x="1419120" y="4354560"/>
                        <a:ext cx="5040" cy="5904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59040"/>
                          <a:gd name="textAreaBottom" fmla="*/ 59400 h 5904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97" name=""/>
                    <p:cNvGrpSpPr/>
                    <p:nvPr/>
                  </p:nvGrpSpPr>
                  <p:grpSpPr>
                    <a:xfrm>
                      <a:off x="1517760" y="4210920"/>
                      <a:ext cx="60480" cy="77040"/>
                      <a:chOff x="1517760" y="4210920"/>
                      <a:chExt cx="60480" cy="77040"/>
                    </a:xfrm>
                  </p:grpSpPr>
                  <p:sp>
                    <p:nvSpPr>
                      <p:cNvPr id="398" name="Freeform 187"/>
                      <p:cNvSpPr/>
                      <p:nvPr/>
                    </p:nvSpPr>
                    <p:spPr>
                      <a:xfrm>
                        <a:off x="1517760" y="421092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9" name="Freeform 188"/>
                      <p:cNvSpPr/>
                      <p:nvPr/>
                    </p:nvSpPr>
                    <p:spPr>
                      <a:xfrm>
                        <a:off x="1522800" y="4214880"/>
                        <a:ext cx="55440" cy="73080"/>
                      </a:xfrm>
                      <a:custGeom>
                        <a:avLst/>
                        <a:gdLst>
                          <a:gd name="textAreaLeft" fmla="*/ 0 w 55440"/>
                          <a:gd name="textAreaRight" fmla="*/ 55800 w 55440"/>
                          <a:gd name="textAreaTop" fmla="*/ 0 h 73080"/>
                          <a:gd name="textAreaBottom" fmla="*/ 73440 h 7308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0" name="Freeform 189"/>
                      <p:cNvSpPr/>
                      <p:nvPr/>
                    </p:nvSpPr>
                    <p:spPr>
                      <a:xfrm>
                        <a:off x="1517760" y="4228920"/>
                        <a:ext cx="5040" cy="5904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59040"/>
                          <a:gd name="textAreaBottom" fmla="*/ 59400 h 5904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1" name=""/>
                    <p:cNvGrpSpPr/>
                    <p:nvPr/>
                  </p:nvGrpSpPr>
                  <p:grpSpPr>
                    <a:xfrm>
                      <a:off x="1613520" y="4183560"/>
                      <a:ext cx="60480" cy="77040"/>
                      <a:chOff x="1613520" y="4183560"/>
                      <a:chExt cx="60480" cy="77040"/>
                    </a:xfrm>
                  </p:grpSpPr>
                  <p:sp>
                    <p:nvSpPr>
                      <p:cNvPr id="402" name="Freeform 191"/>
                      <p:cNvSpPr/>
                      <p:nvPr/>
                    </p:nvSpPr>
                    <p:spPr>
                      <a:xfrm>
                        <a:off x="1613520" y="418356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3" name="Freeform 192"/>
                      <p:cNvSpPr/>
                      <p:nvPr/>
                    </p:nvSpPr>
                    <p:spPr>
                      <a:xfrm>
                        <a:off x="1618560" y="4187520"/>
                        <a:ext cx="55440" cy="73080"/>
                      </a:xfrm>
                      <a:custGeom>
                        <a:avLst/>
                        <a:gdLst>
                          <a:gd name="textAreaLeft" fmla="*/ 0 w 55440"/>
                          <a:gd name="textAreaRight" fmla="*/ 55800 w 55440"/>
                          <a:gd name="textAreaTop" fmla="*/ 0 h 73080"/>
                          <a:gd name="textAreaBottom" fmla="*/ 73440 h 7308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4" name="Freeform 193"/>
                      <p:cNvSpPr/>
                      <p:nvPr/>
                    </p:nvSpPr>
                    <p:spPr>
                      <a:xfrm>
                        <a:off x="1613520" y="4201560"/>
                        <a:ext cx="5040" cy="5904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59040"/>
                          <a:gd name="textAreaBottom" fmla="*/ 59400 h 5904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5" name=""/>
                    <p:cNvGrpSpPr/>
                    <p:nvPr/>
                  </p:nvGrpSpPr>
                  <p:grpSpPr>
                    <a:xfrm>
                      <a:off x="1421280" y="4236120"/>
                      <a:ext cx="60480" cy="77040"/>
                      <a:chOff x="1421280" y="4236120"/>
                      <a:chExt cx="60480" cy="77040"/>
                    </a:xfrm>
                  </p:grpSpPr>
                  <p:sp>
                    <p:nvSpPr>
                      <p:cNvPr id="406" name="Freeform 195"/>
                      <p:cNvSpPr/>
                      <p:nvPr/>
                    </p:nvSpPr>
                    <p:spPr>
                      <a:xfrm>
                        <a:off x="1421280" y="423612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7" name="Freeform 196"/>
                      <p:cNvSpPr/>
                      <p:nvPr/>
                    </p:nvSpPr>
                    <p:spPr>
                      <a:xfrm>
                        <a:off x="1426320" y="4240080"/>
                        <a:ext cx="55440" cy="73080"/>
                      </a:xfrm>
                      <a:custGeom>
                        <a:avLst/>
                        <a:gdLst>
                          <a:gd name="textAreaLeft" fmla="*/ 0 w 55440"/>
                          <a:gd name="textAreaRight" fmla="*/ 55800 w 55440"/>
                          <a:gd name="textAreaTop" fmla="*/ 0 h 73080"/>
                          <a:gd name="textAreaBottom" fmla="*/ 73440 h 7308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8" name="Freeform 197"/>
                      <p:cNvSpPr/>
                      <p:nvPr/>
                    </p:nvSpPr>
                    <p:spPr>
                      <a:xfrm>
                        <a:off x="1421280" y="4254120"/>
                        <a:ext cx="5040" cy="5904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59040"/>
                          <a:gd name="textAreaBottom" fmla="*/ 59400 h 5904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9" name=""/>
                    <p:cNvGrpSpPr/>
                    <p:nvPr/>
                  </p:nvGrpSpPr>
                  <p:grpSpPr>
                    <a:xfrm>
                      <a:off x="1805400" y="4331880"/>
                      <a:ext cx="60480" cy="77040"/>
                      <a:chOff x="1805400" y="4331880"/>
                      <a:chExt cx="60480" cy="77040"/>
                    </a:xfrm>
                  </p:grpSpPr>
                  <p:sp>
                    <p:nvSpPr>
                      <p:cNvPr id="410" name="Freeform 199"/>
                      <p:cNvSpPr/>
                      <p:nvPr/>
                    </p:nvSpPr>
                    <p:spPr>
                      <a:xfrm>
                        <a:off x="1805400" y="433188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1" name="Freeform 200"/>
                      <p:cNvSpPr/>
                      <p:nvPr/>
                    </p:nvSpPr>
                    <p:spPr>
                      <a:xfrm>
                        <a:off x="1810440" y="4335840"/>
                        <a:ext cx="55440" cy="73080"/>
                      </a:xfrm>
                      <a:custGeom>
                        <a:avLst/>
                        <a:gdLst>
                          <a:gd name="textAreaLeft" fmla="*/ 0 w 55440"/>
                          <a:gd name="textAreaRight" fmla="*/ 55800 w 55440"/>
                          <a:gd name="textAreaTop" fmla="*/ 0 h 73080"/>
                          <a:gd name="textAreaBottom" fmla="*/ 73440 h 7308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2" name="Freeform 201"/>
                      <p:cNvSpPr/>
                      <p:nvPr/>
                    </p:nvSpPr>
                    <p:spPr>
                      <a:xfrm>
                        <a:off x="1805400" y="4349880"/>
                        <a:ext cx="5040" cy="5904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59040"/>
                          <a:gd name="textAreaBottom" fmla="*/ 59400 h 5904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3" name=""/>
                    <p:cNvGrpSpPr/>
                    <p:nvPr/>
                  </p:nvGrpSpPr>
                  <p:grpSpPr>
                    <a:xfrm>
                      <a:off x="1708560" y="4457520"/>
                      <a:ext cx="60480" cy="77040"/>
                      <a:chOff x="1708560" y="4457520"/>
                      <a:chExt cx="60480" cy="77040"/>
                    </a:xfrm>
                  </p:grpSpPr>
                  <p:sp>
                    <p:nvSpPr>
                      <p:cNvPr id="414" name="Freeform 203"/>
                      <p:cNvSpPr/>
                      <p:nvPr/>
                    </p:nvSpPr>
                    <p:spPr>
                      <a:xfrm>
                        <a:off x="1708560" y="445752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5" name="Freeform 204"/>
                      <p:cNvSpPr/>
                      <p:nvPr/>
                    </p:nvSpPr>
                    <p:spPr>
                      <a:xfrm>
                        <a:off x="1713600" y="4461480"/>
                        <a:ext cx="55440" cy="73080"/>
                      </a:xfrm>
                      <a:custGeom>
                        <a:avLst/>
                        <a:gdLst>
                          <a:gd name="textAreaLeft" fmla="*/ 0 w 55440"/>
                          <a:gd name="textAreaRight" fmla="*/ 55800 w 55440"/>
                          <a:gd name="textAreaTop" fmla="*/ 0 h 73080"/>
                          <a:gd name="textAreaBottom" fmla="*/ 73440 h 7308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6" name="Freeform 205"/>
                      <p:cNvSpPr/>
                      <p:nvPr/>
                    </p:nvSpPr>
                    <p:spPr>
                      <a:xfrm>
                        <a:off x="1708560" y="4475520"/>
                        <a:ext cx="5040" cy="5904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59040"/>
                          <a:gd name="textAreaBottom" fmla="*/ 59400 h 5904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7" name=""/>
                    <p:cNvGrpSpPr/>
                    <p:nvPr/>
                  </p:nvGrpSpPr>
                  <p:grpSpPr>
                    <a:xfrm>
                      <a:off x="1805400" y="4433040"/>
                      <a:ext cx="60480" cy="77040"/>
                      <a:chOff x="1805400" y="4433040"/>
                      <a:chExt cx="60480" cy="77040"/>
                    </a:xfrm>
                  </p:grpSpPr>
                  <p:sp>
                    <p:nvSpPr>
                      <p:cNvPr id="418" name="Freeform 207"/>
                      <p:cNvSpPr/>
                      <p:nvPr/>
                    </p:nvSpPr>
                    <p:spPr>
                      <a:xfrm>
                        <a:off x="1805400" y="4433040"/>
                        <a:ext cx="60480" cy="19080"/>
                      </a:xfrm>
                      <a:custGeom>
                        <a:avLst/>
                        <a:gdLst>
                          <a:gd name="textAreaLeft" fmla="*/ 0 w 60480"/>
                          <a:gd name="textAreaRight" fmla="*/ 60840 w 60480"/>
                          <a:gd name="textAreaTop" fmla="*/ 0 h 19080"/>
                          <a:gd name="textAreaBottom" fmla="*/ 19440 h 19080"/>
                        </a:gdLst>
                        <a:ahLst/>
                        <a:rect l="textAreaLeft" t="textAreaTop" r="textAreaRight" b="textAreaBottom"/>
                        <a:pathLst>
                          <a:path w="569" h="180">
                            <a:moveTo>
                              <a:pt x="0" y="112"/>
                            </a:moveTo>
                            <a:lnTo>
                              <a:pt x="422" y="0"/>
                            </a:lnTo>
                            <a:lnTo>
                              <a:pt x="569" y="39"/>
                            </a:lnTo>
                            <a:lnTo>
                              <a:pt x="49" y="180"/>
                            </a:lnTo>
                            <a:lnTo>
                              <a:pt x="0" y="168"/>
                            </a:lnTo>
                            <a:lnTo>
                              <a:pt x="0" y="112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9" name="Freeform 208"/>
                      <p:cNvSpPr/>
                      <p:nvPr/>
                    </p:nvSpPr>
                    <p:spPr>
                      <a:xfrm>
                        <a:off x="1810440" y="4437000"/>
                        <a:ext cx="55440" cy="73080"/>
                      </a:xfrm>
                      <a:custGeom>
                        <a:avLst/>
                        <a:gdLst>
                          <a:gd name="textAreaLeft" fmla="*/ 0 w 55440"/>
                          <a:gd name="textAreaRight" fmla="*/ 55800 w 55440"/>
                          <a:gd name="textAreaTop" fmla="*/ 0 h 73080"/>
                          <a:gd name="textAreaBottom" fmla="*/ 73440 h 73080"/>
                        </a:gdLst>
                        <a:ahLst/>
                        <a:rect l="textAreaLeft" t="textAreaTop" r="textAreaRight" b="textAreaBottom"/>
                        <a:pathLst>
                          <a:path w="453" h="589">
                            <a:moveTo>
                              <a:pt x="0" y="589"/>
                            </a:moveTo>
                            <a:lnTo>
                              <a:pt x="0" y="121"/>
                            </a:lnTo>
                            <a:lnTo>
                              <a:pt x="453" y="0"/>
                            </a:lnTo>
                            <a:lnTo>
                              <a:pt x="453" y="468"/>
                            </a:lnTo>
                            <a:lnTo>
                              <a:pt x="0" y="589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0" name="Freeform 209"/>
                      <p:cNvSpPr/>
                      <p:nvPr/>
                    </p:nvSpPr>
                    <p:spPr>
                      <a:xfrm>
                        <a:off x="1805400" y="4451040"/>
                        <a:ext cx="5040" cy="5904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59040"/>
                          <a:gd name="textAreaBottom" fmla="*/ 59400 h 59040"/>
                        </a:gdLst>
                        <a:ahLst/>
                        <a:rect l="textAreaLeft" t="textAreaTop" r="textAreaRight" b="textAreaBottom"/>
                        <a:pathLst>
                          <a:path w="16" h="183">
                            <a:moveTo>
                              <a:pt x="0" y="0"/>
                            </a:moveTo>
                            <a:lnTo>
                              <a:pt x="0" y="180"/>
                            </a:lnTo>
                            <a:lnTo>
                              <a:pt x="16" y="183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2162880" y="4537080"/>
                  <a:ext cx="114840" cy="90360"/>
                  <a:chOff x="2162880" y="4537080"/>
                  <a:chExt cx="114840" cy="90360"/>
                </a:xfrm>
              </p:grpSpPr>
              <p:sp>
                <p:nvSpPr>
                  <p:cNvPr id="422" name="Freeform 211"/>
                  <p:cNvSpPr/>
                  <p:nvPr/>
                </p:nvSpPr>
                <p:spPr>
                  <a:xfrm>
                    <a:off x="2162880" y="4537080"/>
                    <a:ext cx="114840" cy="3096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30960"/>
                      <a:gd name="textAreaBottom" fmla="*/ 31320 h 3096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3"/>
                        </a:moveTo>
                        <a:lnTo>
                          <a:pt x="451" y="0"/>
                        </a:lnTo>
                        <a:lnTo>
                          <a:pt x="904" y="123"/>
                        </a:lnTo>
                        <a:lnTo>
                          <a:pt x="451" y="244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Freeform 212"/>
                  <p:cNvSpPr/>
                  <p:nvPr/>
                </p:nvSpPr>
                <p:spPr>
                  <a:xfrm>
                    <a:off x="2220120" y="4552560"/>
                    <a:ext cx="57600" cy="74880"/>
                  </a:xfrm>
                  <a:custGeom>
                    <a:avLst/>
                    <a:gdLst>
                      <a:gd name="textAreaLeft" fmla="*/ 0 w 57600"/>
                      <a:gd name="textAreaRight" fmla="*/ 57960 w 57600"/>
                      <a:gd name="textAreaTop" fmla="*/ 0 h 74880"/>
                      <a:gd name="textAreaBottom" fmla="*/ 75240 h 74880"/>
                    </a:gdLst>
                    <a:ahLst/>
                    <a:rect l="textAreaLeft" t="textAreaTop" r="textAreaRight" b="textAreaBottom"/>
                    <a:pathLst>
                      <a:path w="453" h="589">
                        <a:moveTo>
                          <a:pt x="0" y="589"/>
                        </a:moveTo>
                        <a:lnTo>
                          <a:pt x="0" y="121"/>
                        </a:lnTo>
                        <a:lnTo>
                          <a:pt x="453" y="0"/>
                        </a:lnTo>
                        <a:lnTo>
                          <a:pt x="453" y="468"/>
                        </a:lnTo>
                        <a:lnTo>
                          <a:pt x="0" y="589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Freeform 213"/>
                  <p:cNvSpPr/>
                  <p:nvPr/>
                </p:nvSpPr>
                <p:spPr>
                  <a:xfrm>
                    <a:off x="2162880" y="4552560"/>
                    <a:ext cx="57240" cy="7488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74880"/>
                      <a:gd name="textAreaBottom" fmla="*/ 75240 h 74880"/>
                    </a:gdLst>
                    <a:ahLst/>
                    <a:rect l="textAreaLeft" t="textAreaTop" r="textAreaRight" b="textAreaBottom"/>
                    <a:pathLst>
                      <a:path w="451" h="589">
                        <a:moveTo>
                          <a:pt x="0" y="0"/>
                        </a:moveTo>
                        <a:lnTo>
                          <a:pt x="0" y="468"/>
                        </a:lnTo>
                        <a:lnTo>
                          <a:pt x="451" y="589"/>
                        </a:lnTo>
                        <a:lnTo>
                          <a:pt x="451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1955520" y="4326480"/>
                  <a:ext cx="141480" cy="280800"/>
                  <a:chOff x="1955520" y="4326480"/>
                  <a:chExt cx="141480" cy="280800"/>
                </a:xfrm>
              </p:grpSpPr>
              <p:sp>
                <p:nvSpPr>
                  <p:cNvPr id="426" name="Freeform 215"/>
                  <p:cNvSpPr/>
                  <p:nvPr/>
                </p:nvSpPr>
                <p:spPr>
                  <a:xfrm>
                    <a:off x="2020680" y="4462200"/>
                    <a:ext cx="53280" cy="145080"/>
                  </a:xfrm>
                  <a:custGeom>
                    <a:avLst/>
                    <a:gdLst>
                      <a:gd name="textAreaLeft" fmla="*/ 0 w 53280"/>
                      <a:gd name="textAreaRight" fmla="*/ 53640 w 53280"/>
                      <a:gd name="textAreaTop" fmla="*/ 0 h 145080"/>
                      <a:gd name="textAreaBottom" fmla="*/ 145440 h 145080"/>
                    </a:gdLst>
                    <a:ahLst/>
                    <a:rect l="textAreaLeft" t="textAreaTop" r="textAreaRight" b="textAreaBottom"/>
                    <a:pathLst>
                      <a:path w="90" h="245">
                        <a:moveTo>
                          <a:pt x="89" y="156"/>
                        </a:moveTo>
                        <a:cubicBezTo>
                          <a:pt x="89" y="141"/>
                          <a:pt x="90" y="47"/>
                          <a:pt x="89" y="7"/>
                        </a:cubicBezTo>
                        <a:cubicBezTo>
                          <a:pt x="89" y="6"/>
                          <a:pt x="89" y="6"/>
                          <a:pt x="89" y="5"/>
                        </a:cubicBezTo>
                        <a:cubicBezTo>
                          <a:pt x="87" y="16"/>
                          <a:pt x="71" y="22"/>
                          <a:pt x="63" y="20"/>
                        </a:cubicBezTo>
                        <a:cubicBezTo>
                          <a:pt x="55" y="20"/>
                          <a:pt x="24" y="13"/>
                          <a:pt x="12" y="10"/>
                        </a:cubicBezTo>
                        <a:cubicBezTo>
                          <a:pt x="6" y="10"/>
                          <a:pt x="4" y="5"/>
                          <a:pt x="2" y="0"/>
                        </a:cubicBezTo>
                        <a:cubicBezTo>
                          <a:pt x="2" y="18"/>
                          <a:pt x="3" y="32"/>
                          <a:pt x="3" y="36"/>
                        </a:cubicBezTo>
                        <a:cubicBezTo>
                          <a:pt x="3" y="49"/>
                          <a:pt x="0" y="181"/>
                          <a:pt x="2" y="205"/>
                        </a:cubicBezTo>
                        <a:cubicBezTo>
                          <a:pt x="3" y="228"/>
                          <a:pt x="43" y="225"/>
                          <a:pt x="43" y="205"/>
                        </a:cubicBezTo>
                        <a:cubicBezTo>
                          <a:pt x="43" y="171"/>
                          <a:pt x="46" y="55"/>
                          <a:pt x="45" y="51"/>
                        </a:cubicBezTo>
                        <a:cubicBezTo>
                          <a:pt x="45" y="47"/>
                          <a:pt x="36" y="47"/>
                          <a:pt x="36" y="40"/>
                        </a:cubicBezTo>
                        <a:cubicBezTo>
                          <a:pt x="36" y="47"/>
                          <a:pt x="45" y="47"/>
                          <a:pt x="45" y="51"/>
                        </a:cubicBezTo>
                        <a:cubicBezTo>
                          <a:pt x="46" y="55"/>
                          <a:pt x="43" y="171"/>
                          <a:pt x="43" y="205"/>
                        </a:cubicBezTo>
                        <a:cubicBezTo>
                          <a:pt x="43" y="207"/>
                          <a:pt x="44" y="211"/>
                          <a:pt x="44" y="211"/>
                        </a:cubicBezTo>
                        <a:cubicBezTo>
                          <a:pt x="46" y="245"/>
                          <a:pt x="87" y="235"/>
                          <a:pt x="88" y="218"/>
                        </a:cubicBezTo>
                        <a:cubicBezTo>
                          <a:pt x="90" y="201"/>
                          <a:pt x="88" y="171"/>
                          <a:pt x="89" y="15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bdbdb"/>
                      </a:gs>
                      <a:gs pos="50000">
                        <a:srgbClr val="ffffff"/>
                      </a:gs>
                      <a:gs pos="100000">
                        <a:srgbClr val="dbdbdb"/>
                      </a:gs>
                    </a:gsLst>
                    <a:lin ang="108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Freeform 216"/>
                  <p:cNvSpPr/>
                  <p:nvPr/>
                </p:nvSpPr>
                <p:spPr>
                  <a:xfrm>
                    <a:off x="1957320" y="4364640"/>
                    <a:ext cx="139680" cy="115200"/>
                  </a:xfrm>
                  <a:custGeom>
                    <a:avLst/>
                    <a:gdLst>
                      <a:gd name="textAreaLeft" fmla="*/ 0 w 139680"/>
                      <a:gd name="textAreaRight" fmla="*/ 140040 w 139680"/>
                      <a:gd name="textAreaTop" fmla="*/ 0 h 115200"/>
                      <a:gd name="textAreaBottom" fmla="*/ 115560 h 115200"/>
                    </a:gdLst>
                    <a:ahLst/>
                    <a:rect l="textAreaLeft" t="textAreaTop" r="textAreaRight" b="textAreaBottom"/>
                    <a:pathLst>
                      <a:path w="236" h="194">
                        <a:moveTo>
                          <a:pt x="235" y="114"/>
                        </a:moveTo>
                        <a:cubicBezTo>
                          <a:pt x="235" y="114"/>
                          <a:pt x="235" y="114"/>
                          <a:pt x="235" y="114"/>
                        </a:cubicBezTo>
                        <a:cubicBezTo>
                          <a:pt x="230" y="85"/>
                          <a:pt x="226" y="57"/>
                          <a:pt x="225" y="49"/>
                        </a:cubicBezTo>
                        <a:cubicBezTo>
                          <a:pt x="222" y="32"/>
                          <a:pt x="207" y="27"/>
                          <a:pt x="199" y="24"/>
                        </a:cubicBezTo>
                        <a:cubicBezTo>
                          <a:pt x="191" y="21"/>
                          <a:pt x="169" y="16"/>
                          <a:pt x="156" y="13"/>
                        </a:cubicBezTo>
                        <a:cubicBezTo>
                          <a:pt x="144" y="9"/>
                          <a:pt x="125" y="3"/>
                          <a:pt x="116" y="2"/>
                        </a:cubicBezTo>
                        <a:cubicBezTo>
                          <a:pt x="107" y="0"/>
                          <a:pt x="89" y="4"/>
                          <a:pt x="86" y="12"/>
                        </a:cubicBezTo>
                        <a:cubicBezTo>
                          <a:pt x="85" y="14"/>
                          <a:pt x="79" y="50"/>
                          <a:pt x="73" y="86"/>
                        </a:cubicBezTo>
                        <a:cubicBezTo>
                          <a:pt x="73" y="86"/>
                          <a:pt x="73" y="86"/>
                          <a:pt x="73" y="86"/>
                        </a:cubicBezTo>
                        <a:cubicBezTo>
                          <a:pt x="72" y="91"/>
                          <a:pt x="72" y="91"/>
                          <a:pt x="72" y="91"/>
                        </a:cubicBezTo>
                        <a:cubicBezTo>
                          <a:pt x="49" y="96"/>
                          <a:pt x="28" y="103"/>
                          <a:pt x="21" y="104"/>
                        </a:cubicBezTo>
                        <a:cubicBezTo>
                          <a:pt x="0" y="109"/>
                          <a:pt x="9" y="137"/>
                          <a:pt x="26" y="135"/>
                        </a:cubicBezTo>
                        <a:cubicBezTo>
                          <a:pt x="31" y="135"/>
                          <a:pt x="55" y="129"/>
                          <a:pt x="80" y="122"/>
                        </a:cubicBezTo>
                        <a:cubicBezTo>
                          <a:pt x="80" y="122"/>
                          <a:pt x="80" y="122"/>
                          <a:pt x="80" y="122"/>
                        </a:cubicBezTo>
                        <a:cubicBezTo>
                          <a:pt x="86" y="120"/>
                          <a:pt x="86" y="120"/>
                          <a:pt x="86" y="120"/>
                        </a:cubicBezTo>
                        <a:cubicBezTo>
                          <a:pt x="92" y="118"/>
                          <a:pt x="96" y="116"/>
                          <a:pt x="99" y="112"/>
                        </a:cubicBezTo>
                        <a:cubicBezTo>
                          <a:pt x="102" y="108"/>
                          <a:pt x="104" y="102"/>
                          <a:pt x="104" y="92"/>
                        </a:cubicBezTo>
                        <a:cubicBezTo>
                          <a:pt x="104" y="92"/>
                          <a:pt x="104" y="92"/>
                          <a:pt x="104" y="92"/>
                        </a:cubicBezTo>
                        <a:cubicBezTo>
                          <a:pt x="107" y="65"/>
                          <a:pt x="110" y="43"/>
                          <a:pt x="110" y="47"/>
                        </a:cubicBezTo>
                        <a:cubicBezTo>
                          <a:pt x="110" y="53"/>
                          <a:pt x="109" y="125"/>
                          <a:pt x="109" y="167"/>
                        </a:cubicBezTo>
                        <a:cubicBezTo>
                          <a:pt x="110" y="172"/>
                          <a:pt x="112" y="177"/>
                          <a:pt x="118" y="178"/>
                        </a:cubicBezTo>
                        <a:cubicBezTo>
                          <a:pt x="130" y="180"/>
                          <a:pt x="162" y="190"/>
                          <a:pt x="169" y="192"/>
                        </a:cubicBezTo>
                        <a:cubicBezTo>
                          <a:pt x="177" y="194"/>
                          <a:pt x="193" y="184"/>
                          <a:pt x="196" y="173"/>
                        </a:cubicBezTo>
                        <a:cubicBezTo>
                          <a:pt x="196" y="171"/>
                          <a:pt x="196" y="162"/>
                          <a:pt x="196" y="160"/>
                        </a:cubicBezTo>
                        <a:cubicBezTo>
                          <a:pt x="202" y="158"/>
                          <a:pt x="208" y="157"/>
                          <a:pt x="216" y="155"/>
                        </a:cubicBezTo>
                        <a:cubicBezTo>
                          <a:pt x="217" y="155"/>
                          <a:pt x="218" y="154"/>
                          <a:pt x="219" y="154"/>
                        </a:cubicBezTo>
                        <a:cubicBezTo>
                          <a:pt x="225" y="152"/>
                          <a:pt x="229" y="150"/>
                          <a:pt x="232" y="146"/>
                        </a:cubicBezTo>
                        <a:cubicBezTo>
                          <a:pt x="235" y="142"/>
                          <a:pt x="236" y="135"/>
                          <a:pt x="236" y="124"/>
                        </a:cubicBezTo>
                        <a:lnTo>
                          <a:pt x="235" y="114"/>
                        </a:lnTo>
                        <a:close/>
                        <a:moveTo>
                          <a:pt x="192" y="75"/>
                        </a:moveTo>
                        <a:cubicBezTo>
                          <a:pt x="193" y="79"/>
                          <a:pt x="194" y="83"/>
                          <a:pt x="194" y="88"/>
                        </a:cubicBezTo>
                        <a:cubicBezTo>
                          <a:pt x="195" y="97"/>
                          <a:pt x="197" y="108"/>
                          <a:pt x="200" y="123"/>
                        </a:cubicBezTo>
                        <a:cubicBezTo>
                          <a:pt x="198" y="123"/>
                          <a:pt x="197" y="124"/>
                          <a:pt x="196" y="124"/>
                        </a:cubicBezTo>
                        <a:cubicBezTo>
                          <a:pt x="196" y="111"/>
                          <a:pt x="195" y="99"/>
                          <a:pt x="194" y="88"/>
                        </a:cubicBezTo>
                        <a:cubicBezTo>
                          <a:pt x="193" y="82"/>
                          <a:pt x="193" y="78"/>
                          <a:pt x="192" y="75"/>
                        </a:cubicBezTo>
                        <a:cubicBezTo>
                          <a:pt x="192" y="73"/>
                          <a:pt x="192" y="72"/>
                          <a:pt x="192" y="71"/>
                        </a:cubicBezTo>
                        <a:cubicBezTo>
                          <a:pt x="192" y="72"/>
                          <a:pt x="192" y="73"/>
                          <a:pt x="192" y="7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bdbdb"/>
                      </a:gs>
                      <a:gs pos="50000">
                        <a:srgbClr val="ffffff"/>
                      </a:gs>
                      <a:gs pos="100000">
                        <a:srgbClr val="dbdbdb"/>
                      </a:gs>
                    </a:gsLst>
                    <a:lin ang="108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1955520" y="4391280"/>
                    <a:ext cx="114840" cy="90360"/>
                    <a:chOff x="1955520" y="4391280"/>
                    <a:chExt cx="114840" cy="90360"/>
                  </a:xfrm>
                </p:grpSpPr>
                <p:sp>
                  <p:nvSpPr>
                    <p:cNvPr id="429" name="Freeform 218"/>
                    <p:cNvSpPr/>
                    <p:nvPr/>
                  </p:nvSpPr>
                  <p:spPr>
                    <a:xfrm>
                      <a:off x="1955520" y="4391280"/>
                      <a:ext cx="114840" cy="3096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30960"/>
                        <a:gd name="textAreaBottom" fmla="*/ 31320 h 30960"/>
                      </a:gdLst>
                      <a:ahLst/>
                      <a:rect l="textAreaLeft" t="textAreaTop" r="textAreaRight" b="textAreaBottom"/>
                      <a:pathLst>
                        <a:path w="904" h="244">
                          <a:moveTo>
                            <a:pt x="0" y="123"/>
                          </a:moveTo>
                          <a:lnTo>
                            <a:pt x="451" y="0"/>
                          </a:lnTo>
                          <a:lnTo>
                            <a:pt x="904" y="123"/>
                          </a:lnTo>
                          <a:lnTo>
                            <a:pt x="451" y="244"/>
                          </a:lnTo>
                          <a:lnTo>
                            <a:pt x="0" y="123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Freeform 219"/>
                    <p:cNvSpPr/>
                    <p:nvPr/>
                  </p:nvSpPr>
                  <p:spPr>
                    <a:xfrm>
                      <a:off x="2012760" y="4406760"/>
                      <a:ext cx="57600" cy="74880"/>
                    </a:xfrm>
                    <a:custGeom>
                      <a:avLst/>
                      <a:gdLst>
                        <a:gd name="textAreaLeft" fmla="*/ 0 w 57600"/>
                        <a:gd name="textAreaRight" fmla="*/ 57960 w 57600"/>
                        <a:gd name="textAreaTop" fmla="*/ 0 h 74880"/>
                        <a:gd name="textAreaBottom" fmla="*/ 75240 h 74880"/>
                      </a:gdLst>
                      <a:ahLst/>
                      <a:rect l="textAreaLeft" t="textAreaTop" r="textAreaRight" b="textAreaBottom"/>
                      <a:pathLst>
                        <a:path w="453" h="589">
                          <a:moveTo>
                            <a:pt x="0" y="589"/>
                          </a:moveTo>
                          <a:lnTo>
                            <a:pt x="0" y="121"/>
                          </a:lnTo>
                          <a:lnTo>
                            <a:pt x="453" y="0"/>
                          </a:lnTo>
                          <a:lnTo>
                            <a:pt x="453" y="468"/>
                          </a:lnTo>
                          <a:lnTo>
                            <a:pt x="0" y="589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Freeform 220"/>
                    <p:cNvSpPr/>
                    <p:nvPr/>
                  </p:nvSpPr>
                  <p:spPr>
                    <a:xfrm>
                      <a:off x="1955520" y="4406760"/>
                      <a:ext cx="57240" cy="74880"/>
                    </a:xfrm>
                    <a:custGeom>
                      <a:avLst/>
                      <a:gdLst>
                        <a:gd name="textAreaLeft" fmla="*/ 0 w 57240"/>
                        <a:gd name="textAreaRight" fmla="*/ 57600 w 57240"/>
                        <a:gd name="textAreaTop" fmla="*/ 0 h 74880"/>
                        <a:gd name="textAreaBottom" fmla="*/ 75240 h 74880"/>
                      </a:gdLst>
                      <a:ahLst/>
                      <a:rect l="textAreaLeft" t="textAreaTop" r="textAreaRight" b="textAreaBottom"/>
                      <a:pathLst>
                        <a:path w="451" h="589">
                          <a:moveTo>
                            <a:pt x="0" y="0"/>
                          </a:moveTo>
                          <a:lnTo>
                            <a:pt x="0" y="468"/>
                          </a:lnTo>
                          <a:lnTo>
                            <a:pt x="451" y="589"/>
                          </a:lnTo>
                          <a:lnTo>
                            <a:pt x="451" y="1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2" name="Freeform 221"/>
                  <p:cNvSpPr/>
                  <p:nvPr/>
                </p:nvSpPr>
                <p:spPr>
                  <a:xfrm>
                    <a:off x="2027160" y="4357800"/>
                    <a:ext cx="38880" cy="2448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66" h="41">
                        <a:moveTo>
                          <a:pt x="29" y="39"/>
                        </a:moveTo>
                        <a:cubicBezTo>
                          <a:pt x="14" y="37"/>
                          <a:pt x="0" y="25"/>
                          <a:pt x="10" y="23"/>
                        </a:cubicBezTo>
                        <a:cubicBezTo>
                          <a:pt x="16" y="21"/>
                          <a:pt x="13" y="16"/>
                          <a:pt x="15" y="13"/>
                        </a:cubicBezTo>
                        <a:cubicBezTo>
                          <a:pt x="18" y="10"/>
                          <a:pt x="53" y="0"/>
                          <a:pt x="53" y="16"/>
                        </a:cubicBezTo>
                        <a:cubicBezTo>
                          <a:pt x="53" y="21"/>
                          <a:pt x="47" y="25"/>
                          <a:pt x="57" y="29"/>
                        </a:cubicBezTo>
                        <a:cubicBezTo>
                          <a:pt x="66" y="33"/>
                          <a:pt x="46" y="41"/>
                          <a:pt x="29" y="39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Freeform 222"/>
                  <p:cNvSpPr/>
                  <p:nvPr/>
                </p:nvSpPr>
                <p:spPr>
                  <a:xfrm>
                    <a:off x="2031480" y="4437720"/>
                    <a:ext cx="54000" cy="3204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91" h="54">
                        <a:moveTo>
                          <a:pt x="75" y="0"/>
                        </a:moveTo>
                        <a:cubicBezTo>
                          <a:pt x="61" y="4"/>
                          <a:pt x="45" y="9"/>
                          <a:pt x="27" y="14"/>
                        </a:cubicBezTo>
                        <a:cubicBezTo>
                          <a:pt x="0" y="22"/>
                          <a:pt x="17" y="54"/>
                          <a:pt x="40" y="46"/>
                        </a:cubicBezTo>
                        <a:cubicBezTo>
                          <a:pt x="44" y="44"/>
                          <a:pt x="65" y="38"/>
                          <a:pt x="91" y="32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dbdbdb"/>
                      </a:gs>
                      <a:gs pos="50000">
                        <a:srgbClr val="ffffff"/>
                      </a:gs>
                      <a:gs pos="100000">
                        <a:srgbClr val="dbdbdb"/>
                      </a:gs>
                    </a:gsLst>
                    <a:lin ang="108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Oval 223"/>
                  <p:cNvSpPr/>
                  <p:nvPr/>
                </p:nvSpPr>
                <p:spPr>
                  <a:xfrm flipH="1">
                    <a:off x="2022840" y="4326480"/>
                    <a:ext cx="46800" cy="4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2261160" y="4564440"/>
                  <a:ext cx="114840" cy="90000"/>
                  <a:chOff x="2261160" y="4564440"/>
                  <a:chExt cx="114840" cy="90000"/>
                </a:xfrm>
              </p:grpSpPr>
              <p:sp>
                <p:nvSpPr>
                  <p:cNvPr id="436" name="Freeform 225"/>
                  <p:cNvSpPr/>
                  <p:nvPr/>
                </p:nvSpPr>
                <p:spPr>
                  <a:xfrm>
                    <a:off x="2261160" y="4564440"/>
                    <a:ext cx="114840" cy="3096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30960"/>
                      <a:gd name="textAreaBottom" fmla="*/ 31320 h 3096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3"/>
                        </a:moveTo>
                        <a:lnTo>
                          <a:pt x="451" y="0"/>
                        </a:lnTo>
                        <a:lnTo>
                          <a:pt x="904" y="123"/>
                        </a:lnTo>
                        <a:lnTo>
                          <a:pt x="451" y="244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Freeform 226"/>
                  <p:cNvSpPr/>
                  <p:nvPr/>
                </p:nvSpPr>
                <p:spPr>
                  <a:xfrm>
                    <a:off x="2318400" y="4579920"/>
                    <a:ext cx="57600" cy="74520"/>
                  </a:xfrm>
                  <a:custGeom>
                    <a:avLst/>
                    <a:gdLst>
                      <a:gd name="textAreaLeft" fmla="*/ 0 w 57600"/>
                      <a:gd name="textAreaRight" fmla="*/ 57960 w 5760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3" h="589">
                        <a:moveTo>
                          <a:pt x="0" y="589"/>
                        </a:moveTo>
                        <a:lnTo>
                          <a:pt x="0" y="121"/>
                        </a:lnTo>
                        <a:lnTo>
                          <a:pt x="453" y="0"/>
                        </a:lnTo>
                        <a:lnTo>
                          <a:pt x="453" y="468"/>
                        </a:lnTo>
                        <a:lnTo>
                          <a:pt x="0" y="589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Freeform 227"/>
                  <p:cNvSpPr/>
                  <p:nvPr/>
                </p:nvSpPr>
                <p:spPr>
                  <a:xfrm>
                    <a:off x="2261160" y="4579920"/>
                    <a:ext cx="57240" cy="745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1" h="589">
                        <a:moveTo>
                          <a:pt x="0" y="0"/>
                        </a:moveTo>
                        <a:lnTo>
                          <a:pt x="0" y="468"/>
                        </a:lnTo>
                        <a:lnTo>
                          <a:pt x="451" y="589"/>
                        </a:lnTo>
                        <a:lnTo>
                          <a:pt x="451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2220120" y="4492440"/>
                  <a:ext cx="114840" cy="90360"/>
                  <a:chOff x="2220120" y="4492440"/>
                  <a:chExt cx="114840" cy="90360"/>
                </a:xfrm>
              </p:grpSpPr>
              <p:sp>
                <p:nvSpPr>
                  <p:cNvPr id="440" name="Freeform 229"/>
                  <p:cNvSpPr/>
                  <p:nvPr/>
                </p:nvSpPr>
                <p:spPr>
                  <a:xfrm>
                    <a:off x="2220120" y="4492440"/>
                    <a:ext cx="114840" cy="30960"/>
                  </a:xfrm>
                  <a:custGeom>
                    <a:avLst/>
                    <a:gdLst>
                      <a:gd name="textAreaLeft" fmla="*/ 0 w 114840"/>
                      <a:gd name="textAreaRight" fmla="*/ 115200 w 114840"/>
                      <a:gd name="textAreaTop" fmla="*/ 0 h 30960"/>
                      <a:gd name="textAreaBottom" fmla="*/ 31320 h 3096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3"/>
                        </a:moveTo>
                        <a:lnTo>
                          <a:pt x="451" y="0"/>
                        </a:lnTo>
                        <a:lnTo>
                          <a:pt x="904" y="123"/>
                        </a:lnTo>
                        <a:lnTo>
                          <a:pt x="451" y="244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230"/>
                  <p:cNvSpPr/>
                  <p:nvPr/>
                </p:nvSpPr>
                <p:spPr>
                  <a:xfrm>
                    <a:off x="2277360" y="4507920"/>
                    <a:ext cx="57600" cy="74880"/>
                  </a:xfrm>
                  <a:custGeom>
                    <a:avLst/>
                    <a:gdLst>
                      <a:gd name="textAreaLeft" fmla="*/ 0 w 57600"/>
                      <a:gd name="textAreaRight" fmla="*/ 57960 w 57600"/>
                      <a:gd name="textAreaTop" fmla="*/ 0 h 74880"/>
                      <a:gd name="textAreaBottom" fmla="*/ 75240 h 74880"/>
                    </a:gdLst>
                    <a:ahLst/>
                    <a:rect l="textAreaLeft" t="textAreaTop" r="textAreaRight" b="textAreaBottom"/>
                    <a:pathLst>
                      <a:path w="453" h="589">
                        <a:moveTo>
                          <a:pt x="0" y="589"/>
                        </a:moveTo>
                        <a:lnTo>
                          <a:pt x="0" y="121"/>
                        </a:lnTo>
                        <a:lnTo>
                          <a:pt x="453" y="0"/>
                        </a:lnTo>
                        <a:lnTo>
                          <a:pt x="453" y="468"/>
                        </a:lnTo>
                        <a:lnTo>
                          <a:pt x="0" y="589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Freeform 231"/>
                  <p:cNvSpPr/>
                  <p:nvPr/>
                </p:nvSpPr>
                <p:spPr>
                  <a:xfrm>
                    <a:off x="2220120" y="4507920"/>
                    <a:ext cx="57240" cy="7488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74880"/>
                      <a:gd name="textAreaBottom" fmla="*/ 75240 h 74880"/>
                    </a:gdLst>
                    <a:ahLst/>
                    <a:rect l="textAreaLeft" t="textAreaTop" r="textAreaRight" b="textAreaBottom"/>
                    <a:pathLst>
                      <a:path w="451" h="589">
                        <a:moveTo>
                          <a:pt x="0" y="0"/>
                        </a:moveTo>
                        <a:lnTo>
                          <a:pt x="0" y="468"/>
                        </a:lnTo>
                        <a:lnTo>
                          <a:pt x="451" y="589"/>
                        </a:lnTo>
                        <a:lnTo>
                          <a:pt x="451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3" name=""/>
            <p:cNvGrpSpPr/>
            <p:nvPr/>
          </p:nvGrpSpPr>
          <p:grpSpPr>
            <a:xfrm>
              <a:off x="2370960" y="4781160"/>
              <a:ext cx="463680" cy="138240"/>
              <a:chOff x="2370960" y="4781160"/>
              <a:chExt cx="463680" cy="138240"/>
            </a:xfrm>
          </p:grpSpPr>
          <p:sp>
            <p:nvSpPr>
              <p:cNvPr id="444" name="Freeform 233"/>
              <p:cNvSpPr/>
              <p:nvPr/>
            </p:nvSpPr>
            <p:spPr>
              <a:xfrm flipH="1">
                <a:off x="2805840" y="4816440"/>
                <a:ext cx="28800" cy="9324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196" h="630">
                    <a:moveTo>
                      <a:pt x="0" y="0"/>
                    </a:moveTo>
                    <a:lnTo>
                      <a:pt x="0" y="97"/>
                    </a:lnTo>
                    <a:lnTo>
                      <a:pt x="196" y="630"/>
                    </a:lnTo>
                    <a:lnTo>
                      <a:pt x="196" y="5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34"/>
              <p:cNvSpPr/>
              <p:nvPr/>
            </p:nvSpPr>
            <p:spPr>
              <a:xfrm flipH="1">
                <a:off x="2503440" y="4895280"/>
                <a:ext cx="302400" cy="24120"/>
              </a:xfrm>
              <a:custGeom>
                <a:avLst/>
                <a:gdLst>
                  <a:gd name="textAreaLeft" fmla="*/ 360 w 302400"/>
                  <a:gd name="textAreaRight" fmla="*/ 303120 w 30240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043" h="163">
                    <a:moveTo>
                      <a:pt x="2043" y="163"/>
                    </a:moveTo>
                    <a:lnTo>
                      <a:pt x="2043" y="68"/>
                    </a:lnTo>
                    <a:lnTo>
                      <a:pt x="0" y="0"/>
                    </a:lnTo>
                    <a:lnTo>
                      <a:pt x="0" y="96"/>
                    </a:lnTo>
                    <a:lnTo>
                      <a:pt x="2043" y="163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5"/>
              <p:cNvSpPr/>
              <p:nvPr/>
            </p:nvSpPr>
            <p:spPr>
              <a:xfrm flipH="1">
                <a:off x="2370960" y="4834080"/>
                <a:ext cx="198720" cy="67320"/>
              </a:xfrm>
              <a:custGeom>
                <a:avLst/>
                <a:gdLst>
                  <a:gd name="textAreaLeft" fmla="*/ 360 w 198720"/>
                  <a:gd name="textAreaRight" fmla="*/ 199440 w 1987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1344" h="456">
                    <a:moveTo>
                      <a:pt x="1344" y="0"/>
                    </a:moveTo>
                    <a:lnTo>
                      <a:pt x="1344" y="95"/>
                    </a:lnTo>
                    <a:lnTo>
                      <a:pt x="0" y="456"/>
                    </a:lnTo>
                    <a:lnTo>
                      <a:pt x="0" y="362"/>
                    </a:lnTo>
                    <a:lnTo>
                      <a:pt x="1344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36"/>
              <p:cNvSpPr/>
              <p:nvPr/>
            </p:nvSpPr>
            <p:spPr>
              <a:xfrm flipH="1">
                <a:off x="2370960" y="4781160"/>
                <a:ext cx="463680" cy="124200"/>
              </a:xfrm>
              <a:custGeom>
                <a:avLst/>
                <a:gdLst>
                  <a:gd name="textAreaLeft" fmla="*/ 360 w 463680"/>
                  <a:gd name="textAreaRight" fmla="*/ 464400 w 46368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3134" h="841">
                    <a:moveTo>
                      <a:pt x="196" y="773"/>
                    </a:moveTo>
                    <a:lnTo>
                      <a:pt x="0" y="239"/>
                    </a:lnTo>
                    <a:lnTo>
                      <a:pt x="446" y="359"/>
                    </a:lnTo>
                    <a:lnTo>
                      <a:pt x="1790" y="0"/>
                    </a:lnTo>
                    <a:lnTo>
                      <a:pt x="3134" y="359"/>
                    </a:lnTo>
                    <a:lnTo>
                      <a:pt x="1790" y="721"/>
                    </a:lnTo>
                    <a:lnTo>
                      <a:pt x="2239" y="841"/>
                    </a:lnTo>
                    <a:lnTo>
                      <a:pt x="196" y="773"/>
                    </a:lnTo>
                    <a:close/>
                  </a:path>
                </a:pathLst>
              </a:custGeom>
              <a:solidFill>
                <a:srgbClr val="333333"/>
              </a:soli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1101600" y="5159880"/>
              <a:ext cx="1746720" cy="467640"/>
              <a:chOff x="1101600" y="5159880"/>
              <a:chExt cx="1746720" cy="467640"/>
            </a:xfrm>
          </p:grpSpPr>
          <p:sp>
            <p:nvSpPr>
              <p:cNvPr id="449" name="Freeform 238"/>
              <p:cNvSpPr/>
              <p:nvPr/>
            </p:nvSpPr>
            <p:spPr>
              <a:xfrm>
                <a:off x="1101600" y="5159880"/>
                <a:ext cx="1746720" cy="467640"/>
              </a:xfrm>
              <a:custGeom>
                <a:avLst/>
                <a:gdLst>
                  <a:gd name="textAreaLeft" fmla="*/ 0 w 1746720"/>
                  <a:gd name="textAreaRight" fmla="*/ 1747080 w 1746720"/>
                  <a:gd name="textAreaTop" fmla="*/ 0 h 467640"/>
                  <a:gd name="textAreaBottom" fmla="*/ 468000 h 467640"/>
                </a:gdLst>
                <a:ahLst/>
                <a:rect l="textAreaLeft" t="textAreaTop" r="textAreaRight" b="textAreaBottom"/>
                <a:pathLst>
                  <a:path w="161" h="44">
                    <a:moveTo>
                      <a:pt x="0" y="22"/>
                    </a:moveTo>
                    <a:lnTo>
                      <a:pt x="81" y="0"/>
                    </a:lnTo>
                    <a:lnTo>
                      <a:pt x="161" y="22"/>
                    </a:lnTo>
                    <a:lnTo>
                      <a:pt x="81" y="44"/>
                    </a:lnTo>
                    <a:lnTo>
                      <a:pt x="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caca"/>
                  </a:gs>
                  <a:gs pos="100000">
                    <a:srgbClr val="b2b2b2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  <a:effectLst>
                <a:outerShdw dist="12600" dir="54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1613880" y="5207040"/>
                <a:ext cx="579960" cy="291240"/>
                <a:chOff x="1613880" y="5207040"/>
                <a:chExt cx="579960" cy="291240"/>
              </a:xfrm>
            </p:grpSpPr>
            <p:grpSp>
              <p:nvGrpSpPr>
                <p:cNvPr id="451" name=""/>
                <p:cNvGrpSpPr/>
                <p:nvPr/>
              </p:nvGrpSpPr>
              <p:grpSpPr>
                <a:xfrm>
                  <a:off x="1783800" y="5207040"/>
                  <a:ext cx="139680" cy="238680"/>
                  <a:chOff x="1783800" y="5207040"/>
                  <a:chExt cx="139680" cy="238680"/>
                </a:xfrm>
              </p:grpSpPr>
              <p:sp>
                <p:nvSpPr>
                  <p:cNvPr id="452" name="Freeform 241"/>
                  <p:cNvSpPr/>
                  <p:nvPr/>
                </p:nvSpPr>
                <p:spPr>
                  <a:xfrm>
                    <a:off x="1783800" y="5245920"/>
                    <a:ext cx="139680" cy="109800"/>
                  </a:xfrm>
                  <a:custGeom>
                    <a:avLst/>
                    <a:gdLst>
                      <a:gd name="textAreaLeft" fmla="*/ 0 w 139680"/>
                      <a:gd name="textAreaRight" fmla="*/ 140040 w 1396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37" h="186">
                        <a:moveTo>
                          <a:pt x="235" y="113"/>
                        </a:moveTo>
                        <a:cubicBezTo>
                          <a:pt x="235" y="113"/>
                          <a:pt x="235" y="113"/>
                          <a:pt x="235" y="113"/>
                        </a:cubicBezTo>
                        <a:cubicBezTo>
                          <a:pt x="230" y="84"/>
                          <a:pt x="226" y="57"/>
                          <a:pt x="225" y="49"/>
                        </a:cubicBezTo>
                        <a:cubicBezTo>
                          <a:pt x="223" y="32"/>
                          <a:pt x="207" y="26"/>
                          <a:pt x="199" y="24"/>
                        </a:cubicBezTo>
                        <a:cubicBezTo>
                          <a:pt x="192" y="21"/>
                          <a:pt x="169" y="16"/>
                          <a:pt x="156" y="12"/>
                        </a:cubicBezTo>
                        <a:cubicBezTo>
                          <a:pt x="145" y="9"/>
                          <a:pt x="125" y="3"/>
                          <a:pt x="116" y="2"/>
                        </a:cubicBezTo>
                        <a:cubicBezTo>
                          <a:pt x="107" y="0"/>
                          <a:pt x="90" y="4"/>
                          <a:pt x="87" y="12"/>
                        </a:cubicBezTo>
                        <a:cubicBezTo>
                          <a:pt x="86" y="14"/>
                          <a:pt x="79" y="50"/>
                          <a:pt x="73" y="85"/>
                        </a:cubicBezTo>
                        <a:cubicBezTo>
                          <a:pt x="73" y="85"/>
                          <a:pt x="73" y="85"/>
                          <a:pt x="73" y="85"/>
                        </a:cubicBezTo>
                        <a:cubicBezTo>
                          <a:pt x="72" y="90"/>
                          <a:pt x="72" y="90"/>
                          <a:pt x="72" y="90"/>
                        </a:cubicBezTo>
                        <a:cubicBezTo>
                          <a:pt x="49" y="96"/>
                          <a:pt x="29" y="102"/>
                          <a:pt x="21" y="104"/>
                        </a:cubicBezTo>
                        <a:cubicBezTo>
                          <a:pt x="0" y="108"/>
                          <a:pt x="9" y="137"/>
                          <a:pt x="26" y="135"/>
                        </a:cubicBezTo>
                        <a:cubicBezTo>
                          <a:pt x="31" y="135"/>
                          <a:pt x="55" y="129"/>
                          <a:pt x="80" y="122"/>
                        </a:cubicBezTo>
                        <a:cubicBezTo>
                          <a:pt x="80" y="122"/>
                          <a:pt x="80" y="122"/>
                          <a:pt x="80" y="122"/>
                        </a:cubicBezTo>
                        <a:cubicBezTo>
                          <a:pt x="86" y="120"/>
                          <a:pt x="86" y="120"/>
                          <a:pt x="86" y="120"/>
                        </a:cubicBezTo>
                        <a:cubicBezTo>
                          <a:pt x="92" y="118"/>
                          <a:pt x="96" y="116"/>
                          <a:pt x="99" y="112"/>
                        </a:cubicBezTo>
                        <a:cubicBezTo>
                          <a:pt x="102" y="108"/>
                          <a:pt x="104" y="102"/>
                          <a:pt x="104" y="92"/>
                        </a:cubicBezTo>
                        <a:cubicBezTo>
                          <a:pt x="104" y="92"/>
                          <a:pt x="104" y="92"/>
                          <a:pt x="104" y="92"/>
                        </a:cubicBezTo>
                        <a:cubicBezTo>
                          <a:pt x="108" y="65"/>
                          <a:pt x="111" y="43"/>
                          <a:pt x="110" y="47"/>
                        </a:cubicBezTo>
                        <a:cubicBezTo>
                          <a:pt x="110" y="53"/>
                          <a:pt x="109" y="117"/>
                          <a:pt x="109" y="160"/>
                        </a:cubicBezTo>
                        <a:cubicBezTo>
                          <a:pt x="110" y="165"/>
                          <a:pt x="112" y="170"/>
                          <a:pt x="119" y="170"/>
                        </a:cubicBezTo>
                        <a:cubicBezTo>
                          <a:pt x="131" y="173"/>
                          <a:pt x="162" y="183"/>
                          <a:pt x="169" y="184"/>
                        </a:cubicBezTo>
                        <a:cubicBezTo>
                          <a:pt x="178" y="186"/>
                          <a:pt x="193" y="176"/>
                          <a:pt x="196" y="165"/>
                        </a:cubicBezTo>
                        <a:cubicBezTo>
                          <a:pt x="196" y="163"/>
                          <a:pt x="196" y="162"/>
                          <a:pt x="196" y="160"/>
                        </a:cubicBezTo>
                        <a:cubicBezTo>
                          <a:pt x="202" y="158"/>
                          <a:pt x="209" y="157"/>
                          <a:pt x="216" y="155"/>
                        </a:cubicBezTo>
                        <a:cubicBezTo>
                          <a:pt x="217" y="154"/>
                          <a:pt x="218" y="154"/>
                          <a:pt x="219" y="154"/>
                        </a:cubicBezTo>
                        <a:cubicBezTo>
                          <a:pt x="225" y="152"/>
                          <a:pt x="229" y="150"/>
                          <a:pt x="232" y="146"/>
                        </a:cubicBezTo>
                        <a:cubicBezTo>
                          <a:pt x="235" y="141"/>
                          <a:pt x="237" y="135"/>
                          <a:pt x="237" y="124"/>
                        </a:cubicBezTo>
                        <a:lnTo>
                          <a:pt x="235" y="113"/>
                        </a:lnTo>
                        <a:close/>
                        <a:moveTo>
                          <a:pt x="193" y="75"/>
                        </a:moveTo>
                        <a:cubicBezTo>
                          <a:pt x="194" y="79"/>
                          <a:pt x="194" y="83"/>
                          <a:pt x="194" y="87"/>
                        </a:cubicBezTo>
                        <a:cubicBezTo>
                          <a:pt x="196" y="96"/>
                          <a:pt x="198" y="108"/>
                          <a:pt x="200" y="123"/>
                        </a:cubicBezTo>
                        <a:cubicBezTo>
                          <a:pt x="199" y="123"/>
                          <a:pt x="197" y="123"/>
                          <a:pt x="196" y="124"/>
                        </a:cubicBezTo>
                        <a:cubicBezTo>
                          <a:pt x="196" y="111"/>
                          <a:pt x="195" y="99"/>
                          <a:pt x="194" y="87"/>
                        </a:cubicBezTo>
                        <a:cubicBezTo>
                          <a:pt x="194" y="82"/>
                          <a:pt x="193" y="78"/>
                          <a:pt x="193" y="75"/>
                        </a:cubicBezTo>
                        <a:cubicBezTo>
                          <a:pt x="192" y="73"/>
                          <a:pt x="192" y="72"/>
                          <a:pt x="192" y="70"/>
                        </a:cubicBezTo>
                        <a:cubicBezTo>
                          <a:pt x="192" y="72"/>
                          <a:pt x="193" y="73"/>
                          <a:pt x="193" y="7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bdbdb"/>
                      </a:gs>
                      <a:gs pos="50000">
                        <a:srgbClr val="ffffff"/>
                      </a:gs>
                      <a:gs pos="100000">
                        <a:srgbClr val="dbdbdb"/>
                      </a:gs>
                    </a:gsLst>
                    <a:lin ang="108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Freeform 242"/>
                  <p:cNvSpPr/>
                  <p:nvPr/>
                </p:nvSpPr>
                <p:spPr>
                  <a:xfrm>
                    <a:off x="1853280" y="5238720"/>
                    <a:ext cx="38880" cy="24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24120"/>
                      <a:gd name="textAreaBottom" fmla="*/ 24480 h 24120"/>
                    </a:gdLst>
                    <a:ahLst/>
                    <a:rect l="textAreaLeft" t="textAreaTop" r="textAreaRight" b="textAreaBottom"/>
                    <a:pathLst>
                      <a:path w="66" h="41">
                        <a:moveTo>
                          <a:pt x="30" y="39"/>
                        </a:moveTo>
                        <a:cubicBezTo>
                          <a:pt x="14" y="37"/>
                          <a:pt x="0" y="25"/>
                          <a:pt x="10" y="23"/>
                        </a:cubicBezTo>
                        <a:cubicBezTo>
                          <a:pt x="17" y="21"/>
                          <a:pt x="13" y="15"/>
                          <a:pt x="16" y="13"/>
                        </a:cubicBezTo>
                        <a:cubicBezTo>
                          <a:pt x="19" y="10"/>
                          <a:pt x="54" y="0"/>
                          <a:pt x="54" y="16"/>
                        </a:cubicBezTo>
                        <a:cubicBezTo>
                          <a:pt x="54" y="21"/>
                          <a:pt x="48" y="25"/>
                          <a:pt x="57" y="29"/>
                        </a:cubicBezTo>
                        <a:cubicBezTo>
                          <a:pt x="66" y="33"/>
                          <a:pt x="46" y="41"/>
                          <a:pt x="30" y="39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Freeform 243"/>
                  <p:cNvSpPr/>
                  <p:nvPr/>
                </p:nvSpPr>
                <p:spPr>
                  <a:xfrm>
                    <a:off x="1805760" y="5339520"/>
                    <a:ext cx="93600" cy="10620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59" h="180">
                        <a:moveTo>
                          <a:pt x="159" y="6"/>
                        </a:moveTo>
                        <a:cubicBezTo>
                          <a:pt x="156" y="17"/>
                          <a:pt x="140" y="23"/>
                          <a:pt x="132" y="21"/>
                        </a:cubicBezTo>
                        <a:cubicBezTo>
                          <a:pt x="124" y="20"/>
                          <a:pt x="94" y="14"/>
                          <a:pt x="81" y="11"/>
                        </a:cubicBezTo>
                        <a:cubicBezTo>
                          <a:pt x="75" y="10"/>
                          <a:pt x="73" y="5"/>
                          <a:pt x="72" y="0"/>
                        </a:cubicBezTo>
                        <a:cubicBezTo>
                          <a:pt x="72" y="19"/>
                          <a:pt x="72" y="18"/>
                          <a:pt x="68" y="19"/>
                        </a:cubicBezTo>
                        <a:cubicBezTo>
                          <a:pt x="68" y="19"/>
                          <a:pt x="28" y="28"/>
                          <a:pt x="17" y="32"/>
                        </a:cubicBezTo>
                        <a:cubicBezTo>
                          <a:pt x="7" y="36"/>
                          <a:pt x="2" y="42"/>
                          <a:pt x="1" y="55"/>
                        </a:cubicBezTo>
                        <a:cubicBezTo>
                          <a:pt x="1" y="55"/>
                          <a:pt x="0" y="135"/>
                          <a:pt x="1" y="145"/>
                        </a:cubicBezTo>
                        <a:cubicBezTo>
                          <a:pt x="2" y="163"/>
                          <a:pt x="25" y="165"/>
                          <a:pt x="36" y="156"/>
                        </a:cubicBezTo>
                        <a:cubicBezTo>
                          <a:pt x="39" y="153"/>
                          <a:pt x="43" y="149"/>
                          <a:pt x="43" y="145"/>
                        </a:cubicBezTo>
                        <a:cubicBezTo>
                          <a:pt x="42" y="130"/>
                          <a:pt x="42" y="102"/>
                          <a:pt x="42" y="73"/>
                        </a:cubicBezTo>
                        <a:cubicBezTo>
                          <a:pt x="42" y="73"/>
                          <a:pt x="42" y="73"/>
                          <a:pt x="42" y="73"/>
                        </a:cubicBezTo>
                        <a:cubicBezTo>
                          <a:pt x="42" y="73"/>
                          <a:pt x="42" y="72"/>
                          <a:pt x="42" y="72"/>
                        </a:cubicBezTo>
                        <a:cubicBezTo>
                          <a:pt x="42" y="70"/>
                          <a:pt x="42" y="68"/>
                          <a:pt x="42" y="66"/>
                        </a:cubicBezTo>
                        <a:cubicBezTo>
                          <a:pt x="42" y="65"/>
                          <a:pt x="42" y="65"/>
                          <a:pt x="42" y="64"/>
                        </a:cubicBezTo>
                        <a:cubicBezTo>
                          <a:pt x="42" y="64"/>
                          <a:pt x="42" y="63"/>
                          <a:pt x="42" y="63"/>
                        </a:cubicBezTo>
                        <a:cubicBezTo>
                          <a:pt x="43" y="50"/>
                          <a:pt x="48" y="44"/>
                          <a:pt x="59" y="41"/>
                        </a:cubicBezTo>
                        <a:cubicBezTo>
                          <a:pt x="68" y="37"/>
                          <a:pt x="101" y="30"/>
                          <a:pt x="103" y="30"/>
                        </a:cubicBezTo>
                        <a:cubicBezTo>
                          <a:pt x="107" y="28"/>
                          <a:pt x="107" y="28"/>
                          <a:pt x="103" y="30"/>
                        </a:cubicBezTo>
                        <a:cubicBezTo>
                          <a:pt x="101" y="30"/>
                          <a:pt x="68" y="37"/>
                          <a:pt x="59" y="41"/>
                        </a:cubicBezTo>
                        <a:cubicBezTo>
                          <a:pt x="48" y="44"/>
                          <a:pt x="43" y="50"/>
                          <a:pt x="42" y="63"/>
                        </a:cubicBezTo>
                        <a:cubicBezTo>
                          <a:pt x="42" y="64"/>
                          <a:pt x="42" y="70"/>
                          <a:pt x="42" y="71"/>
                        </a:cubicBezTo>
                        <a:cubicBezTo>
                          <a:pt x="42" y="71"/>
                          <a:pt x="42" y="71"/>
                          <a:pt x="42" y="72"/>
                        </a:cubicBezTo>
                        <a:cubicBezTo>
                          <a:pt x="42" y="72"/>
                          <a:pt x="42" y="74"/>
                          <a:pt x="42" y="77"/>
                        </a:cubicBezTo>
                        <a:cubicBezTo>
                          <a:pt x="42" y="77"/>
                          <a:pt x="42" y="77"/>
                          <a:pt x="42" y="77"/>
                        </a:cubicBezTo>
                        <a:cubicBezTo>
                          <a:pt x="43" y="154"/>
                          <a:pt x="43" y="154"/>
                          <a:pt x="43" y="154"/>
                        </a:cubicBezTo>
                        <a:cubicBezTo>
                          <a:pt x="42" y="154"/>
                          <a:pt x="43" y="154"/>
                          <a:pt x="43" y="154"/>
                        </a:cubicBezTo>
                        <a:cubicBezTo>
                          <a:pt x="43" y="155"/>
                          <a:pt x="43" y="156"/>
                          <a:pt x="43" y="157"/>
                        </a:cubicBezTo>
                        <a:cubicBezTo>
                          <a:pt x="44" y="180"/>
                          <a:pt x="84" y="177"/>
                          <a:pt x="84" y="157"/>
                        </a:cubicBezTo>
                        <a:cubicBezTo>
                          <a:pt x="84" y="142"/>
                          <a:pt x="85" y="80"/>
                          <a:pt x="85" y="77"/>
                        </a:cubicBezTo>
                        <a:cubicBezTo>
                          <a:pt x="85" y="74"/>
                          <a:pt x="87" y="70"/>
                          <a:pt x="89" y="69"/>
                        </a:cubicBezTo>
                        <a:cubicBezTo>
                          <a:pt x="91" y="69"/>
                          <a:pt x="136" y="57"/>
                          <a:pt x="141" y="55"/>
                        </a:cubicBezTo>
                        <a:cubicBezTo>
                          <a:pt x="153" y="52"/>
                          <a:pt x="159" y="47"/>
                          <a:pt x="159" y="25"/>
                        </a:cubicBezTo>
                        <a:cubicBezTo>
                          <a:pt x="159" y="8"/>
                          <a:pt x="159" y="8"/>
                          <a:pt x="159" y="8"/>
                        </a:cubicBezTo>
                        <a:cubicBezTo>
                          <a:pt x="159" y="7"/>
                          <a:pt x="159" y="7"/>
                          <a:pt x="159" y="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bdbdb"/>
                      </a:gs>
                      <a:gs pos="50000">
                        <a:srgbClr val="ffffff"/>
                      </a:gs>
                      <a:gs pos="100000">
                        <a:srgbClr val="dbdbdb"/>
                      </a:gs>
                    </a:gsLst>
                    <a:lin ang="108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Freeform 244"/>
                  <p:cNvSpPr/>
                  <p:nvPr/>
                </p:nvSpPr>
                <p:spPr>
                  <a:xfrm>
                    <a:off x="1857600" y="5318640"/>
                    <a:ext cx="53280" cy="31680"/>
                  </a:xfrm>
                  <a:custGeom>
                    <a:avLst/>
                    <a:gdLst>
                      <a:gd name="textAreaLeft" fmla="*/ 0 w 53280"/>
                      <a:gd name="textAreaRight" fmla="*/ 53640 w 53280"/>
                      <a:gd name="textAreaTop" fmla="*/ 0 h 31680"/>
                      <a:gd name="textAreaBottom" fmla="*/ 32040 h 31680"/>
                    </a:gdLst>
                    <a:ahLst/>
                    <a:rect l="textAreaLeft" t="textAreaTop" r="textAreaRight" b="textAreaBottom"/>
                    <a:pathLst>
                      <a:path w="91" h="54">
                        <a:moveTo>
                          <a:pt x="75" y="0"/>
                        </a:moveTo>
                        <a:cubicBezTo>
                          <a:pt x="61" y="4"/>
                          <a:pt x="45" y="8"/>
                          <a:pt x="28" y="14"/>
                        </a:cubicBezTo>
                        <a:cubicBezTo>
                          <a:pt x="0" y="22"/>
                          <a:pt x="17" y="54"/>
                          <a:pt x="40" y="46"/>
                        </a:cubicBezTo>
                        <a:cubicBezTo>
                          <a:pt x="44" y="44"/>
                          <a:pt x="66" y="38"/>
                          <a:pt x="91" y="32"/>
                        </a:cubicBez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Oval 245"/>
                  <p:cNvSpPr/>
                  <p:nvPr/>
                </p:nvSpPr>
                <p:spPr>
                  <a:xfrm flipH="1">
                    <a:off x="1848600" y="5207040"/>
                    <a:ext cx="46800" cy="4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1901880" y="5293800"/>
                  <a:ext cx="291960" cy="178560"/>
                  <a:chOff x="1901880" y="5293800"/>
                  <a:chExt cx="291960" cy="178560"/>
                </a:xfrm>
              </p:grpSpPr>
              <p:sp>
                <p:nvSpPr>
                  <p:cNvPr id="458" name="Freeform 247"/>
                  <p:cNvSpPr/>
                  <p:nvPr/>
                </p:nvSpPr>
                <p:spPr>
                  <a:xfrm flipH="1">
                    <a:off x="2179440" y="5320440"/>
                    <a:ext cx="14400" cy="10440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400"/>
                      <a:gd name="textAreaBottom" fmla="*/ 104760 h 10440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3"/>
                        </a:lnTo>
                        <a:lnTo>
                          <a:pt x="0" y="0"/>
                        </a:lnTo>
                        <a:lnTo>
                          <a:pt x="12" y="3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48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Freeform 248"/>
                  <p:cNvSpPr/>
                  <p:nvPr/>
                </p:nvSpPr>
                <p:spPr>
                  <a:xfrm flipH="1">
                    <a:off x="2164320" y="5320440"/>
                    <a:ext cx="14760" cy="104400"/>
                  </a:xfrm>
                  <a:custGeom>
                    <a:avLst/>
                    <a:gdLst>
                      <a:gd name="textAreaLeft" fmla="*/ -360 w 14760"/>
                      <a:gd name="textAreaRight" fmla="*/ 14760 w 14760"/>
                      <a:gd name="textAreaTop" fmla="*/ 0 h 104400"/>
                      <a:gd name="textAreaBottom" fmla="*/ 104760 h 10440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3"/>
                        </a:lnTo>
                        <a:lnTo>
                          <a:pt x="12" y="0"/>
                        </a:lnTo>
                        <a:lnTo>
                          <a:pt x="0" y="3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482400"/>
                  </a:solidFill>
                  <a:ln w="648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Freeform 249"/>
                  <p:cNvSpPr/>
                  <p:nvPr/>
                </p:nvSpPr>
                <p:spPr>
                  <a:xfrm flipH="1">
                    <a:off x="1985040" y="5367600"/>
                    <a:ext cx="14400" cy="10476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4"/>
                        </a:lnTo>
                        <a:lnTo>
                          <a:pt x="12" y="0"/>
                        </a:lnTo>
                        <a:lnTo>
                          <a:pt x="0" y="3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48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250"/>
                  <p:cNvSpPr/>
                  <p:nvPr/>
                </p:nvSpPr>
                <p:spPr>
                  <a:xfrm flipH="1">
                    <a:off x="1999800" y="5367600"/>
                    <a:ext cx="14400" cy="10476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2" y="3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48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Freeform 251"/>
                  <p:cNvSpPr/>
                  <p:nvPr/>
                </p:nvSpPr>
                <p:spPr>
                  <a:xfrm flipH="1">
                    <a:off x="1902240" y="5346000"/>
                    <a:ext cx="14400" cy="10440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400"/>
                      <a:gd name="textAreaBottom" fmla="*/ 104760 h 10440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4"/>
                        </a:lnTo>
                        <a:lnTo>
                          <a:pt x="12" y="0"/>
                        </a:lnTo>
                        <a:lnTo>
                          <a:pt x="0" y="4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48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Freeform 252"/>
                  <p:cNvSpPr/>
                  <p:nvPr/>
                </p:nvSpPr>
                <p:spPr>
                  <a:xfrm flipH="1">
                    <a:off x="1916640" y="5346000"/>
                    <a:ext cx="15840" cy="104400"/>
                  </a:xfrm>
                  <a:custGeom>
                    <a:avLst/>
                    <a:gdLst>
                      <a:gd name="textAreaLeft" fmla="*/ 360 w 15840"/>
                      <a:gd name="textAreaRight" fmla="*/ 16560 w 15840"/>
                      <a:gd name="textAreaTop" fmla="*/ 0 h 104400"/>
                      <a:gd name="textAreaBottom" fmla="*/ 104760 h 104400"/>
                    </a:gdLst>
                    <a:ahLst/>
                    <a:rect l="textAreaLeft" t="textAreaTop" r="textAreaRight" b="textAreaBottom"/>
                    <a:pathLst>
                      <a:path w="13" h="87">
                        <a:moveTo>
                          <a:pt x="13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3" y="4"/>
                        </a:lnTo>
                        <a:lnTo>
                          <a:pt x="13" y="87"/>
                        </a:lnTo>
                        <a:close/>
                      </a:path>
                    </a:pathLst>
                  </a:custGeom>
                  <a:solidFill>
                    <a:srgbClr val="482400"/>
                  </a:solidFill>
                  <a:ln w="648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Freeform 253"/>
                  <p:cNvSpPr/>
                  <p:nvPr/>
                </p:nvSpPr>
                <p:spPr>
                  <a:xfrm flipH="1">
                    <a:off x="2081880" y="5293800"/>
                    <a:ext cx="14400" cy="10476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2" y="3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Freeform 254"/>
                  <p:cNvSpPr/>
                  <p:nvPr/>
                </p:nvSpPr>
                <p:spPr>
                  <a:xfrm flipH="1">
                    <a:off x="2081880" y="5297400"/>
                    <a:ext cx="14400" cy="10476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4"/>
                        </a:lnTo>
                        <a:lnTo>
                          <a:pt x="12" y="0"/>
                        </a:lnTo>
                        <a:lnTo>
                          <a:pt x="0" y="4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482400"/>
                  </a:solidFill>
                  <a:ln w="648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Freeform 255"/>
                  <p:cNvSpPr/>
                  <p:nvPr/>
                </p:nvSpPr>
                <p:spPr>
                  <a:xfrm flipH="1">
                    <a:off x="2096280" y="5297400"/>
                    <a:ext cx="13320" cy="104760"/>
                  </a:xfrm>
                  <a:custGeom>
                    <a:avLst/>
                    <a:gdLst>
                      <a:gd name="textAreaLeft" fmla="*/ -360 w 13320"/>
                      <a:gd name="textAreaRight" fmla="*/ 13320 w 1332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2" y="4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48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Freeform 256"/>
                  <p:cNvSpPr/>
                  <p:nvPr/>
                </p:nvSpPr>
                <p:spPr>
                  <a:xfrm flipH="1">
                    <a:off x="1999440" y="5320440"/>
                    <a:ext cx="194400" cy="66960"/>
                  </a:xfrm>
                  <a:custGeom>
                    <a:avLst/>
                    <a:gdLst>
                      <a:gd name="textAreaLeft" fmla="*/ 360 w 194400"/>
                      <a:gd name="textAreaRight" fmla="*/ 195120 w 194400"/>
                      <a:gd name="textAreaTop" fmla="*/ 0 h 66960"/>
                      <a:gd name="textAreaBottom" fmla="*/ 67320 h 66960"/>
                    </a:gdLst>
                    <a:ahLst/>
                    <a:rect l="textAreaLeft" t="textAreaTop" r="textAreaRight" b="textAreaBottom"/>
                    <a:pathLst>
                      <a:path w="161" h="56">
                        <a:moveTo>
                          <a:pt x="161" y="43"/>
                        </a:moveTo>
                        <a:lnTo>
                          <a:pt x="161" y="56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161" y="43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48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Freeform 257"/>
                  <p:cNvSpPr/>
                  <p:nvPr/>
                </p:nvSpPr>
                <p:spPr>
                  <a:xfrm flipH="1">
                    <a:off x="1901520" y="5346000"/>
                    <a:ext cx="97560" cy="41400"/>
                  </a:xfrm>
                  <a:custGeom>
                    <a:avLst/>
                    <a:gdLst>
                      <a:gd name="textAreaLeft" fmla="*/ -360 w 97560"/>
                      <a:gd name="textAreaRight" fmla="*/ 97560 w 97560"/>
                      <a:gd name="textAreaTop" fmla="*/ 0 h 41400"/>
                      <a:gd name="textAreaBottom" fmla="*/ 41760 h 41400"/>
                    </a:gdLst>
                    <a:ahLst/>
                    <a:rect l="textAreaLeft" t="textAreaTop" r="textAreaRight" b="textAreaBottom"/>
                    <a:pathLst>
                      <a:path w="81" h="35">
                        <a:moveTo>
                          <a:pt x="81" y="0"/>
                        </a:moveTo>
                        <a:lnTo>
                          <a:pt x="81" y="13"/>
                        </a:lnTo>
                        <a:lnTo>
                          <a:pt x="0" y="35"/>
                        </a:lnTo>
                        <a:lnTo>
                          <a:pt x="0" y="22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48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Freeform 258"/>
                  <p:cNvSpPr/>
                  <p:nvPr/>
                </p:nvSpPr>
                <p:spPr>
                  <a:xfrm flipH="1">
                    <a:off x="1901520" y="5293800"/>
                    <a:ext cx="291960" cy="78120"/>
                  </a:xfrm>
                  <a:custGeom>
                    <a:avLst/>
                    <a:gdLst>
                      <a:gd name="textAreaLeft" fmla="*/ -360 w 291960"/>
                      <a:gd name="textAreaRight" fmla="*/ 291960 w 291960"/>
                      <a:gd name="textAreaTop" fmla="*/ 0 h 78120"/>
                      <a:gd name="textAreaBottom" fmla="*/ 78480 h 78120"/>
                    </a:gdLst>
                    <a:ahLst/>
                    <a:rect l="textAreaLeft" t="textAreaTop" r="textAreaRight" b="textAreaBottom"/>
                    <a:pathLst>
                      <a:path w="242" h="65">
                        <a:moveTo>
                          <a:pt x="242" y="43"/>
                        </a:moveTo>
                        <a:lnTo>
                          <a:pt x="161" y="22"/>
                        </a:lnTo>
                        <a:lnTo>
                          <a:pt x="161" y="22"/>
                        </a:lnTo>
                        <a:lnTo>
                          <a:pt x="81" y="0"/>
                        </a:lnTo>
                        <a:lnTo>
                          <a:pt x="0" y="22"/>
                        </a:lnTo>
                        <a:lnTo>
                          <a:pt x="81" y="44"/>
                        </a:lnTo>
                        <a:lnTo>
                          <a:pt x="81" y="44"/>
                        </a:lnTo>
                        <a:lnTo>
                          <a:pt x="161" y="65"/>
                        </a:lnTo>
                        <a:lnTo>
                          <a:pt x="242" y="43"/>
                        </a:lnTo>
                        <a:close/>
                      </a:path>
                    </a:pathLst>
                  </a:custGeom>
                  <a:solidFill>
                    <a:srgbClr val="8e4700"/>
                  </a:solidFill>
                  <a:ln w="648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1613880" y="5291280"/>
                  <a:ext cx="387720" cy="207000"/>
                  <a:chOff x="1613880" y="5291280"/>
                  <a:chExt cx="387720" cy="207000"/>
                </a:xfrm>
              </p:grpSpPr>
              <p:sp>
                <p:nvSpPr>
                  <p:cNvPr id="471" name="Freeform 260"/>
                  <p:cNvSpPr/>
                  <p:nvPr/>
                </p:nvSpPr>
                <p:spPr>
                  <a:xfrm flipH="1">
                    <a:off x="1613880" y="5318280"/>
                    <a:ext cx="13680" cy="104760"/>
                  </a:xfrm>
                  <a:custGeom>
                    <a:avLst/>
                    <a:gdLst>
                      <a:gd name="textAreaLeft" fmla="*/ 360 w 13680"/>
                      <a:gd name="textAreaRight" fmla="*/ 14400 w 1368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4"/>
                        </a:lnTo>
                        <a:lnTo>
                          <a:pt x="12" y="0"/>
                        </a:lnTo>
                        <a:lnTo>
                          <a:pt x="0" y="3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48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Freeform 261"/>
                  <p:cNvSpPr/>
                  <p:nvPr/>
                </p:nvSpPr>
                <p:spPr>
                  <a:xfrm flipH="1">
                    <a:off x="1627920" y="5318280"/>
                    <a:ext cx="14400" cy="104760"/>
                  </a:xfrm>
                  <a:custGeom>
                    <a:avLst/>
                    <a:gdLst>
                      <a:gd name="textAreaLeft" fmla="*/ 360 w 14400"/>
                      <a:gd name="textAreaRight" fmla="*/ 15120 w 1440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2" y="3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482400"/>
                  </a:solidFill>
                  <a:ln w="648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Freeform 262"/>
                  <p:cNvSpPr/>
                  <p:nvPr/>
                </p:nvSpPr>
                <p:spPr>
                  <a:xfrm flipH="1">
                    <a:off x="1904760" y="5393160"/>
                    <a:ext cx="15120" cy="105120"/>
                  </a:xfrm>
                  <a:custGeom>
                    <a:avLst/>
                    <a:gdLst>
                      <a:gd name="textAreaLeft" fmla="*/ 360 w 15120"/>
                      <a:gd name="textAreaRight" fmla="*/ 15840 w 15120"/>
                      <a:gd name="textAreaTop" fmla="*/ 0 h 105120"/>
                      <a:gd name="textAreaBottom" fmla="*/ 105480 h 10512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2" y="4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48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Freeform 263"/>
                  <p:cNvSpPr/>
                  <p:nvPr/>
                </p:nvSpPr>
                <p:spPr>
                  <a:xfrm flipH="1">
                    <a:off x="1890720" y="5393160"/>
                    <a:ext cx="13320" cy="105120"/>
                  </a:xfrm>
                  <a:custGeom>
                    <a:avLst/>
                    <a:gdLst>
                      <a:gd name="textAreaLeft" fmla="*/ -360 w 13320"/>
                      <a:gd name="textAreaRight" fmla="*/ 13320 w 13320"/>
                      <a:gd name="textAreaTop" fmla="*/ 0 h 105120"/>
                      <a:gd name="textAreaBottom" fmla="*/ 105480 h 10512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4"/>
                        </a:lnTo>
                        <a:lnTo>
                          <a:pt x="12" y="0"/>
                        </a:lnTo>
                        <a:lnTo>
                          <a:pt x="0" y="4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48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Freeform 264"/>
                  <p:cNvSpPr/>
                  <p:nvPr/>
                </p:nvSpPr>
                <p:spPr>
                  <a:xfrm flipH="1">
                    <a:off x="1986480" y="5370840"/>
                    <a:ext cx="14760" cy="104760"/>
                  </a:xfrm>
                  <a:custGeom>
                    <a:avLst/>
                    <a:gdLst>
                      <a:gd name="textAreaLeft" fmla="*/ -360 w 14760"/>
                      <a:gd name="textAreaRight" fmla="*/ 14760 w 1476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2" y="3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48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Freeform 265"/>
                  <p:cNvSpPr/>
                  <p:nvPr/>
                </p:nvSpPr>
                <p:spPr>
                  <a:xfrm flipH="1">
                    <a:off x="1973160" y="5370840"/>
                    <a:ext cx="13680" cy="104760"/>
                  </a:xfrm>
                  <a:custGeom>
                    <a:avLst/>
                    <a:gdLst>
                      <a:gd name="textAreaLeft" fmla="*/ 360 w 13680"/>
                      <a:gd name="textAreaRight" fmla="*/ 14400 w 1368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4"/>
                        </a:lnTo>
                        <a:lnTo>
                          <a:pt x="12" y="0"/>
                        </a:lnTo>
                        <a:lnTo>
                          <a:pt x="0" y="3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482400"/>
                  </a:solidFill>
                  <a:ln w="648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Freeform 266"/>
                  <p:cNvSpPr/>
                  <p:nvPr/>
                </p:nvSpPr>
                <p:spPr>
                  <a:xfrm flipH="1">
                    <a:off x="1712160" y="5297040"/>
                    <a:ext cx="13680" cy="105120"/>
                  </a:xfrm>
                  <a:custGeom>
                    <a:avLst/>
                    <a:gdLst>
                      <a:gd name="textAreaLeft" fmla="*/ 360 w 13680"/>
                      <a:gd name="textAreaRight" fmla="*/ 14400 w 13680"/>
                      <a:gd name="textAreaTop" fmla="*/ 0 h 105120"/>
                      <a:gd name="textAreaBottom" fmla="*/ 105480 h 10512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12" y="87"/>
                        </a:moveTo>
                        <a:lnTo>
                          <a:pt x="0" y="84"/>
                        </a:lnTo>
                        <a:lnTo>
                          <a:pt x="0" y="0"/>
                        </a:lnTo>
                        <a:lnTo>
                          <a:pt x="12" y="4"/>
                        </a:lnTo>
                        <a:lnTo>
                          <a:pt x="12" y="87"/>
                        </a:lnTo>
                        <a:close/>
                      </a:path>
                    </a:pathLst>
                  </a:custGeom>
                  <a:solidFill>
                    <a:srgbClr val="482400"/>
                  </a:solidFill>
                  <a:ln w="648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Freeform 267"/>
                  <p:cNvSpPr/>
                  <p:nvPr/>
                </p:nvSpPr>
                <p:spPr>
                  <a:xfrm flipH="1">
                    <a:off x="1696680" y="5297040"/>
                    <a:ext cx="14760" cy="105120"/>
                  </a:xfrm>
                  <a:custGeom>
                    <a:avLst/>
                    <a:gdLst>
                      <a:gd name="textAreaLeft" fmla="*/ -360 w 14760"/>
                      <a:gd name="textAreaRight" fmla="*/ 14760 w 14760"/>
                      <a:gd name="textAreaTop" fmla="*/ 0 h 105120"/>
                      <a:gd name="textAreaBottom" fmla="*/ 105480 h 105120"/>
                    </a:gdLst>
                    <a:ahLst/>
                    <a:rect l="textAreaLeft" t="textAreaTop" r="textAreaRight" b="textAreaBottom"/>
                    <a:pathLst>
                      <a:path w="12" h="87">
                        <a:moveTo>
                          <a:pt x="0" y="87"/>
                        </a:moveTo>
                        <a:lnTo>
                          <a:pt x="12" y="84"/>
                        </a:lnTo>
                        <a:lnTo>
                          <a:pt x="12" y="0"/>
                        </a:lnTo>
                        <a:lnTo>
                          <a:pt x="0" y="4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48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Freeform 268"/>
                  <p:cNvSpPr/>
                  <p:nvPr/>
                </p:nvSpPr>
                <p:spPr>
                  <a:xfrm flipH="1">
                    <a:off x="1613520" y="5318280"/>
                    <a:ext cx="290520" cy="92880"/>
                  </a:xfrm>
                  <a:custGeom>
                    <a:avLst/>
                    <a:gdLst>
                      <a:gd name="textAreaLeft" fmla="*/ -360 w 290520"/>
                      <a:gd name="textAreaRight" fmla="*/ 290520 w 290520"/>
                      <a:gd name="textAreaTop" fmla="*/ 0 h 92880"/>
                      <a:gd name="textAreaBottom" fmla="*/ 93240 h 92880"/>
                    </a:gdLst>
                    <a:ahLst/>
                    <a:rect l="textAreaLeft" t="textAreaTop" r="textAreaRight" b="textAreaBottom"/>
                    <a:pathLst>
                      <a:path w="241" h="77">
                        <a:moveTo>
                          <a:pt x="0" y="65"/>
                        </a:moveTo>
                        <a:lnTo>
                          <a:pt x="0" y="77"/>
                        </a:lnTo>
                        <a:lnTo>
                          <a:pt x="241" y="12"/>
                        </a:lnTo>
                        <a:lnTo>
                          <a:pt x="241" y="0"/>
                        </a:lnTo>
                        <a:lnTo>
                          <a:pt x="0" y="65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48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Freeform 269"/>
                  <p:cNvSpPr/>
                  <p:nvPr/>
                </p:nvSpPr>
                <p:spPr>
                  <a:xfrm flipH="1">
                    <a:off x="1904400" y="5370840"/>
                    <a:ext cx="97200" cy="40320"/>
                  </a:xfrm>
                  <a:custGeom>
                    <a:avLst/>
                    <a:gdLst>
                      <a:gd name="textAreaLeft" fmla="*/ 360 w 97200"/>
                      <a:gd name="textAreaRight" fmla="*/ 97920 w 97200"/>
                      <a:gd name="textAreaTop" fmla="*/ 0 h 40320"/>
                      <a:gd name="textAreaBottom" fmla="*/ 40680 h 40320"/>
                    </a:gdLst>
                    <a:ahLst/>
                    <a:rect l="textAreaLeft" t="textAreaTop" r="textAreaRight" b="textAreaBottom"/>
                    <a:pathLst>
                      <a:path w="80" h="34">
                        <a:moveTo>
                          <a:pt x="0" y="0"/>
                        </a:moveTo>
                        <a:lnTo>
                          <a:pt x="0" y="13"/>
                        </a:lnTo>
                        <a:lnTo>
                          <a:pt x="80" y="34"/>
                        </a:lnTo>
                        <a:lnTo>
                          <a:pt x="80" y="2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63300"/>
                  </a:solidFill>
                  <a:ln w="648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Freeform 270"/>
                  <p:cNvSpPr/>
                  <p:nvPr/>
                </p:nvSpPr>
                <p:spPr>
                  <a:xfrm flipH="1">
                    <a:off x="1613520" y="5291280"/>
                    <a:ext cx="387720" cy="105840"/>
                  </a:xfrm>
                  <a:custGeom>
                    <a:avLst/>
                    <a:gdLst>
                      <a:gd name="textAreaLeft" fmla="*/ -360 w 387720"/>
                      <a:gd name="textAreaRight" fmla="*/ 387720 w 387720"/>
                      <a:gd name="textAreaTop" fmla="*/ 0 h 105840"/>
                      <a:gd name="textAreaBottom" fmla="*/ 106200 h 105840"/>
                    </a:gdLst>
                    <a:ahLst/>
                    <a:rect l="textAreaLeft" t="textAreaTop" r="textAreaRight" b="textAreaBottom"/>
                    <a:pathLst>
                      <a:path w="321" h="87">
                        <a:moveTo>
                          <a:pt x="0" y="65"/>
                        </a:moveTo>
                        <a:lnTo>
                          <a:pt x="160" y="22"/>
                        </a:lnTo>
                        <a:lnTo>
                          <a:pt x="160" y="22"/>
                        </a:lnTo>
                        <a:lnTo>
                          <a:pt x="240" y="0"/>
                        </a:lnTo>
                        <a:lnTo>
                          <a:pt x="321" y="22"/>
                        </a:lnTo>
                        <a:lnTo>
                          <a:pt x="240" y="44"/>
                        </a:lnTo>
                        <a:lnTo>
                          <a:pt x="240" y="44"/>
                        </a:lnTo>
                        <a:lnTo>
                          <a:pt x="81" y="87"/>
                        </a:lnTo>
                        <a:lnTo>
                          <a:pt x="0" y="65"/>
                        </a:lnTo>
                        <a:close/>
                      </a:path>
                    </a:pathLst>
                  </a:custGeom>
                  <a:solidFill>
                    <a:srgbClr val="8e4700"/>
                  </a:solidFill>
                  <a:ln w="6480">
                    <a:solidFill>
                      <a:srgbClr val="66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1752120" y="5280480"/>
                  <a:ext cx="120960" cy="80640"/>
                  <a:chOff x="1752120" y="5280480"/>
                  <a:chExt cx="120960" cy="80640"/>
                </a:xfrm>
              </p:grpSpPr>
              <p:sp>
                <p:nvSpPr>
                  <p:cNvPr id="483" name="Freeform 272"/>
                  <p:cNvSpPr/>
                  <p:nvPr/>
                </p:nvSpPr>
                <p:spPr>
                  <a:xfrm>
                    <a:off x="1752120" y="5323680"/>
                    <a:ext cx="120960" cy="32760"/>
                  </a:xfrm>
                  <a:custGeom>
                    <a:avLst/>
                    <a:gdLst>
                      <a:gd name="textAreaLeft" fmla="*/ 0 w 120960"/>
                      <a:gd name="textAreaRight" fmla="*/ 121320 w 1209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5173" h="6756">
                        <a:moveTo>
                          <a:pt x="0" y="3378"/>
                        </a:moveTo>
                        <a:lnTo>
                          <a:pt x="12585" y="0"/>
                        </a:lnTo>
                        <a:lnTo>
                          <a:pt x="25173" y="3378"/>
                        </a:lnTo>
                        <a:lnTo>
                          <a:pt x="12585" y="6756"/>
                        </a:lnTo>
                        <a:lnTo>
                          <a:pt x="0" y="3378"/>
                        </a:lnTo>
                        <a:close/>
                      </a:path>
                    </a:pathLst>
                  </a:custGeom>
                  <a:solidFill>
                    <a:srgbClr val="969696"/>
                  </a:solidFill>
                  <a:ln w="648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Freeform 273"/>
                  <p:cNvSpPr/>
                  <p:nvPr/>
                </p:nvSpPr>
                <p:spPr>
                  <a:xfrm>
                    <a:off x="1812600" y="5340240"/>
                    <a:ext cx="60480" cy="2088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w="12588" h="4342">
                        <a:moveTo>
                          <a:pt x="0" y="3378"/>
                        </a:moveTo>
                        <a:lnTo>
                          <a:pt x="0" y="4342"/>
                        </a:lnTo>
                        <a:lnTo>
                          <a:pt x="12588" y="964"/>
                        </a:lnTo>
                        <a:lnTo>
                          <a:pt x="12588" y="0"/>
                        </a:lnTo>
                        <a:lnTo>
                          <a:pt x="0" y="337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Freeform 274"/>
                  <p:cNvSpPr/>
                  <p:nvPr/>
                </p:nvSpPr>
                <p:spPr>
                  <a:xfrm>
                    <a:off x="1752120" y="5340240"/>
                    <a:ext cx="60480" cy="2088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20880"/>
                      <a:gd name="textAreaBottom" fmla="*/ 21240 h 20880"/>
                    </a:gdLst>
                    <a:ahLst/>
                    <a:rect l="textAreaLeft" t="textAreaTop" r="textAreaRight" b="textAreaBottom"/>
                    <a:pathLst>
                      <a:path w="12585" h="4342">
                        <a:moveTo>
                          <a:pt x="12585" y="4342"/>
                        </a:moveTo>
                        <a:lnTo>
                          <a:pt x="0" y="964"/>
                        </a:lnTo>
                        <a:lnTo>
                          <a:pt x="0" y="0"/>
                        </a:lnTo>
                        <a:lnTo>
                          <a:pt x="12585" y="3378"/>
                        </a:lnTo>
                        <a:lnTo>
                          <a:pt x="12585" y="434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275"/>
                  <p:cNvSpPr/>
                  <p:nvPr/>
                </p:nvSpPr>
                <p:spPr>
                  <a:xfrm>
                    <a:off x="1769400" y="5329080"/>
                    <a:ext cx="82080" cy="21960"/>
                  </a:xfrm>
                  <a:custGeom>
                    <a:avLst/>
                    <a:gdLst>
                      <a:gd name="textAreaLeft" fmla="*/ 0 w 82080"/>
                      <a:gd name="textAreaRight" fmla="*/ 82440 w 8208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17020" h="4567">
                        <a:moveTo>
                          <a:pt x="0" y="1711"/>
                        </a:moveTo>
                        <a:lnTo>
                          <a:pt x="10647" y="4567"/>
                        </a:lnTo>
                        <a:lnTo>
                          <a:pt x="17020" y="2859"/>
                        </a:lnTo>
                        <a:lnTo>
                          <a:pt x="6371" y="0"/>
                        </a:lnTo>
                        <a:lnTo>
                          <a:pt x="0" y="171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Freeform 276"/>
                  <p:cNvSpPr/>
                  <p:nvPr/>
                </p:nvSpPr>
                <p:spPr>
                  <a:xfrm>
                    <a:off x="1752120" y="5281560"/>
                    <a:ext cx="60480" cy="795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79560"/>
                      <a:gd name="textAreaBottom" fmla="*/ 79920 h 79560"/>
                    </a:gdLst>
                    <a:ahLst/>
                    <a:rect l="textAreaLeft" t="textAreaTop" r="textAreaRight" b="textAreaBottom"/>
                    <a:pathLst>
                      <a:path w="12585" h="16411">
                        <a:moveTo>
                          <a:pt x="0" y="0"/>
                        </a:moveTo>
                        <a:lnTo>
                          <a:pt x="0" y="13033"/>
                        </a:lnTo>
                        <a:lnTo>
                          <a:pt x="12585" y="16411"/>
                        </a:lnTo>
                        <a:lnTo>
                          <a:pt x="12585" y="33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69696"/>
                  </a:solidFill>
                  <a:ln w="6480">
                    <a:solidFill>
                      <a:srgbClr val="96969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Freeform 277"/>
                  <p:cNvSpPr/>
                  <p:nvPr/>
                </p:nvSpPr>
                <p:spPr>
                  <a:xfrm>
                    <a:off x="1812600" y="5296680"/>
                    <a:ext cx="4320" cy="64440"/>
                  </a:xfrm>
                  <a:custGeom>
                    <a:avLst/>
                    <a:gdLst>
                      <a:gd name="textAreaLeft" fmla="*/ 0 w 4320"/>
                      <a:gd name="textAreaRight" fmla="*/ 4680 w 4320"/>
                      <a:gd name="textAreaTop" fmla="*/ 0 h 64440"/>
                      <a:gd name="textAreaBottom" fmla="*/ 64800 h 64440"/>
                    </a:gdLst>
                    <a:ahLst/>
                    <a:rect l="textAreaLeft" t="textAreaTop" r="textAreaRight" b="textAreaBottom"/>
                    <a:pathLst>
                      <a:path w="971" h="13293">
                        <a:moveTo>
                          <a:pt x="0" y="13293"/>
                        </a:moveTo>
                        <a:lnTo>
                          <a:pt x="971" y="13030"/>
                        </a:lnTo>
                        <a:lnTo>
                          <a:pt x="971" y="0"/>
                        </a:lnTo>
                        <a:lnTo>
                          <a:pt x="0" y="260"/>
                        </a:lnTo>
                        <a:lnTo>
                          <a:pt x="0" y="13293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Freeform 278"/>
                  <p:cNvSpPr/>
                  <p:nvPr/>
                </p:nvSpPr>
                <p:spPr>
                  <a:xfrm>
                    <a:off x="1752120" y="5280480"/>
                    <a:ext cx="65160" cy="17640"/>
                  </a:xfrm>
                  <a:custGeom>
                    <a:avLst/>
                    <a:gdLst>
                      <a:gd name="textAreaLeft" fmla="*/ 0 w 65160"/>
                      <a:gd name="textAreaRight" fmla="*/ 65520 w 6516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13556" h="3638">
                        <a:moveTo>
                          <a:pt x="13556" y="3378"/>
                        </a:moveTo>
                        <a:lnTo>
                          <a:pt x="12585" y="3638"/>
                        </a:lnTo>
                        <a:lnTo>
                          <a:pt x="0" y="260"/>
                        </a:lnTo>
                        <a:lnTo>
                          <a:pt x="971" y="0"/>
                        </a:lnTo>
                        <a:lnTo>
                          <a:pt x="13556" y="337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90" name=""/>
            <p:cNvGrpSpPr/>
            <p:nvPr/>
          </p:nvGrpSpPr>
          <p:grpSpPr>
            <a:xfrm>
              <a:off x="2469960" y="4722840"/>
              <a:ext cx="1746720" cy="534240"/>
              <a:chOff x="2469960" y="4722840"/>
              <a:chExt cx="1746720" cy="534240"/>
            </a:xfrm>
          </p:grpSpPr>
          <p:sp>
            <p:nvSpPr>
              <p:cNvPr id="491" name="Freeform 280"/>
              <p:cNvSpPr/>
              <p:nvPr/>
            </p:nvSpPr>
            <p:spPr>
              <a:xfrm>
                <a:off x="2469960" y="4788000"/>
                <a:ext cx="1746720" cy="469080"/>
              </a:xfrm>
              <a:custGeom>
                <a:avLst/>
                <a:gdLst>
                  <a:gd name="textAreaLeft" fmla="*/ 0 w 1746720"/>
                  <a:gd name="textAreaRight" fmla="*/ 1747080 w 1746720"/>
                  <a:gd name="textAreaTop" fmla="*/ 0 h 469080"/>
                  <a:gd name="textAreaBottom" fmla="*/ 469440 h 469080"/>
                </a:gdLst>
                <a:ahLst/>
                <a:rect l="textAreaLeft" t="textAreaTop" r="textAreaRight" b="textAreaBottom"/>
                <a:pathLst>
                  <a:path w="161" h="44">
                    <a:moveTo>
                      <a:pt x="0" y="22"/>
                    </a:moveTo>
                    <a:lnTo>
                      <a:pt x="81" y="0"/>
                    </a:lnTo>
                    <a:lnTo>
                      <a:pt x="161" y="22"/>
                    </a:lnTo>
                    <a:lnTo>
                      <a:pt x="81" y="44"/>
                    </a:lnTo>
                    <a:lnTo>
                      <a:pt x="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caca"/>
                  </a:gs>
                  <a:gs pos="100000">
                    <a:srgbClr val="b2b2b2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  <a:effectLst>
                <a:outerShdw dist="12600" dir="54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3150720" y="4722840"/>
                <a:ext cx="486720" cy="381960"/>
                <a:chOff x="3150720" y="4722840"/>
                <a:chExt cx="486720" cy="38196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3183120" y="4722840"/>
                  <a:ext cx="205200" cy="289800"/>
                  <a:chOff x="3183120" y="4722840"/>
                  <a:chExt cx="205200" cy="289800"/>
                </a:xfrm>
              </p:grpSpPr>
              <p:sp>
                <p:nvSpPr>
                  <p:cNvPr id="494" name="Freeform 283"/>
                  <p:cNvSpPr/>
                  <p:nvPr/>
                </p:nvSpPr>
                <p:spPr>
                  <a:xfrm>
                    <a:off x="3198600" y="4899240"/>
                    <a:ext cx="117000" cy="113400"/>
                  </a:xfrm>
                  <a:custGeom>
                    <a:avLst/>
                    <a:gdLst>
                      <a:gd name="textAreaLeft" fmla="*/ 0 w 117000"/>
                      <a:gd name="textAreaRight" fmla="*/ 117360 w 117000"/>
                      <a:gd name="textAreaTop" fmla="*/ 0 h 113400"/>
                      <a:gd name="textAreaBottom" fmla="*/ 113760 h 113400"/>
                    </a:gdLst>
                    <a:ahLst/>
                    <a:rect l="textAreaLeft" t="textAreaTop" r="textAreaRight" b="textAreaBottom"/>
                    <a:pathLst>
                      <a:path w="240" h="232">
                        <a:moveTo>
                          <a:pt x="0" y="0"/>
                        </a:moveTo>
                        <a:cubicBezTo>
                          <a:pt x="0" y="200"/>
                          <a:pt x="0" y="200"/>
                          <a:pt x="0" y="200"/>
                        </a:cubicBezTo>
                        <a:cubicBezTo>
                          <a:pt x="0" y="218"/>
                          <a:pt x="54" y="232"/>
                          <a:pt x="120" y="232"/>
                        </a:cubicBezTo>
                        <a:cubicBezTo>
                          <a:pt x="186" y="232"/>
                          <a:pt x="240" y="218"/>
                          <a:pt x="240" y="200"/>
                        </a:cubicBezTo>
                        <a:cubicBezTo>
                          <a:pt x="240" y="0"/>
                          <a:pt x="240" y="0"/>
                          <a:pt x="240" y="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Oval 284"/>
                  <p:cNvSpPr/>
                  <p:nvPr/>
                </p:nvSpPr>
                <p:spPr>
                  <a:xfrm>
                    <a:off x="3198600" y="4883400"/>
                    <a:ext cx="117000" cy="31320"/>
                  </a:xfrm>
                  <a:prstGeom prst="ellipse">
                    <a:avLst/>
                  </a:prstGeom>
                  <a:solidFill>
                    <a:srgbClr val="5f5f5f"/>
                  </a:solidFill>
                  <a:ln w="648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Freeform 285"/>
                  <p:cNvSpPr/>
                  <p:nvPr/>
                </p:nvSpPr>
                <p:spPr>
                  <a:xfrm>
                    <a:off x="3259800" y="4834440"/>
                    <a:ext cx="61560" cy="75600"/>
                  </a:xfrm>
                  <a:custGeom>
                    <a:avLst/>
                    <a:gdLst>
                      <a:gd name="textAreaLeft" fmla="*/ 0 w 61560"/>
                      <a:gd name="textAreaRight" fmla="*/ 61920 w 61560"/>
                      <a:gd name="textAreaTop" fmla="*/ 0 h 75600"/>
                      <a:gd name="textAreaBottom" fmla="*/ 75960 h 75600"/>
                    </a:gdLst>
                    <a:ahLst/>
                    <a:rect l="textAreaLeft" t="textAreaTop" r="textAreaRight" b="textAreaBottom"/>
                    <a:pathLst>
                      <a:path w="126" h="155">
                        <a:moveTo>
                          <a:pt x="74" y="5"/>
                        </a:moveTo>
                        <a:cubicBezTo>
                          <a:pt x="74" y="5"/>
                          <a:pt x="74" y="5"/>
                          <a:pt x="74" y="5"/>
                        </a:cubicBezTo>
                        <a:cubicBezTo>
                          <a:pt x="74" y="5"/>
                          <a:pt x="74" y="5"/>
                          <a:pt x="74" y="5"/>
                        </a:cubicBezTo>
                        <a:cubicBezTo>
                          <a:pt x="71" y="6"/>
                          <a:pt x="67" y="7"/>
                          <a:pt x="63" y="8"/>
                        </a:cubicBezTo>
                        <a:cubicBezTo>
                          <a:pt x="63" y="8"/>
                          <a:pt x="63" y="9"/>
                          <a:pt x="63" y="9"/>
                        </a:cubicBezTo>
                        <a:cubicBezTo>
                          <a:pt x="10" y="23"/>
                          <a:pt x="10" y="23"/>
                          <a:pt x="10" y="23"/>
                        </a:cubicBezTo>
                        <a:cubicBezTo>
                          <a:pt x="0" y="155"/>
                          <a:pt x="0" y="155"/>
                          <a:pt x="0" y="155"/>
                        </a:cubicBezTo>
                        <a:cubicBezTo>
                          <a:pt x="65" y="137"/>
                          <a:pt x="65" y="137"/>
                          <a:pt x="65" y="137"/>
                        </a:cubicBezTo>
                        <a:cubicBezTo>
                          <a:pt x="89" y="128"/>
                          <a:pt x="126" y="104"/>
                          <a:pt x="126" y="63"/>
                        </a:cubicBezTo>
                        <a:cubicBezTo>
                          <a:pt x="126" y="27"/>
                          <a:pt x="106" y="0"/>
                          <a:pt x="74" y="5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Freeform 286"/>
                  <p:cNvSpPr/>
                  <p:nvPr/>
                </p:nvSpPr>
                <p:spPr>
                  <a:xfrm>
                    <a:off x="3201840" y="4840200"/>
                    <a:ext cx="88560" cy="69840"/>
                  </a:xfrm>
                  <a:custGeom>
                    <a:avLst/>
                    <a:gdLst>
                      <a:gd name="textAreaLeft" fmla="*/ 0 w 88560"/>
                      <a:gd name="textAreaRight" fmla="*/ 88920 w 88560"/>
                      <a:gd name="textAreaTop" fmla="*/ 0 h 69840"/>
                      <a:gd name="textAreaBottom" fmla="*/ 69840 h 69840"/>
                    </a:gdLst>
                    <a:ahLst/>
                    <a:rect l="textAreaLeft" t="textAreaTop" r="textAreaRight" b="textAreaBottom"/>
                    <a:pathLst>
                      <a:path w="182" h="143">
                        <a:moveTo>
                          <a:pt x="120" y="143"/>
                        </a:moveTo>
                        <a:cubicBezTo>
                          <a:pt x="144" y="134"/>
                          <a:pt x="182" y="109"/>
                          <a:pt x="182" y="69"/>
                        </a:cubicBezTo>
                        <a:cubicBezTo>
                          <a:pt x="182" y="28"/>
                          <a:pt x="157" y="0"/>
                          <a:pt x="119" y="14"/>
                        </a:cubicBezTo>
                        <a:cubicBezTo>
                          <a:pt x="80" y="28"/>
                          <a:pt x="9" y="80"/>
                          <a:pt x="0" y="82"/>
                        </a:cubicBezTo>
                        <a:cubicBezTo>
                          <a:pt x="0" y="110"/>
                          <a:pt x="0" y="110"/>
                          <a:pt x="0" y="110"/>
                        </a:cubicBezTo>
                        <a:lnTo>
                          <a:pt x="120" y="143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Freeform 287"/>
                  <p:cNvSpPr/>
                  <p:nvPr/>
                </p:nvSpPr>
                <p:spPr>
                  <a:xfrm>
                    <a:off x="3194280" y="4722840"/>
                    <a:ext cx="104400" cy="122040"/>
                  </a:xfrm>
                  <a:custGeom>
                    <a:avLst/>
                    <a:gdLst>
                      <a:gd name="textAreaLeft" fmla="*/ 0 w 104400"/>
                      <a:gd name="textAreaRight" fmla="*/ 104760 w 104400"/>
                      <a:gd name="textAreaTop" fmla="*/ 0 h 122040"/>
                      <a:gd name="textAreaBottom" fmla="*/ 122400 h 122040"/>
                    </a:gdLst>
                    <a:ahLst/>
                    <a:rect l="textAreaLeft" t="textAreaTop" r="textAreaRight" b="textAreaBottom"/>
                    <a:pathLst>
                      <a:path w="214" h="249">
                        <a:moveTo>
                          <a:pt x="150" y="249"/>
                        </a:moveTo>
                        <a:cubicBezTo>
                          <a:pt x="150" y="249"/>
                          <a:pt x="150" y="249"/>
                          <a:pt x="150" y="249"/>
                        </a:cubicBezTo>
                        <a:cubicBezTo>
                          <a:pt x="214" y="233"/>
                          <a:pt x="214" y="233"/>
                          <a:pt x="214" y="233"/>
                        </a:cubicBezTo>
                        <a:cubicBezTo>
                          <a:pt x="89" y="12"/>
                          <a:pt x="89" y="12"/>
                          <a:pt x="89" y="12"/>
                        </a:cubicBezTo>
                        <a:cubicBezTo>
                          <a:pt x="79" y="2"/>
                          <a:pt x="66" y="0"/>
                          <a:pt x="57" y="4"/>
                        </a:cubicBezTo>
                        <a:cubicBezTo>
                          <a:pt x="56" y="4"/>
                          <a:pt x="56" y="4"/>
                          <a:pt x="56" y="4"/>
                        </a:cubicBezTo>
                        <a:cubicBezTo>
                          <a:pt x="0" y="15"/>
                          <a:pt x="0" y="15"/>
                          <a:pt x="0" y="15"/>
                        </a:cubicBezTo>
                        <a:cubicBezTo>
                          <a:pt x="0" y="15"/>
                          <a:pt x="0" y="15"/>
                          <a:pt x="0" y="15"/>
                        </a:cubicBezTo>
                        <a:cubicBezTo>
                          <a:pt x="7" y="15"/>
                          <a:pt x="16" y="18"/>
                          <a:pt x="23" y="26"/>
                        </a:cubicBezTo>
                        <a:lnTo>
                          <a:pt x="150" y="249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Freeform 288"/>
                  <p:cNvSpPr/>
                  <p:nvPr/>
                </p:nvSpPr>
                <p:spPr>
                  <a:xfrm>
                    <a:off x="3183120" y="4725360"/>
                    <a:ext cx="105840" cy="172440"/>
                  </a:xfrm>
                  <a:custGeom>
                    <a:avLst/>
                    <a:gdLst>
                      <a:gd name="textAreaLeft" fmla="*/ 0 w 105840"/>
                      <a:gd name="textAreaRight" fmla="*/ 106200 w 105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217" h="351">
                        <a:moveTo>
                          <a:pt x="161" y="336"/>
                        </a:moveTo>
                        <a:cubicBezTo>
                          <a:pt x="176" y="351"/>
                          <a:pt x="217" y="313"/>
                          <a:pt x="196" y="283"/>
                        </a:cubicBezTo>
                        <a:cubicBezTo>
                          <a:pt x="179" y="256"/>
                          <a:pt x="46" y="20"/>
                          <a:pt x="46" y="20"/>
                        </a:cubicBezTo>
                        <a:cubicBezTo>
                          <a:pt x="26" y="0"/>
                          <a:pt x="0" y="12"/>
                          <a:pt x="0" y="27"/>
                        </a:cubicBezTo>
                        <a:cubicBezTo>
                          <a:pt x="0" y="41"/>
                          <a:pt x="146" y="321"/>
                          <a:pt x="161" y="336"/>
                        </a:cubicBezTo>
                        <a:close/>
                      </a:path>
                    </a:pathLst>
                  </a:custGeom>
                  <a:solidFill>
                    <a:srgbClr val="bbe0e3"/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Freeform 289"/>
                  <p:cNvSpPr/>
                  <p:nvPr/>
                </p:nvSpPr>
                <p:spPr>
                  <a:xfrm>
                    <a:off x="3204360" y="4725000"/>
                    <a:ext cx="30240" cy="2412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4120"/>
                      <a:gd name="textAreaBottom" fmla="*/ 24480 h 24120"/>
                    </a:gdLst>
                    <a:ahLst/>
                    <a:rect l="textAreaLeft" t="textAreaTop" r="textAreaRight" b="textAreaBottom"/>
                    <a:pathLst>
                      <a:path w="62" h="50">
                        <a:moveTo>
                          <a:pt x="31" y="50"/>
                        </a:moveTo>
                        <a:cubicBezTo>
                          <a:pt x="18" y="28"/>
                          <a:pt x="10" y="14"/>
                          <a:pt x="10" y="14"/>
                        </a:cubicBezTo>
                        <a:cubicBezTo>
                          <a:pt x="7" y="11"/>
                          <a:pt x="4" y="9"/>
                          <a:pt x="0" y="7"/>
                        </a:cubicBezTo>
                        <a:cubicBezTo>
                          <a:pt x="32" y="0"/>
                          <a:pt x="32" y="0"/>
                          <a:pt x="32" y="0"/>
                        </a:cubicBezTo>
                        <a:cubicBezTo>
                          <a:pt x="35" y="2"/>
                          <a:pt x="39" y="4"/>
                          <a:pt x="42" y="8"/>
                        </a:cubicBezTo>
                        <a:cubicBezTo>
                          <a:pt x="42" y="8"/>
                          <a:pt x="50" y="22"/>
                          <a:pt x="62" y="44"/>
                        </a:cubicBezTo>
                        <a:cubicBezTo>
                          <a:pt x="31" y="50"/>
                          <a:pt x="31" y="50"/>
                          <a:pt x="31" y="50"/>
                        </a:cubicBezTo>
                      </a:path>
                    </a:pathLst>
                  </a:custGeom>
                  <a:solidFill>
                    <a:srgbClr val="b2b2b2"/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Freeform 290"/>
                  <p:cNvSpPr/>
                  <p:nvPr/>
                </p:nvSpPr>
                <p:spPr>
                  <a:xfrm>
                    <a:off x="3218400" y="4735080"/>
                    <a:ext cx="127440" cy="49680"/>
                  </a:xfrm>
                  <a:custGeom>
                    <a:avLst/>
                    <a:gdLst>
                      <a:gd name="textAreaLeft" fmla="*/ 0 w 127440"/>
                      <a:gd name="textAreaRight" fmla="*/ 127800 w 127440"/>
                      <a:gd name="textAreaTop" fmla="*/ 0 h 49680"/>
                      <a:gd name="textAreaBottom" fmla="*/ 50040 h 49680"/>
                    </a:gdLst>
                    <a:ahLst/>
                    <a:rect l="textAreaLeft" t="textAreaTop" r="textAreaRight" b="textAreaBottom"/>
                    <a:pathLst>
                      <a:path w="262" h="101">
                        <a:moveTo>
                          <a:pt x="30" y="2"/>
                        </a:moveTo>
                        <a:cubicBezTo>
                          <a:pt x="30" y="2"/>
                          <a:pt x="29" y="2"/>
                          <a:pt x="29" y="2"/>
                        </a:cubicBezTo>
                        <a:cubicBezTo>
                          <a:pt x="29" y="2"/>
                          <a:pt x="29" y="2"/>
                          <a:pt x="29" y="2"/>
                        </a:cubicBezTo>
                        <a:cubicBezTo>
                          <a:pt x="29" y="2"/>
                          <a:pt x="29" y="2"/>
                          <a:pt x="29" y="2"/>
                        </a:cubicBezTo>
                        <a:cubicBezTo>
                          <a:pt x="22" y="0"/>
                          <a:pt x="14" y="4"/>
                          <a:pt x="8" y="11"/>
                        </a:cubicBezTo>
                        <a:cubicBezTo>
                          <a:pt x="1" y="21"/>
                          <a:pt x="0" y="32"/>
                          <a:pt x="6" y="37"/>
                        </a:cubicBezTo>
                        <a:cubicBezTo>
                          <a:pt x="8" y="38"/>
                          <a:pt x="9" y="39"/>
                          <a:pt x="11" y="39"/>
                        </a:cubicBezTo>
                        <a:cubicBezTo>
                          <a:pt x="11" y="39"/>
                          <a:pt x="11" y="39"/>
                          <a:pt x="11" y="39"/>
                        </a:cubicBezTo>
                        <a:cubicBezTo>
                          <a:pt x="243" y="101"/>
                          <a:pt x="243" y="101"/>
                          <a:pt x="243" y="101"/>
                        </a:cubicBezTo>
                        <a:cubicBezTo>
                          <a:pt x="262" y="64"/>
                          <a:pt x="262" y="64"/>
                          <a:pt x="262" y="64"/>
                        </a:cubicBezTo>
                        <a:lnTo>
                          <a:pt x="30" y="2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Freeform 291"/>
                  <p:cNvSpPr/>
                  <p:nvPr/>
                </p:nvSpPr>
                <p:spPr>
                  <a:xfrm>
                    <a:off x="3332880" y="4765320"/>
                    <a:ext cx="18360" cy="21240"/>
                  </a:xfrm>
                  <a:custGeom>
                    <a:avLst/>
                    <a:gdLst>
                      <a:gd name="textAreaLeft" fmla="*/ 0 w 18360"/>
                      <a:gd name="textAreaRight" fmla="*/ 18720 w 18360"/>
                      <a:gd name="textAreaTop" fmla="*/ 0 h 21240"/>
                      <a:gd name="textAreaBottom" fmla="*/ 21240 h 21240"/>
                    </a:gdLst>
                    <a:ahLst/>
                    <a:rect l="textAreaLeft" t="textAreaTop" r="textAreaRight" b="textAreaBottom"/>
                    <a:pathLst>
                      <a:path w="38" h="44">
                        <a:moveTo>
                          <a:pt x="6" y="39"/>
                        </a:moveTo>
                        <a:cubicBezTo>
                          <a:pt x="13" y="44"/>
                          <a:pt x="24" y="40"/>
                          <a:pt x="31" y="31"/>
                        </a:cubicBezTo>
                        <a:cubicBezTo>
                          <a:pt x="38" y="22"/>
                          <a:pt x="38" y="10"/>
                          <a:pt x="32" y="5"/>
                        </a:cubicBezTo>
                        <a:cubicBezTo>
                          <a:pt x="26" y="0"/>
                          <a:pt x="15" y="4"/>
                          <a:pt x="7" y="13"/>
                        </a:cubicBezTo>
                        <a:cubicBezTo>
                          <a:pt x="0" y="23"/>
                          <a:pt x="0" y="34"/>
                          <a:pt x="6" y="39"/>
                        </a:cubicBezTo>
                        <a:close/>
                      </a:path>
                    </a:pathLst>
                  </a:custGeom>
                  <a:solidFill>
                    <a:srgbClr val="c0c0c0"/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Freeform 292"/>
                  <p:cNvSpPr/>
                  <p:nvPr/>
                </p:nvSpPr>
                <p:spPr>
                  <a:xfrm>
                    <a:off x="3346200" y="4769280"/>
                    <a:ext cx="14040" cy="1764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69" h="88">
                        <a:moveTo>
                          <a:pt x="0" y="88"/>
                        </a:moveTo>
                        <a:lnTo>
                          <a:pt x="0" y="19"/>
                        </a:lnTo>
                        <a:lnTo>
                          <a:pt x="69" y="0"/>
                        </a:lnTo>
                        <a:lnTo>
                          <a:pt x="69" y="71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Freeform 293"/>
                  <p:cNvSpPr/>
                  <p:nvPr/>
                </p:nvSpPr>
                <p:spPr>
                  <a:xfrm>
                    <a:off x="3374640" y="4769280"/>
                    <a:ext cx="13680" cy="17640"/>
                  </a:xfrm>
                  <a:custGeom>
                    <a:avLst/>
                    <a:gdLst>
                      <a:gd name="textAreaLeft" fmla="*/ 0 w 13680"/>
                      <a:gd name="textAreaRight" fmla="*/ 14040 w 136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68" h="88">
                        <a:moveTo>
                          <a:pt x="0" y="88"/>
                        </a:moveTo>
                        <a:lnTo>
                          <a:pt x="0" y="19"/>
                        </a:lnTo>
                        <a:lnTo>
                          <a:pt x="68" y="0"/>
                        </a:lnTo>
                        <a:lnTo>
                          <a:pt x="68" y="71"/>
                        </a:lnTo>
                        <a:lnTo>
                          <a:pt x="0" y="88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Freeform 294"/>
                  <p:cNvSpPr/>
                  <p:nvPr/>
                </p:nvSpPr>
                <p:spPr>
                  <a:xfrm>
                    <a:off x="3360600" y="4769280"/>
                    <a:ext cx="13680" cy="17640"/>
                  </a:xfrm>
                  <a:custGeom>
                    <a:avLst/>
                    <a:gdLst>
                      <a:gd name="textAreaLeft" fmla="*/ 0 w 13680"/>
                      <a:gd name="textAreaRight" fmla="*/ 14040 w 136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66" h="88">
                        <a:moveTo>
                          <a:pt x="0" y="0"/>
                        </a:moveTo>
                        <a:lnTo>
                          <a:pt x="0" y="71"/>
                        </a:lnTo>
                        <a:lnTo>
                          <a:pt x="66" y="88"/>
                        </a:lnTo>
                        <a:lnTo>
                          <a:pt x="66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Freeform 295"/>
                  <p:cNvSpPr/>
                  <p:nvPr/>
                </p:nvSpPr>
                <p:spPr>
                  <a:xfrm>
                    <a:off x="3346200" y="4776480"/>
                    <a:ext cx="14040" cy="18720"/>
                  </a:xfrm>
                  <a:custGeom>
                    <a:avLst/>
                    <a:gdLst>
                      <a:gd name="textAreaLeft" fmla="*/ 0 w 14040"/>
                      <a:gd name="textAreaRight" fmla="*/ 14400 w 1404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69" h="90">
                        <a:moveTo>
                          <a:pt x="0" y="90"/>
                        </a:moveTo>
                        <a:lnTo>
                          <a:pt x="0" y="19"/>
                        </a:lnTo>
                        <a:lnTo>
                          <a:pt x="69" y="0"/>
                        </a:lnTo>
                        <a:lnTo>
                          <a:pt x="69" y="71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Freeform 296"/>
                  <p:cNvSpPr/>
                  <p:nvPr/>
                </p:nvSpPr>
                <p:spPr>
                  <a:xfrm>
                    <a:off x="3332520" y="4776480"/>
                    <a:ext cx="13680" cy="18720"/>
                  </a:xfrm>
                  <a:custGeom>
                    <a:avLst/>
                    <a:gdLst>
                      <a:gd name="textAreaLeft" fmla="*/ 0 w 13680"/>
                      <a:gd name="textAreaRight" fmla="*/ 14040 w 13680"/>
                      <a:gd name="textAreaTop" fmla="*/ 0 h 18720"/>
                      <a:gd name="textAreaBottom" fmla="*/ 19080 h 18720"/>
                    </a:gdLst>
                    <a:ahLst/>
                    <a:rect l="textAreaLeft" t="textAreaTop" r="textAreaRight" b="textAreaBottom"/>
                    <a:pathLst>
                      <a:path w="68" h="90">
                        <a:moveTo>
                          <a:pt x="0" y="0"/>
                        </a:moveTo>
                        <a:lnTo>
                          <a:pt x="0" y="71"/>
                        </a:lnTo>
                        <a:lnTo>
                          <a:pt x="68" y="90"/>
                        </a:lnTo>
                        <a:lnTo>
                          <a:pt x="68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Freeform 297"/>
                  <p:cNvSpPr/>
                  <p:nvPr/>
                </p:nvSpPr>
                <p:spPr>
                  <a:xfrm>
                    <a:off x="3332520" y="4765320"/>
                    <a:ext cx="55800" cy="15120"/>
                  </a:xfrm>
                  <a:custGeom>
                    <a:avLst/>
                    <a:gdLst>
                      <a:gd name="textAreaLeft" fmla="*/ 0 w 55800"/>
                      <a:gd name="textAreaRight" fmla="*/ 56160 w 55800"/>
                      <a:gd name="textAreaTop" fmla="*/ 0 h 15120"/>
                      <a:gd name="textAreaBottom" fmla="*/ 15480 h 15120"/>
                    </a:gdLst>
                    <a:ahLst/>
                    <a:rect l="textAreaLeft" t="textAreaTop" r="textAreaRight" b="textAreaBottom"/>
                    <a:pathLst>
                      <a:path w="271" h="73">
                        <a:moveTo>
                          <a:pt x="203" y="0"/>
                        </a:moveTo>
                        <a:lnTo>
                          <a:pt x="68" y="0"/>
                        </a:lnTo>
                        <a:lnTo>
                          <a:pt x="0" y="18"/>
                        </a:lnTo>
                        <a:lnTo>
                          <a:pt x="0" y="54"/>
                        </a:lnTo>
                        <a:lnTo>
                          <a:pt x="68" y="73"/>
                        </a:lnTo>
                        <a:lnTo>
                          <a:pt x="137" y="54"/>
                        </a:lnTo>
                        <a:lnTo>
                          <a:pt x="68" y="37"/>
                        </a:lnTo>
                        <a:lnTo>
                          <a:pt x="137" y="18"/>
                        </a:lnTo>
                        <a:lnTo>
                          <a:pt x="203" y="37"/>
                        </a:lnTo>
                        <a:lnTo>
                          <a:pt x="271" y="18"/>
                        </a:lnTo>
                        <a:lnTo>
                          <a:pt x="203" y="0"/>
                        </a:lnTo>
                        <a:close/>
                      </a:path>
                    </a:pathLst>
                  </a:custGeom>
                  <a:solidFill>
                    <a:srgbClr val="bbe0e3"/>
                  </a:solidFill>
                  <a:ln w="648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3150720" y="4865040"/>
                  <a:ext cx="486720" cy="239760"/>
                  <a:chOff x="3150720" y="4865040"/>
                  <a:chExt cx="486720" cy="239760"/>
                </a:xfrm>
              </p:grpSpPr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3152160" y="4926240"/>
                    <a:ext cx="484920" cy="178560"/>
                    <a:chOff x="3152160" y="4926240"/>
                    <a:chExt cx="484920" cy="178560"/>
                  </a:xfrm>
                </p:grpSpPr>
                <p:sp>
                  <p:nvSpPr>
                    <p:cNvPr id="511" name="Freeform 300"/>
                    <p:cNvSpPr/>
                    <p:nvPr/>
                  </p:nvSpPr>
                  <p:spPr>
                    <a:xfrm flipH="1">
                      <a:off x="3151800" y="4951080"/>
                      <a:ext cx="14760" cy="105480"/>
                    </a:xfrm>
                    <a:custGeom>
                      <a:avLst/>
                      <a:gdLst>
                        <a:gd name="textAreaLeft" fmla="*/ -360 w 14760"/>
                        <a:gd name="textAreaRight" fmla="*/ 14760 w 14760"/>
                        <a:gd name="textAreaTop" fmla="*/ 0 h 105480"/>
                        <a:gd name="textAreaBottom" fmla="*/ 105840 h 10548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3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648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Freeform 301"/>
                    <p:cNvSpPr/>
                    <p:nvPr/>
                  </p:nvSpPr>
                  <p:spPr>
                    <a:xfrm flipH="1">
                      <a:off x="3167280" y="4951080"/>
                      <a:ext cx="13680" cy="105480"/>
                    </a:xfrm>
                    <a:custGeom>
                      <a:avLst/>
                      <a:gdLst>
                        <a:gd name="textAreaLeft" fmla="*/ 360 w 13680"/>
                        <a:gd name="textAreaRight" fmla="*/ 14400 w 13680"/>
                        <a:gd name="textAreaTop" fmla="*/ 0 h 105480"/>
                        <a:gd name="textAreaBottom" fmla="*/ 105840 h 10548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12" y="87"/>
                          </a:moveTo>
                          <a:lnTo>
                            <a:pt x="0" y="84"/>
                          </a:lnTo>
                          <a:lnTo>
                            <a:pt x="0" y="0"/>
                          </a:lnTo>
                          <a:lnTo>
                            <a:pt x="12" y="3"/>
                          </a:lnTo>
                          <a:lnTo>
                            <a:pt x="12" y="87"/>
                          </a:ln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648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Freeform 302"/>
                    <p:cNvSpPr/>
                    <p:nvPr/>
                  </p:nvSpPr>
                  <p:spPr>
                    <a:xfrm flipH="1">
                      <a:off x="3622680" y="4926240"/>
                      <a:ext cx="14400" cy="105480"/>
                    </a:xfrm>
                    <a:custGeom>
                      <a:avLst/>
                      <a:gdLst>
                        <a:gd name="textAreaLeft" fmla="*/ 360 w 14400"/>
                        <a:gd name="textAreaRight" fmla="*/ 15120 w 14400"/>
                        <a:gd name="textAreaTop" fmla="*/ 0 h 105480"/>
                        <a:gd name="textAreaBottom" fmla="*/ 105840 h 10548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12" y="87"/>
                          </a:moveTo>
                          <a:lnTo>
                            <a:pt x="0" y="84"/>
                          </a:lnTo>
                          <a:lnTo>
                            <a:pt x="0" y="0"/>
                          </a:lnTo>
                          <a:lnTo>
                            <a:pt x="12" y="4"/>
                          </a:lnTo>
                          <a:lnTo>
                            <a:pt x="12" y="87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648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Freeform 303"/>
                    <p:cNvSpPr/>
                    <p:nvPr/>
                  </p:nvSpPr>
                  <p:spPr>
                    <a:xfrm flipH="1">
                      <a:off x="3609000" y="4926240"/>
                      <a:ext cx="13680" cy="105480"/>
                    </a:xfrm>
                    <a:custGeom>
                      <a:avLst/>
                      <a:gdLst>
                        <a:gd name="textAreaLeft" fmla="*/ 360 w 13680"/>
                        <a:gd name="textAreaRight" fmla="*/ 14400 w 13680"/>
                        <a:gd name="textAreaTop" fmla="*/ 0 h 105480"/>
                        <a:gd name="textAreaBottom" fmla="*/ 105840 h 10548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4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648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Freeform 304"/>
                    <p:cNvSpPr/>
                    <p:nvPr/>
                  </p:nvSpPr>
                  <p:spPr>
                    <a:xfrm flipH="1">
                      <a:off x="3331440" y="5000040"/>
                      <a:ext cx="15120" cy="104760"/>
                    </a:xfrm>
                    <a:custGeom>
                      <a:avLst/>
                      <a:gdLst>
                        <a:gd name="textAreaLeft" fmla="*/ 360 w 15120"/>
                        <a:gd name="textAreaRight" fmla="*/ 15840 w 15120"/>
                        <a:gd name="textAreaTop" fmla="*/ 0 h 104760"/>
                        <a:gd name="textAreaBottom" fmla="*/ 105120 h 10476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3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648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Freeform 305"/>
                    <p:cNvSpPr/>
                    <p:nvPr/>
                  </p:nvSpPr>
                  <p:spPr>
                    <a:xfrm flipH="1">
                      <a:off x="3345840" y="5000040"/>
                      <a:ext cx="13320" cy="104760"/>
                    </a:xfrm>
                    <a:custGeom>
                      <a:avLst/>
                      <a:gdLst>
                        <a:gd name="textAreaLeft" fmla="*/ -360 w 13320"/>
                        <a:gd name="textAreaRight" fmla="*/ 13320 w 13320"/>
                        <a:gd name="textAreaTop" fmla="*/ 0 h 104760"/>
                        <a:gd name="textAreaBottom" fmla="*/ 105120 h 10476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12" y="87"/>
                          </a:moveTo>
                          <a:lnTo>
                            <a:pt x="0" y="84"/>
                          </a:lnTo>
                          <a:lnTo>
                            <a:pt x="0" y="0"/>
                          </a:lnTo>
                          <a:lnTo>
                            <a:pt x="12" y="3"/>
                          </a:lnTo>
                          <a:lnTo>
                            <a:pt x="12" y="87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648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3150720" y="4865040"/>
                    <a:ext cx="486720" cy="155520"/>
                    <a:chOff x="3150720" y="4865040"/>
                    <a:chExt cx="486720" cy="155520"/>
                  </a:xfrm>
                </p:grpSpPr>
                <p:sp>
                  <p:nvSpPr>
                    <p:cNvPr id="518" name="Freeform 307"/>
                    <p:cNvSpPr/>
                    <p:nvPr/>
                  </p:nvSpPr>
                  <p:spPr>
                    <a:xfrm>
                      <a:off x="3341520" y="4915800"/>
                      <a:ext cx="295920" cy="104760"/>
                    </a:xfrm>
                    <a:custGeom>
                      <a:avLst/>
                      <a:gdLst>
                        <a:gd name="textAreaLeft" fmla="*/ 0 w 295920"/>
                        <a:gd name="textAreaRight" fmla="*/ 296280 w 295920"/>
                        <a:gd name="textAreaTop" fmla="*/ 0 h 104760"/>
                        <a:gd name="textAreaBottom" fmla="*/ 105120 h 104760"/>
                      </a:gdLst>
                      <a:ahLst/>
                      <a:rect l="textAreaLeft" t="textAreaTop" r="textAreaRight" b="textAreaBottom"/>
                      <a:pathLst>
                        <a:path w="588" h="208">
                          <a:moveTo>
                            <a:pt x="582" y="4"/>
                          </a:moveTo>
                          <a:cubicBezTo>
                            <a:pt x="578" y="1"/>
                            <a:pt x="573" y="0"/>
                            <a:pt x="568" y="1"/>
                          </a:cubicBezTo>
                          <a:cubicBezTo>
                            <a:pt x="558" y="3"/>
                            <a:pt x="558" y="3"/>
                            <a:pt x="558" y="3"/>
                          </a:cubicBezTo>
                          <a:cubicBezTo>
                            <a:pt x="37" y="143"/>
                            <a:pt x="37" y="143"/>
                            <a:pt x="37" y="143"/>
                          </a:cubicBezTo>
                          <a:cubicBezTo>
                            <a:pt x="27" y="146"/>
                            <a:pt x="27" y="146"/>
                            <a:pt x="27" y="146"/>
                          </a:cubicBezTo>
                          <a:cubicBezTo>
                            <a:pt x="21" y="149"/>
                            <a:pt x="14" y="154"/>
                            <a:pt x="9" y="161"/>
                          </a:cubicBezTo>
                          <a:cubicBezTo>
                            <a:pt x="4" y="167"/>
                            <a:pt x="2" y="173"/>
                            <a:pt x="0" y="179"/>
                          </a:cubicBezTo>
                          <a:cubicBezTo>
                            <a:pt x="0" y="194"/>
                            <a:pt x="0" y="194"/>
                            <a:pt x="0" y="194"/>
                          </a:cubicBezTo>
                          <a:cubicBezTo>
                            <a:pt x="1" y="198"/>
                            <a:pt x="3" y="202"/>
                            <a:pt x="7" y="204"/>
                          </a:cubicBezTo>
                          <a:cubicBezTo>
                            <a:pt x="10" y="207"/>
                            <a:pt x="15" y="208"/>
                            <a:pt x="19" y="208"/>
                          </a:cubicBezTo>
                          <a:cubicBezTo>
                            <a:pt x="31" y="204"/>
                            <a:pt x="31" y="204"/>
                            <a:pt x="31" y="204"/>
                          </a:cubicBezTo>
                          <a:cubicBezTo>
                            <a:pt x="550" y="65"/>
                            <a:pt x="550" y="65"/>
                            <a:pt x="550" y="65"/>
                          </a:cubicBezTo>
                          <a:cubicBezTo>
                            <a:pt x="562" y="62"/>
                            <a:pt x="562" y="62"/>
                            <a:pt x="562" y="62"/>
                          </a:cubicBezTo>
                          <a:cubicBezTo>
                            <a:pt x="568" y="59"/>
                            <a:pt x="574" y="54"/>
                            <a:pt x="579" y="48"/>
                          </a:cubicBezTo>
                          <a:cubicBezTo>
                            <a:pt x="584" y="42"/>
                            <a:pt x="587" y="36"/>
                            <a:pt x="588" y="30"/>
                          </a:cubicBezTo>
                          <a:cubicBezTo>
                            <a:pt x="588" y="14"/>
                            <a:pt x="588" y="14"/>
                            <a:pt x="588" y="14"/>
                          </a:cubicBezTo>
                          <a:cubicBezTo>
                            <a:pt x="587" y="10"/>
                            <a:pt x="585" y="7"/>
                            <a:pt x="582" y="4"/>
                          </a:cubicBez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Freeform 308"/>
                    <p:cNvSpPr/>
                    <p:nvPr/>
                  </p:nvSpPr>
                  <p:spPr>
                    <a:xfrm>
                      <a:off x="3341520" y="4987800"/>
                      <a:ext cx="30600" cy="32760"/>
                    </a:xfrm>
                    <a:custGeom>
                      <a:avLst/>
                      <a:gdLst>
                        <a:gd name="textAreaLeft" fmla="*/ 0 w 30600"/>
                        <a:gd name="textAreaRight" fmla="*/ 30960 w 30600"/>
                        <a:gd name="textAreaTop" fmla="*/ 0 h 32760"/>
                        <a:gd name="textAreaBottom" fmla="*/ 33120 h 32760"/>
                      </a:gdLst>
                      <a:ahLst/>
                      <a:rect l="textAreaLeft" t="textAreaTop" r="textAreaRight" b="textAreaBottom"/>
                      <a:pathLst>
                        <a:path w="61" h="65">
                          <a:moveTo>
                            <a:pt x="48" y="47"/>
                          </a:moveTo>
                          <a:cubicBezTo>
                            <a:pt x="60" y="31"/>
                            <a:pt x="61" y="12"/>
                            <a:pt x="50" y="4"/>
                          </a:cubicBezTo>
                          <a:cubicBezTo>
                            <a:pt x="47" y="1"/>
                            <a:pt x="42" y="0"/>
                            <a:pt x="37" y="0"/>
                          </a:cubicBezTo>
                          <a:cubicBezTo>
                            <a:pt x="27" y="3"/>
                            <a:pt x="27" y="3"/>
                            <a:pt x="27" y="3"/>
                          </a:cubicBezTo>
                          <a:cubicBezTo>
                            <a:pt x="21" y="6"/>
                            <a:pt x="14" y="11"/>
                            <a:pt x="9" y="18"/>
                          </a:cubicBezTo>
                          <a:cubicBezTo>
                            <a:pt x="4" y="24"/>
                            <a:pt x="2" y="30"/>
                            <a:pt x="0" y="36"/>
                          </a:cubicBezTo>
                          <a:cubicBezTo>
                            <a:pt x="0" y="51"/>
                            <a:pt x="0" y="51"/>
                            <a:pt x="0" y="51"/>
                          </a:cubicBezTo>
                          <a:cubicBezTo>
                            <a:pt x="1" y="55"/>
                            <a:pt x="3" y="59"/>
                            <a:pt x="7" y="61"/>
                          </a:cubicBezTo>
                          <a:cubicBezTo>
                            <a:pt x="10" y="64"/>
                            <a:pt x="15" y="65"/>
                            <a:pt x="19" y="65"/>
                          </a:cubicBezTo>
                          <a:cubicBezTo>
                            <a:pt x="31" y="61"/>
                            <a:pt x="31" y="61"/>
                            <a:pt x="31" y="61"/>
                          </a:cubicBezTo>
                          <a:cubicBezTo>
                            <a:pt x="37" y="58"/>
                            <a:pt x="43" y="54"/>
                            <a:pt x="48" y="47"/>
                          </a:cubicBez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Freeform 309"/>
                    <p:cNvSpPr/>
                    <p:nvPr/>
                  </p:nvSpPr>
                  <p:spPr>
                    <a:xfrm>
                      <a:off x="3606840" y="4915800"/>
                      <a:ext cx="30600" cy="32400"/>
                    </a:xfrm>
                    <a:custGeom>
                      <a:avLst/>
                      <a:gdLst>
                        <a:gd name="textAreaLeft" fmla="*/ 0 w 30600"/>
                        <a:gd name="textAreaRight" fmla="*/ 30960 w 30600"/>
                        <a:gd name="textAreaTop" fmla="*/ 0 h 32400"/>
                        <a:gd name="textAreaBottom" fmla="*/ 32760 h 32400"/>
                      </a:gdLst>
                      <a:ahLst/>
                      <a:rect l="textAreaLeft" t="textAreaTop" r="textAreaRight" b="textAreaBottom"/>
                      <a:pathLst>
                        <a:path w="61" h="65">
                          <a:moveTo>
                            <a:pt x="13" y="18"/>
                          </a:moveTo>
                          <a:cubicBezTo>
                            <a:pt x="1" y="34"/>
                            <a:pt x="0" y="53"/>
                            <a:pt x="11" y="62"/>
                          </a:cubicBezTo>
                          <a:cubicBezTo>
                            <a:pt x="15" y="64"/>
                            <a:pt x="19" y="65"/>
                            <a:pt x="23" y="65"/>
                          </a:cubicBezTo>
                          <a:cubicBezTo>
                            <a:pt x="35" y="62"/>
                            <a:pt x="35" y="62"/>
                            <a:pt x="35" y="62"/>
                          </a:cubicBezTo>
                          <a:cubicBezTo>
                            <a:pt x="41" y="59"/>
                            <a:pt x="47" y="54"/>
                            <a:pt x="52" y="48"/>
                          </a:cubicBezTo>
                          <a:cubicBezTo>
                            <a:pt x="57" y="42"/>
                            <a:pt x="60" y="36"/>
                            <a:pt x="61" y="30"/>
                          </a:cubicBezTo>
                          <a:cubicBezTo>
                            <a:pt x="61" y="14"/>
                            <a:pt x="61" y="14"/>
                            <a:pt x="61" y="14"/>
                          </a:cubicBezTo>
                          <a:cubicBezTo>
                            <a:pt x="60" y="10"/>
                            <a:pt x="58" y="7"/>
                            <a:pt x="55" y="4"/>
                          </a:cubicBezTo>
                          <a:cubicBezTo>
                            <a:pt x="51" y="1"/>
                            <a:pt x="46" y="0"/>
                            <a:pt x="41" y="1"/>
                          </a:cubicBezTo>
                          <a:cubicBezTo>
                            <a:pt x="31" y="3"/>
                            <a:pt x="31" y="3"/>
                            <a:pt x="31" y="3"/>
                          </a:cubicBezTo>
                          <a:cubicBezTo>
                            <a:pt x="25" y="6"/>
                            <a:pt x="19" y="11"/>
                            <a:pt x="13" y="18"/>
                          </a:cubicBez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Freeform 310"/>
                    <p:cNvSpPr/>
                    <p:nvPr/>
                  </p:nvSpPr>
                  <p:spPr>
                    <a:xfrm>
                      <a:off x="3488760" y="4945680"/>
                      <a:ext cx="32760" cy="36360"/>
                    </a:xfrm>
                    <a:custGeom>
                      <a:avLst/>
                      <a:gdLst>
                        <a:gd name="textAreaLeft" fmla="*/ 0 w 32760"/>
                        <a:gd name="textAreaRight" fmla="*/ 33120 w 32760"/>
                        <a:gd name="textAreaTop" fmla="*/ 0 h 36360"/>
                        <a:gd name="textAreaBottom" fmla="*/ 36720 h 36360"/>
                      </a:gdLst>
                      <a:ahLst/>
                      <a:rect l="textAreaLeft" t="textAreaTop" r="textAreaRight" b="textAreaBottom"/>
                      <a:pathLst>
                        <a:path w="65" h="73">
                          <a:moveTo>
                            <a:pt x="11" y="65"/>
                          </a:moveTo>
                          <a:cubicBezTo>
                            <a:pt x="22" y="73"/>
                            <a:pt x="40" y="67"/>
                            <a:pt x="52" y="51"/>
                          </a:cubicBezTo>
                          <a:cubicBezTo>
                            <a:pt x="64" y="36"/>
                            <a:pt x="65" y="16"/>
                            <a:pt x="55" y="8"/>
                          </a:cubicBezTo>
                          <a:cubicBezTo>
                            <a:pt x="44" y="0"/>
                            <a:pt x="25" y="6"/>
                            <a:pt x="13" y="22"/>
                          </a:cubicBezTo>
                          <a:cubicBezTo>
                            <a:pt x="1" y="38"/>
                            <a:pt x="0" y="57"/>
                            <a:pt x="11" y="65"/>
                          </a:cubicBez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Freeform 311"/>
                    <p:cNvSpPr/>
                    <p:nvPr/>
                  </p:nvSpPr>
                  <p:spPr>
                    <a:xfrm>
                      <a:off x="3164040" y="4865040"/>
                      <a:ext cx="463320" cy="124560"/>
                    </a:xfrm>
                    <a:custGeom>
                      <a:avLst/>
                      <a:gdLst>
                        <a:gd name="textAreaLeft" fmla="*/ 0 w 463320"/>
                        <a:gd name="textAreaRight" fmla="*/ 463680 w 463320"/>
                        <a:gd name="textAreaTop" fmla="*/ 0 h 124560"/>
                        <a:gd name="textAreaBottom" fmla="*/ 124920 h 124560"/>
                      </a:gdLst>
                      <a:ahLst/>
                      <a:rect l="textAreaLeft" t="textAreaTop" r="textAreaRight" b="textAreaBottom"/>
                      <a:pathLst>
                        <a:path w="2174" h="584">
                          <a:moveTo>
                            <a:pt x="0" y="343"/>
                          </a:moveTo>
                          <a:lnTo>
                            <a:pt x="1278" y="0"/>
                          </a:lnTo>
                          <a:lnTo>
                            <a:pt x="2174" y="241"/>
                          </a:lnTo>
                          <a:lnTo>
                            <a:pt x="896" y="584"/>
                          </a:lnTo>
                          <a:lnTo>
                            <a:pt x="0" y="343"/>
                          </a:ln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Freeform 312"/>
                    <p:cNvSpPr/>
                    <p:nvPr/>
                  </p:nvSpPr>
                  <p:spPr>
                    <a:xfrm>
                      <a:off x="3150720" y="4938120"/>
                      <a:ext cx="204480" cy="81000"/>
                    </a:xfrm>
                    <a:custGeom>
                      <a:avLst/>
                      <a:gdLst>
                        <a:gd name="textAreaLeft" fmla="*/ 0 w 204480"/>
                        <a:gd name="textAreaRight" fmla="*/ 204840 w 204480"/>
                        <a:gd name="textAreaTop" fmla="*/ 0 h 81000"/>
                        <a:gd name="textAreaBottom" fmla="*/ 81360 h 81000"/>
                      </a:gdLst>
                      <a:ahLst/>
                      <a:rect l="textAreaLeft" t="textAreaTop" r="textAreaRight" b="textAreaBottom"/>
                      <a:pathLst>
                        <a:path w="406" h="161">
                          <a:moveTo>
                            <a:pt x="27" y="0"/>
                          </a:moveTo>
                          <a:cubicBezTo>
                            <a:pt x="27" y="0"/>
                            <a:pt x="27" y="0"/>
                            <a:pt x="27" y="0"/>
                          </a:cubicBezTo>
                          <a:cubicBezTo>
                            <a:pt x="20" y="3"/>
                            <a:pt x="14" y="8"/>
                            <a:pt x="9" y="15"/>
                          </a:cubicBezTo>
                          <a:cubicBezTo>
                            <a:pt x="4" y="21"/>
                            <a:pt x="1" y="27"/>
                            <a:pt x="0" y="34"/>
                          </a:cubicBezTo>
                          <a:cubicBezTo>
                            <a:pt x="0" y="48"/>
                            <a:pt x="0" y="48"/>
                            <a:pt x="0" y="48"/>
                          </a:cubicBezTo>
                          <a:cubicBezTo>
                            <a:pt x="1" y="52"/>
                            <a:pt x="3" y="56"/>
                            <a:pt x="7" y="58"/>
                          </a:cubicBezTo>
                          <a:cubicBezTo>
                            <a:pt x="10" y="61"/>
                            <a:pt x="14" y="62"/>
                            <a:pt x="19" y="62"/>
                          </a:cubicBezTo>
                          <a:cubicBezTo>
                            <a:pt x="387" y="161"/>
                            <a:pt x="387" y="161"/>
                            <a:pt x="387" y="161"/>
                          </a:cubicBezTo>
                          <a:cubicBezTo>
                            <a:pt x="386" y="160"/>
                            <a:pt x="386" y="160"/>
                            <a:pt x="386" y="160"/>
                          </a:cubicBezTo>
                          <a:cubicBezTo>
                            <a:pt x="382" y="158"/>
                            <a:pt x="380" y="154"/>
                            <a:pt x="379" y="150"/>
                          </a:cubicBezTo>
                          <a:cubicBezTo>
                            <a:pt x="379" y="135"/>
                            <a:pt x="379" y="135"/>
                            <a:pt x="379" y="135"/>
                          </a:cubicBezTo>
                          <a:cubicBezTo>
                            <a:pt x="381" y="129"/>
                            <a:pt x="383" y="123"/>
                            <a:pt x="388" y="117"/>
                          </a:cubicBezTo>
                          <a:cubicBezTo>
                            <a:pt x="393" y="110"/>
                            <a:pt x="400" y="105"/>
                            <a:pt x="406" y="102"/>
                          </a:cubicBezTo>
                          <a:lnTo>
                            <a:pt x="27" y="0"/>
                          </a:ln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64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Freeform 313"/>
                    <p:cNvSpPr/>
                    <p:nvPr/>
                  </p:nvSpPr>
                  <p:spPr>
                    <a:xfrm>
                      <a:off x="3345480" y="4888800"/>
                      <a:ext cx="191160" cy="51120"/>
                    </a:xfrm>
                    <a:custGeom>
                      <a:avLst/>
                      <a:gdLst>
                        <a:gd name="textAreaLeft" fmla="*/ 0 w 191160"/>
                        <a:gd name="textAreaRight" fmla="*/ 191520 w 191160"/>
                        <a:gd name="textAreaTop" fmla="*/ 0 h 51120"/>
                        <a:gd name="textAreaBottom" fmla="*/ 51480 h 51120"/>
                      </a:gdLst>
                      <a:ahLst/>
                      <a:rect l="textAreaLeft" t="textAreaTop" r="textAreaRight" b="textAreaBottom"/>
                      <a:pathLst>
                        <a:path w="897" h="241">
                          <a:moveTo>
                            <a:pt x="897" y="241"/>
                          </a:moveTo>
                          <a:lnTo>
                            <a:pt x="0" y="0"/>
                          </a:lnTo>
                          <a:lnTo>
                            <a:pt x="897" y="24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314"/>
                    <p:cNvSpPr/>
                    <p:nvPr/>
                  </p:nvSpPr>
                  <p:spPr>
                    <a:xfrm flipH="1" flipV="1">
                      <a:off x="3345120" y="4888800"/>
                      <a:ext cx="191160" cy="51120"/>
                    </a:xfrm>
                    <a:prstGeom prst="line">
                      <a:avLst/>
                    </a:prstGeom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Freeform 315"/>
                    <p:cNvSpPr/>
                    <p:nvPr/>
                  </p:nvSpPr>
                  <p:spPr>
                    <a:xfrm>
                      <a:off x="3300120" y="4901760"/>
                      <a:ext cx="190800" cy="50760"/>
                    </a:xfrm>
                    <a:custGeom>
                      <a:avLst/>
                      <a:gdLst>
                        <a:gd name="textAreaLeft" fmla="*/ 0 w 190800"/>
                        <a:gd name="textAreaRight" fmla="*/ 191160 w 190800"/>
                        <a:gd name="textAreaTop" fmla="*/ 0 h 50760"/>
                        <a:gd name="textAreaBottom" fmla="*/ 51120 h 50760"/>
                      </a:gdLst>
                      <a:ahLst/>
                      <a:rect l="textAreaLeft" t="textAreaTop" r="textAreaRight" b="textAreaBottom"/>
                      <a:pathLst>
                        <a:path w="896" h="238">
                          <a:moveTo>
                            <a:pt x="896" y="238"/>
                          </a:moveTo>
                          <a:lnTo>
                            <a:pt x="0" y="0"/>
                          </a:lnTo>
                          <a:lnTo>
                            <a:pt x="896" y="23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316"/>
                    <p:cNvSpPr/>
                    <p:nvPr/>
                  </p:nvSpPr>
                  <p:spPr>
                    <a:xfrm flipH="1" flipV="1">
                      <a:off x="3300120" y="4901400"/>
                      <a:ext cx="190800" cy="50760"/>
                    </a:xfrm>
                    <a:prstGeom prst="line">
                      <a:avLst/>
                    </a:prstGeom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Freeform 317"/>
                    <p:cNvSpPr/>
                    <p:nvPr/>
                  </p:nvSpPr>
                  <p:spPr>
                    <a:xfrm>
                      <a:off x="3254760" y="4913640"/>
                      <a:ext cx="190800" cy="51120"/>
                    </a:xfrm>
                    <a:custGeom>
                      <a:avLst/>
                      <a:gdLst>
                        <a:gd name="textAreaLeft" fmla="*/ 0 w 190800"/>
                        <a:gd name="textAreaRight" fmla="*/ 191160 w 190800"/>
                        <a:gd name="textAreaTop" fmla="*/ 0 h 51120"/>
                        <a:gd name="textAreaBottom" fmla="*/ 51480 h 51120"/>
                      </a:gdLst>
                      <a:ahLst/>
                      <a:rect l="textAreaLeft" t="textAreaTop" r="textAreaRight" b="textAreaBottom"/>
                      <a:pathLst>
                        <a:path w="895" h="241">
                          <a:moveTo>
                            <a:pt x="895" y="241"/>
                          </a:moveTo>
                          <a:lnTo>
                            <a:pt x="0" y="0"/>
                          </a:lnTo>
                          <a:lnTo>
                            <a:pt x="895" y="24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Line 318"/>
                    <p:cNvSpPr/>
                    <p:nvPr/>
                  </p:nvSpPr>
                  <p:spPr>
                    <a:xfrm flipH="1" flipV="1">
                      <a:off x="3254760" y="4913640"/>
                      <a:ext cx="190800" cy="51120"/>
                    </a:xfrm>
                    <a:prstGeom prst="line">
                      <a:avLst/>
                    </a:prstGeom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Freeform 319"/>
                    <p:cNvSpPr/>
                    <p:nvPr/>
                  </p:nvSpPr>
                  <p:spPr>
                    <a:xfrm>
                      <a:off x="3390480" y="4876920"/>
                      <a:ext cx="191160" cy="51120"/>
                    </a:xfrm>
                    <a:custGeom>
                      <a:avLst/>
                      <a:gdLst>
                        <a:gd name="textAreaLeft" fmla="*/ 0 w 191160"/>
                        <a:gd name="textAreaRight" fmla="*/ 191520 w 191160"/>
                        <a:gd name="textAreaTop" fmla="*/ 0 h 51120"/>
                        <a:gd name="textAreaBottom" fmla="*/ 51480 h 51120"/>
                      </a:gdLst>
                      <a:ahLst/>
                      <a:rect l="textAreaLeft" t="textAreaTop" r="textAreaRight" b="textAreaBottom"/>
                      <a:pathLst>
                        <a:path w="898" h="241">
                          <a:moveTo>
                            <a:pt x="898" y="241"/>
                          </a:moveTo>
                          <a:lnTo>
                            <a:pt x="0" y="0"/>
                          </a:lnTo>
                          <a:lnTo>
                            <a:pt x="898" y="24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Line 320"/>
                    <p:cNvSpPr/>
                    <p:nvPr/>
                  </p:nvSpPr>
                  <p:spPr>
                    <a:xfrm flipH="1" flipV="1">
                      <a:off x="3390120" y="4876920"/>
                      <a:ext cx="191160" cy="51120"/>
                    </a:xfrm>
                    <a:prstGeom prst="line">
                      <a:avLst/>
                    </a:prstGeom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Freeform 321"/>
                    <p:cNvSpPr/>
                    <p:nvPr/>
                  </p:nvSpPr>
                  <p:spPr>
                    <a:xfrm>
                      <a:off x="3209400" y="4925880"/>
                      <a:ext cx="190800" cy="51120"/>
                    </a:xfrm>
                    <a:custGeom>
                      <a:avLst/>
                      <a:gdLst>
                        <a:gd name="textAreaLeft" fmla="*/ 0 w 190800"/>
                        <a:gd name="textAreaRight" fmla="*/ 191160 w 190800"/>
                        <a:gd name="textAreaTop" fmla="*/ 0 h 51120"/>
                        <a:gd name="textAreaBottom" fmla="*/ 51480 h 51120"/>
                      </a:gdLst>
                      <a:ahLst/>
                      <a:rect l="textAreaLeft" t="textAreaTop" r="textAreaRight" b="textAreaBottom"/>
                      <a:pathLst>
                        <a:path w="895" h="241">
                          <a:moveTo>
                            <a:pt x="895" y="241"/>
                          </a:moveTo>
                          <a:lnTo>
                            <a:pt x="0" y="0"/>
                          </a:lnTo>
                          <a:lnTo>
                            <a:pt x="895" y="24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322"/>
                    <p:cNvSpPr/>
                    <p:nvPr/>
                  </p:nvSpPr>
                  <p:spPr>
                    <a:xfrm flipH="1" flipV="1">
                      <a:off x="3209400" y="4925880"/>
                      <a:ext cx="190800" cy="51120"/>
                    </a:xfrm>
                    <a:prstGeom prst="line">
                      <a:avLst/>
                    </a:prstGeom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" bIns="4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34" name=""/>
                <p:cNvGrpSpPr/>
                <p:nvPr/>
              </p:nvGrpSpPr>
              <p:grpSpPr>
                <a:xfrm>
                  <a:off x="3324240" y="4857120"/>
                  <a:ext cx="114120" cy="89640"/>
                  <a:chOff x="3324240" y="4857120"/>
                  <a:chExt cx="114120" cy="89640"/>
                </a:xfrm>
              </p:grpSpPr>
              <p:sp>
                <p:nvSpPr>
                  <p:cNvPr id="535" name="Freeform 324"/>
                  <p:cNvSpPr/>
                  <p:nvPr/>
                </p:nvSpPr>
                <p:spPr>
                  <a:xfrm flipH="1">
                    <a:off x="3323880" y="4857120"/>
                    <a:ext cx="114120" cy="30600"/>
                  </a:xfrm>
                  <a:custGeom>
                    <a:avLst/>
                    <a:gdLst>
                      <a:gd name="textAreaLeft" fmla="*/ -360 w 114120"/>
                      <a:gd name="textAreaRight" fmla="*/ 114120 w 11412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3"/>
                        </a:moveTo>
                        <a:lnTo>
                          <a:pt x="451" y="0"/>
                        </a:lnTo>
                        <a:lnTo>
                          <a:pt x="904" y="123"/>
                        </a:lnTo>
                        <a:lnTo>
                          <a:pt x="451" y="244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325"/>
                  <p:cNvSpPr/>
                  <p:nvPr/>
                </p:nvSpPr>
                <p:spPr>
                  <a:xfrm flipH="1">
                    <a:off x="3323880" y="4872600"/>
                    <a:ext cx="57240" cy="74160"/>
                  </a:xfrm>
                  <a:custGeom>
                    <a:avLst/>
                    <a:gdLst>
                      <a:gd name="textAreaLeft" fmla="*/ -360 w 57240"/>
                      <a:gd name="textAreaRight" fmla="*/ 57240 w 57240"/>
                      <a:gd name="textAreaTop" fmla="*/ 0 h 74160"/>
                      <a:gd name="textAreaBottom" fmla="*/ 74520 h 74160"/>
                    </a:gdLst>
                    <a:ahLst/>
                    <a:rect l="textAreaLeft" t="textAreaTop" r="textAreaRight" b="textAreaBottom"/>
                    <a:pathLst>
                      <a:path w="453" h="589">
                        <a:moveTo>
                          <a:pt x="0" y="589"/>
                        </a:moveTo>
                        <a:lnTo>
                          <a:pt x="0" y="121"/>
                        </a:lnTo>
                        <a:lnTo>
                          <a:pt x="453" y="0"/>
                        </a:lnTo>
                        <a:lnTo>
                          <a:pt x="453" y="468"/>
                        </a:lnTo>
                        <a:lnTo>
                          <a:pt x="0" y="589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Freeform 326"/>
                  <p:cNvSpPr/>
                  <p:nvPr/>
                </p:nvSpPr>
                <p:spPr>
                  <a:xfrm flipH="1">
                    <a:off x="3381480" y="4872600"/>
                    <a:ext cx="56880" cy="74160"/>
                  </a:xfrm>
                  <a:custGeom>
                    <a:avLst/>
                    <a:gdLst>
                      <a:gd name="textAreaLeft" fmla="*/ 360 w 56880"/>
                      <a:gd name="textAreaRight" fmla="*/ 57600 w 56880"/>
                      <a:gd name="textAreaTop" fmla="*/ 0 h 74160"/>
                      <a:gd name="textAreaBottom" fmla="*/ 74520 h 74160"/>
                    </a:gdLst>
                    <a:ahLst/>
                    <a:rect l="textAreaLeft" t="textAreaTop" r="textAreaRight" b="textAreaBottom"/>
                    <a:pathLst>
                      <a:path w="451" h="589">
                        <a:moveTo>
                          <a:pt x="0" y="0"/>
                        </a:moveTo>
                        <a:lnTo>
                          <a:pt x="0" y="468"/>
                        </a:lnTo>
                        <a:lnTo>
                          <a:pt x="451" y="589"/>
                        </a:lnTo>
                        <a:lnTo>
                          <a:pt x="451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38" name=""/>
            <p:cNvGrpSpPr/>
            <p:nvPr/>
          </p:nvGrpSpPr>
          <p:grpSpPr>
            <a:xfrm>
              <a:off x="3831480" y="4412520"/>
              <a:ext cx="1746720" cy="478440"/>
              <a:chOff x="3831480" y="4412520"/>
              <a:chExt cx="1746720" cy="478440"/>
            </a:xfrm>
          </p:grpSpPr>
          <p:sp>
            <p:nvSpPr>
              <p:cNvPr id="539" name="Freeform 328"/>
              <p:cNvSpPr/>
              <p:nvPr/>
            </p:nvSpPr>
            <p:spPr>
              <a:xfrm>
                <a:off x="3831480" y="4422960"/>
                <a:ext cx="1746720" cy="468000"/>
              </a:xfrm>
              <a:custGeom>
                <a:avLst/>
                <a:gdLst>
                  <a:gd name="textAreaLeft" fmla="*/ 0 w 1746720"/>
                  <a:gd name="textAreaRight" fmla="*/ 1747080 w 174672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161" h="44">
                    <a:moveTo>
                      <a:pt x="0" y="22"/>
                    </a:moveTo>
                    <a:lnTo>
                      <a:pt x="81" y="0"/>
                    </a:lnTo>
                    <a:lnTo>
                      <a:pt x="161" y="22"/>
                    </a:lnTo>
                    <a:lnTo>
                      <a:pt x="81" y="44"/>
                    </a:lnTo>
                    <a:lnTo>
                      <a:pt x="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caca"/>
                  </a:gs>
                  <a:gs pos="100000">
                    <a:srgbClr val="b2b2b2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  <a:effectLst>
                <a:outerShdw dist="12600" dir="54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"/>
              <p:cNvGrpSpPr/>
              <p:nvPr/>
            </p:nvGrpSpPr>
            <p:grpSpPr>
              <a:xfrm>
                <a:off x="4320720" y="4412520"/>
                <a:ext cx="778320" cy="349920"/>
                <a:chOff x="4320720" y="4412520"/>
                <a:chExt cx="778320" cy="349920"/>
              </a:xfrm>
            </p:grpSpPr>
            <p:grpSp>
              <p:nvGrpSpPr>
                <p:cNvPr id="541" name=""/>
                <p:cNvGrpSpPr/>
                <p:nvPr/>
              </p:nvGrpSpPr>
              <p:grpSpPr>
                <a:xfrm>
                  <a:off x="4903560" y="4682520"/>
                  <a:ext cx="195480" cy="79920"/>
                  <a:chOff x="4903560" y="4682520"/>
                  <a:chExt cx="195480" cy="79920"/>
                </a:xfrm>
              </p:grpSpPr>
              <p:sp>
                <p:nvSpPr>
                  <p:cNvPr id="542" name="Freeform 331"/>
                  <p:cNvSpPr/>
                  <p:nvPr/>
                </p:nvSpPr>
                <p:spPr>
                  <a:xfrm>
                    <a:off x="4903560" y="4709880"/>
                    <a:ext cx="195480" cy="52560"/>
                  </a:xfrm>
                  <a:custGeom>
                    <a:avLst/>
                    <a:gdLst>
                      <a:gd name="textAreaLeft" fmla="*/ 0 w 195480"/>
                      <a:gd name="textAreaRight" fmla="*/ 195840 w 19548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1"/>
                        </a:moveTo>
                        <a:lnTo>
                          <a:pt x="453" y="0"/>
                        </a:lnTo>
                        <a:lnTo>
                          <a:pt x="904" y="121"/>
                        </a:lnTo>
                        <a:lnTo>
                          <a:pt x="453" y="244"/>
                        </a:lnTo>
                        <a:lnTo>
                          <a:pt x="0" y="12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332"/>
                  <p:cNvSpPr/>
                  <p:nvPr/>
                </p:nvSpPr>
                <p:spPr>
                  <a:xfrm>
                    <a:off x="5001480" y="4688640"/>
                    <a:ext cx="97560" cy="47160"/>
                  </a:xfrm>
                  <a:custGeom>
                    <a:avLst/>
                    <a:gdLst>
                      <a:gd name="textAreaLeft" fmla="*/ 0 w 97560"/>
                      <a:gd name="textAreaRight" fmla="*/ 97920 w 97560"/>
                      <a:gd name="textAreaTop" fmla="*/ 0 h 47160"/>
                      <a:gd name="textAreaBottom" fmla="*/ 47520 h 47160"/>
                    </a:gdLst>
                    <a:ahLst/>
                    <a:rect l="textAreaLeft" t="textAreaTop" r="textAreaRight" b="textAreaBottom"/>
                    <a:pathLst>
                      <a:path w="451" h="218">
                        <a:moveTo>
                          <a:pt x="0" y="97"/>
                        </a:moveTo>
                        <a:lnTo>
                          <a:pt x="0" y="0"/>
                        </a:lnTo>
                        <a:lnTo>
                          <a:pt x="451" y="123"/>
                        </a:lnTo>
                        <a:lnTo>
                          <a:pt x="451" y="218"/>
                        </a:lnTo>
                        <a:lnTo>
                          <a:pt x="0" y="97"/>
                        </a:lnTo>
                        <a:close/>
                      </a:path>
                    </a:pathLst>
                  </a:custGeom>
                  <a:solidFill>
                    <a:srgbClr val="006600"/>
                  </a:solidFill>
                  <a:ln w="648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Freeform 333"/>
                  <p:cNvSpPr/>
                  <p:nvPr/>
                </p:nvSpPr>
                <p:spPr>
                  <a:xfrm>
                    <a:off x="4903560" y="4688640"/>
                    <a:ext cx="97920" cy="47160"/>
                  </a:xfrm>
                  <a:custGeom>
                    <a:avLst/>
                    <a:gdLst>
                      <a:gd name="textAreaLeft" fmla="*/ 0 w 97920"/>
                      <a:gd name="textAreaRight" fmla="*/ 98280 w 97920"/>
                      <a:gd name="textAreaTop" fmla="*/ 0 h 47160"/>
                      <a:gd name="textAreaBottom" fmla="*/ 47520 h 47160"/>
                    </a:gdLst>
                    <a:ahLst/>
                    <a:rect l="textAreaLeft" t="textAreaTop" r="textAreaRight" b="textAreaBottom"/>
                    <a:pathLst>
                      <a:path w="453" h="218">
                        <a:moveTo>
                          <a:pt x="453" y="97"/>
                        </a:moveTo>
                        <a:lnTo>
                          <a:pt x="453" y="0"/>
                        </a:lnTo>
                        <a:lnTo>
                          <a:pt x="0" y="123"/>
                        </a:lnTo>
                        <a:lnTo>
                          <a:pt x="0" y="218"/>
                        </a:lnTo>
                        <a:lnTo>
                          <a:pt x="453" y="97"/>
                        </a:lnTo>
                        <a:close/>
                      </a:path>
                    </a:pathLst>
                  </a:custGeom>
                  <a:solidFill>
                    <a:srgbClr val="006600"/>
                  </a:solidFill>
                  <a:ln w="648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Freeform 334"/>
                  <p:cNvSpPr/>
                  <p:nvPr/>
                </p:nvSpPr>
                <p:spPr>
                  <a:xfrm>
                    <a:off x="4930560" y="471096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335"/>
                  <p:cNvSpPr/>
                  <p:nvPr/>
                </p:nvSpPr>
                <p:spPr>
                  <a:xfrm>
                    <a:off x="4931640" y="470880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1"/>
                        </a:lnTo>
                        <a:lnTo>
                          <a:pt x="288" y="179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Freeform 336"/>
                  <p:cNvSpPr/>
                  <p:nvPr/>
                </p:nvSpPr>
                <p:spPr>
                  <a:xfrm>
                    <a:off x="4930560" y="470628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Freeform 337"/>
                  <p:cNvSpPr/>
                  <p:nvPr/>
                </p:nvSpPr>
                <p:spPr>
                  <a:xfrm>
                    <a:off x="4931640" y="470412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Freeform 338"/>
                  <p:cNvSpPr/>
                  <p:nvPr/>
                </p:nvSpPr>
                <p:spPr>
                  <a:xfrm>
                    <a:off x="4930560" y="470124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Freeform 339"/>
                  <p:cNvSpPr/>
                  <p:nvPr/>
                </p:nvSpPr>
                <p:spPr>
                  <a:xfrm>
                    <a:off x="4931640" y="469980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7">
                        <a:moveTo>
                          <a:pt x="668" y="76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77"/>
                        </a:lnTo>
                        <a:lnTo>
                          <a:pt x="668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Freeform 340"/>
                  <p:cNvSpPr/>
                  <p:nvPr/>
                </p:nvSpPr>
                <p:spPr>
                  <a:xfrm>
                    <a:off x="4930560" y="469656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Freeform 341"/>
                  <p:cNvSpPr/>
                  <p:nvPr/>
                </p:nvSpPr>
                <p:spPr>
                  <a:xfrm>
                    <a:off x="4931640" y="469440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Freeform 342"/>
                  <p:cNvSpPr/>
                  <p:nvPr/>
                </p:nvSpPr>
                <p:spPr>
                  <a:xfrm>
                    <a:off x="4930560" y="469188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1"/>
                        </a:lnTo>
                        <a:lnTo>
                          <a:pt x="380" y="17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Freeform 343"/>
                  <p:cNvSpPr/>
                  <p:nvPr/>
                </p:nvSpPr>
                <p:spPr>
                  <a:xfrm>
                    <a:off x="4931640" y="468972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Freeform 344"/>
                  <p:cNvSpPr/>
                  <p:nvPr/>
                </p:nvSpPr>
                <p:spPr>
                  <a:xfrm>
                    <a:off x="4930560" y="468684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345"/>
                  <p:cNvSpPr/>
                  <p:nvPr/>
                </p:nvSpPr>
                <p:spPr>
                  <a:xfrm>
                    <a:off x="4931640" y="468540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7">
                        <a:moveTo>
                          <a:pt x="668" y="76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77"/>
                        </a:lnTo>
                        <a:lnTo>
                          <a:pt x="668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Freeform 346"/>
                  <p:cNvSpPr/>
                  <p:nvPr/>
                </p:nvSpPr>
                <p:spPr>
                  <a:xfrm>
                    <a:off x="4930560" y="468252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1"/>
                        </a:lnTo>
                        <a:lnTo>
                          <a:pt x="380" y="17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Freeform 347"/>
                  <p:cNvSpPr/>
                  <p:nvPr/>
                </p:nvSpPr>
                <p:spPr>
                  <a:xfrm>
                    <a:off x="5001480" y="4715280"/>
                    <a:ext cx="97560" cy="46800"/>
                  </a:xfrm>
                  <a:custGeom>
                    <a:avLst/>
                    <a:gdLst>
                      <a:gd name="textAreaLeft" fmla="*/ 0 w 97560"/>
                      <a:gd name="textAreaRight" fmla="*/ 97920 w 9756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1" h="218">
                        <a:moveTo>
                          <a:pt x="0" y="218"/>
                        </a:moveTo>
                        <a:lnTo>
                          <a:pt x="0" y="121"/>
                        </a:lnTo>
                        <a:lnTo>
                          <a:pt x="451" y="0"/>
                        </a:lnTo>
                        <a:lnTo>
                          <a:pt x="451" y="95"/>
                        </a:lnTo>
                        <a:lnTo>
                          <a:pt x="0" y="218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648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Freeform 348"/>
                  <p:cNvSpPr/>
                  <p:nvPr/>
                </p:nvSpPr>
                <p:spPr>
                  <a:xfrm>
                    <a:off x="4903560" y="4715280"/>
                    <a:ext cx="97920" cy="46800"/>
                  </a:xfrm>
                  <a:custGeom>
                    <a:avLst/>
                    <a:gdLst>
                      <a:gd name="textAreaLeft" fmla="*/ 0 w 97920"/>
                      <a:gd name="textAreaRight" fmla="*/ 98280 w 9792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3" h="218">
                        <a:moveTo>
                          <a:pt x="0" y="0"/>
                        </a:moveTo>
                        <a:lnTo>
                          <a:pt x="0" y="95"/>
                        </a:lnTo>
                        <a:lnTo>
                          <a:pt x="453" y="218"/>
                        </a:lnTo>
                        <a:lnTo>
                          <a:pt x="453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648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4898880" y="4523400"/>
                  <a:ext cx="195480" cy="79920"/>
                  <a:chOff x="4898880" y="4523400"/>
                  <a:chExt cx="195480" cy="79920"/>
                </a:xfrm>
              </p:grpSpPr>
              <p:sp>
                <p:nvSpPr>
                  <p:cNvPr id="561" name="Freeform 350"/>
                  <p:cNvSpPr/>
                  <p:nvPr/>
                </p:nvSpPr>
                <p:spPr>
                  <a:xfrm>
                    <a:off x="4898880" y="4550760"/>
                    <a:ext cx="195480" cy="52560"/>
                  </a:xfrm>
                  <a:custGeom>
                    <a:avLst/>
                    <a:gdLst>
                      <a:gd name="textAreaLeft" fmla="*/ 0 w 195480"/>
                      <a:gd name="textAreaRight" fmla="*/ 195840 w 19548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1"/>
                        </a:moveTo>
                        <a:lnTo>
                          <a:pt x="453" y="0"/>
                        </a:lnTo>
                        <a:lnTo>
                          <a:pt x="904" y="121"/>
                        </a:lnTo>
                        <a:lnTo>
                          <a:pt x="453" y="244"/>
                        </a:lnTo>
                        <a:lnTo>
                          <a:pt x="0" y="12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Freeform 351"/>
                  <p:cNvSpPr/>
                  <p:nvPr/>
                </p:nvSpPr>
                <p:spPr>
                  <a:xfrm>
                    <a:off x="4996800" y="4529520"/>
                    <a:ext cx="97560" cy="47160"/>
                  </a:xfrm>
                  <a:custGeom>
                    <a:avLst/>
                    <a:gdLst>
                      <a:gd name="textAreaLeft" fmla="*/ 0 w 97560"/>
                      <a:gd name="textAreaRight" fmla="*/ 97920 w 97560"/>
                      <a:gd name="textAreaTop" fmla="*/ 0 h 47160"/>
                      <a:gd name="textAreaBottom" fmla="*/ 47520 h 47160"/>
                    </a:gdLst>
                    <a:ahLst/>
                    <a:rect l="textAreaLeft" t="textAreaTop" r="textAreaRight" b="textAreaBottom"/>
                    <a:pathLst>
                      <a:path w="451" h="218">
                        <a:moveTo>
                          <a:pt x="0" y="97"/>
                        </a:moveTo>
                        <a:lnTo>
                          <a:pt x="0" y="0"/>
                        </a:lnTo>
                        <a:lnTo>
                          <a:pt x="451" y="123"/>
                        </a:lnTo>
                        <a:lnTo>
                          <a:pt x="451" y="218"/>
                        </a:lnTo>
                        <a:lnTo>
                          <a:pt x="0" y="97"/>
                        </a:lnTo>
                        <a:close/>
                      </a:path>
                    </a:pathLst>
                  </a:custGeom>
                  <a:solidFill>
                    <a:srgbClr val="006600"/>
                  </a:solidFill>
                  <a:ln w="648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Freeform 352"/>
                  <p:cNvSpPr/>
                  <p:nvPr/>
                </p:nvSpPr>
                <p:spPr>
                  <a:xfrm>
                    <a:off x="4898880" y="4529520"/>
                    <a:ext cx="97920" cy="47160"/>
                  </a:xfrm>
                  <a:custGeom>
                    <a:avLst/>
                    <a:gdLst>
                      <a:gd name="textAreaLeft" fmla="*/ 0 w 97920"/>
                      <a:gd name="textAreaRight" fmla="*/ 98280 w 97920"/>
                      <a:gd name="textAreaTop" fmla="*/ 0 h 47160"/>
                      <a:gd name="textAreaBottom" fmla="*/ 47520 h 47160"/>
                    </a:gdLst>
                    <a:ahLst/>
                    <a:rect l="textAreaLeft" t="textAreaTop" r="textAreaRight" b="textAreaBottom"/>
                    <a:pathLst>
                      <a:path w="453" h="218">
                        <a:moveTo>
                          <a:pt x="453" y="97"/>
                        </a:moveTo>
                        <a:lnTo>
                          <a:pt x="453" y="0"/>
                        </a:lnTo>
                        <a:lnTo>
                          <a:pt x="0" y="123"/>
                        </a:lnTo>
                        <a:lnTo>
                          <a:pt x="0" y="218"/>
                        </a:lnTo>
                        <a:lnTo>
                          <a:pt x="453" y="97"/>
                        </a:lnTo>
                        <a:close/>
                      </a:path>
                    </a:pathLst>
                  </a:custGeom>
                  <a:solidFill>
                    <a:srgbClr val="006600"/>
                  </a:solidFill>
                  <a:ln w="648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Freeform 353"/>
                  <p:cNvSpPr/>
                  <p:nvPr/>
                </p:nvSpPr>
                <p:spPr>
                  <a:xfrm>
                    <a:off x="4925880" y="455184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Freeform 354"/>
                  <p:cNvSpPr/>
                  <p:nvPr/>
                </p:nvSpPr>
                <p:spPr>
                  <a:xfrm>
                    <a:off x="4926960" y="454968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1"/>
                        </a:lnTo>
                        <a:lnTo>
                          <a:pt x="288" y="179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Freeform 355"/>
                  <p:cNvSpPr/>
                  <p:nvPr/>
                </p:nvSpPr>
                <p:spPr>
                  <a:xfrm>
                    <a:off x="4925880" y="454716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Freeform 356"/>
                  <p:cNvSpPr/>
                  <p:nvPr/>
                </p:nvSpPr>
                <p:spPr>
                  <a:xfrm>
                    <a:off x="4926960" y="454500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Freeform 357"/>
                  <p:cNvSpPr/>
                  <p:nvPr/>
                </p:nvSpPr>
                <p:spPr>
                  <a:xfrm>
                    <a:off x="4925880" y="454212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Freeform 358"/>
                  <p:cNvSpPr/>
                  <p:nvPr/>
                </p:nvSpPr>
                <p:spPr>
                  <a:xfrm>
                    <a:off x="4926960" y="454068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7">
                        <a:moveTo>
                          <a:pt x="668" y="76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77"/>
                        </a:lnTo>
                        <a:lnTo>
                          <a:pt x="668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Freeform 359"/>
                  <p:cNvSpPr/>
                  <p:nvPr/>
                </p:nvSpPr>
                <p:spPr>
                  <a:xfrm>
                    <a:off x="4925880" y="453744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Freeform 360"/>
                  <p:cNvSpPr/>
                  <p:nvPr/>
                </p:nvSpPr>
                <p:spPr>
                  <a:xfrm>
                    <a:off x="4926960" y="453528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Freeform 361"/>
                  <p:cNvSpPr/>
                  <p:nvPr/>
                </p:nvSpPr>
                <p:spPr>
                  <a:xfrm>
                    <a:off x="4925880" y="453276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1"/>
                        </a:lnTo>
                        <a:lnTo>
                          <a:pt x="380" y="17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Freeform 362"/>
                  <p:cNvSpPr/>
                  <p:nvPr/>
                </p:nvSpPr>
                <p:spPr>
                  <a:xfrm>
                    <a:off x="4926960" y="453060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Freeform 363"/>
                  <p:cNvSpPr/>
                  <p:nvPr/>
                </p:nvSpPr>
                <p:spPr>
                  <a:xfrm>
                    <a:off x="4925880" y="452772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Freeform 364"/>
                  <p:cNvSpPr/>
                  <p:nvPr/>
                </p:nvSpPr>
                <p:spPr>
                  <a:xfrm>
                    <a:off x="4926960" y="452628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7">
                        <a:moveTo>
                          <a:pt x="668" y="76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77"/>
                        </a:lnTo>
                        <a:lnTo>
                          <a:pt x="668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Freeform 365"/>
                  <p:cNvSpPr/>
                  <p:nvPr/>
                </p:nvSpPr>
                <p:spPr>
                  <a:xfrm>
                    <a:off x="4925880" y="452340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1"/>
                        </a:lnTo>
                        <a:lnTo>
                          <a:pt x="380" y="17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Freeform 366"/>
                  <p:cNvSpPr/>
                  <p:nvPr/>
                </p:nvSpPr>
                <p:spPr>
                  <a:xfrm>
                    <a:off x="4996800" y="4556160"/>
                    <a:ext cx="97560" cy="46800"/>
                  </a:xfrm>
                  <a:custGeom>
                    <a:avLst/>
                    <a:gdLst>
                      <a:gd name="textAreaLeft" fmla="*/ 0 w 97560"/>
                      <a:gd name="textAreaRight" fmla="*/ 97920 w 9756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1" h="218">
                        <a:moveTo>
                          <a:pt x="0" y="218"/>
                        </a:moveTo>
                        <a:lnTo>
                          <a:pt x="0" y="121"/>
                        </a:lnTo>
                        <a:lnTo>
                          <a:pt x="451" y="0"/>
                        </a:lnTo>
                        <a:lnTo>
                          <a:pt x="451" y="95"/>
                        </a:lnTo>
                        <a:lnTo>
                          <a:pt x="0" y="218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648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Freeform 367"/>
                  <p:cNvSpPr/>
                  <p:nvPr/>
                </p:nvSpPr>
                <p:spPr>
                  <a:xfrm>
                    <a:off x="4898880" y="4556160"/>
                    <a:ext cx="97920" cy="46800"/>
                  </a:xfrm>
                  <a:custGeom>
                    <a:avLst/>
                    <a:gdLst>
                      <a:gd name="textAreaLeft" fmla="*/ 0 w 97920"/>
                      <a:gd name="textAreaRight" fmla="*/ 98280 w 9792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3" h="218">
                        <a:moveTo>
                          <a:pt x="0" y="0"/>
                        </a:moveTo>
                        <a:lnTo>
                          <a:pt x="0" y="95"/>
                        </a:lnTo>
                        <a:lnTo>
                          <a:pt x="453" y="218"/>
                        </a:lnTo>
                        <a:lnTo>
                          <a:pt x="453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648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4320720" y="4525920"/>
                  <a:ext cx="195480" cy="79920"/>
                  <a:chOff x="4320720" y="4525920"/>
                  <a:chExt cx="195480" cy="79920"/>
                </a:xfrm>
              </p:grpSpPr>
              <p:sp>
                <p:nvSpPr>
                  <p:cNvPr id="580" name="Freeform 369"/>
                  <p:cNvSpPr/>
                  <p:nvPr/>
                </p:nvSpPr>
                <p:spPr>
                  <a:xfrm>
                    <a:off x="4320720" y="4553280"/>
                    <a:ext cx="195480" cy="52560"/>
                  </a:xfrm>
                  <a:custGeom>
                    <a:avLst/>
                    <a:gdLst>
                      <a:gd name="textAreaLeft" fmla="*/ 0 w 195480"/>
                      <a:gd name="textAreaRight" fmla="*/ 195840 w 19548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1"/>
                        </a:moveTo>
                        <a:lnTo>
                          <a:pt x="453" y="0"/>
                        </a:lnTo>
                        <a:lnTo>
                          <a:pt x="904" y="121"/>
                        </a:lnTo>
                        <a:lnTo>
                          <a:pt x="453" y="244"/>
                        </a:lnTo>
                        <a:lnTo>
                          <a:pt x="0" y="12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Freeform 370"/>
                  <p:cNvSpPr/>
                  <p:nvPr/>
                </p:nvSpPr>
                <p:spPr>
                  <a:xfrm>
                    <a:off x="4418640" y="4532040"/>
                    <a:ext cx="97560" cy="47160"/>
                  </a:xfrm>
                  <a:custGeom>
                    <a:avLst/>
                    <a:gdLst>
                      <a:gd name="textAreaLeft" fmla="*/ 0 w 97560"/>
                      <a:gd name="textAreaRight" fmla="*/ 97920 w 97560"/>
                      <a:gd name="textAreaTop" fmla="*/ 0 h 47160"/>
                      <a:gd name="textAreaBottom" fmla="*/ 47520 h 47160"/>
                    </a:gdLst>
                    <a:ahLst/>
                    <a:rect l="textAreaLeft" t="textAreaTop" r="textAreaRight" b="textAreaBottom"/>
                    <a:pathLst>
                      <a:path w="451" h="218">
                        <a:moveTo>
                          <a:pt x="0" y="97"/>
                        </a:moveTo>
                        <a:lnTo>
                          <a:pt x="0" y="0"/>
                        </a:lnTo>
                        <a:lnTo>
                          <a:pt x="451" y="123"/>
                        </a:lnTo>
                        <a:lnTo>
                          <a:pt x="451" y="218"/>
                        </a:lnTo>
                        <a:lnTo>
                          <a:pt x="0" y="97"/>
                        </a:lnTo>
                        <a:close/>
                      </a:path>
                    </a:pathLst>
                  </a:custGeom>
                  <a:solidFill>
                    <a:srgbClr val="006600"/>
                  </a:solidFill>
                  <a:ln w="648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Freeform 371"/>
                  <p:cNvSpPr/>
                  <p:nvPr/>
                </p:nvSpPr>
                <p:spPr>
                  <a:xfrm>
                    <a:off x="4320720" y="4532040"/>
                    <a:ext cx="97920" cy="47160"/>
                  </a:xfrm>
                  <a:custGeom>
                    <a:avLst/>
                    <a:gdLst>
                      <a:gd name="textAreaLeft" fmla="*/ 0 w 97920"/>
                      <a:gd name="textAreaRight" fmla="*/ 98280 w 97920"/>
                      <a:gd name="textAreaTop" fmla="*/ 0 h 47160"/>
                      <a:gd name="textAreaBottom" fmla="*/ 47520 h 47160"/>
                    </a:gdLst>
                    <a:ahLst/>
                    <a:rect l="textAreaLeft" t="textAreaTop" r="textAreaRight" b="textAreaBottom"/>
                    <a:pathLst>
                      <a:path w="453" h="218">
                        <a:moveTo>
                          <a:pt x="453" y="97"/>
                        </a:moveTo>
                        <a:lnTo>
                          <a:pt x="453" y="0"/>
                        </a:lnTo>
                        <a:lnTo>
                          <a:pt x="0" y="123"/>
                        </a:lnTo>
                        <a:lnTo>
                          <a:pt x="0" y="218"/>
                        </a:lnTo>
                        <a:lnTo>
                          <a:pt x="453" y="97"/>
                        </a:lnTo>
                        <a:close/>
                      </a:path>
                    </a:pathLst>
                  </a:custGeom>
                  <a:solidFill>
                    <a:srgbClr val="006600"/>
                  </a:solidFill>
                  <a:ln w="648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Freeform 372"/>
                  <p:cNvSpPr/>
                  <p:nvPr/>
                </p:nvSpPr>
                <p:spPr>
                  <a:xfrm>
                    <a:off x="4347720" y="455436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Freeform 373"/>
                  <p:cNvSpPr/>
                  <p:nvPr/>
                </p:nvSpPr>
                <p:spPr>
                  <a:xfrm>
                    <a:off x="4348800" y="455220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1"/>
                        </a:lnTo>
                        <a:lnTo>
                          <a:pt x="288" y="179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Freeform 374"/>
                  <p:cNvSpPr/>
                  <p:nvPr/>
                </p:nvSpPr>
                <p:spPr>
                  <a:xfrm>
                    <a:off x="4347720" y="454968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Freeform 375"/>
                  <p:cNvSpPr/>
                  <p:nvPr/>
                </p:nvSpPr>
                <p:spPr>
                  <a:xfrm>
                    <a:off x="4348800" y="454752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Freeform 376"/>
                  <p:cNvSpPr/>
                  <p:nvPr/>
                </p:nvSpPr>
                <p:spPr>
                  <a:xfrm>
                    <a:off x="4347720" y="454464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Freeform 377"/>
                  <p:cNvSpPr/>
                  <p:nvPr/>
                </p:nvSpPr>
                <p:spPr>
                  <a:xfrm>
                    <a:off x="4348800" y="454320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7">
                        <a:moveTo>
                          <a:pt x="668" y="76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77"/>
                        </a:lnTo>
                        <a:lnTo>
                          <a:pt x="668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Freeform 378"/>
                  <p:cNvSpPr/>
                  <p:nvPr/>
                </p:nvSpPr>
                <p:spPr>
                  <a:xfrm>
                    <a:off x="4347720" y="453996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Freeform 379"/>
                  <p:cNvSpPr/>
                  <p:nvPr/>
                </p:nvSpPr>
                <p:spPr>
                  <a:xfrm>
                    <a:off x="4348800" y="453780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Freeform 380"/>
                  <p:cNvSpPr/>
                  <p:nvPr/>
                </p:nvSpPr>
                <p:spPr>
                  <a:xfrm>
                    <a:off x="4347720" y="453528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1"/>
                        </a:lnTo>
                        <a:lnTo>
                          <a:pt x="380" y="17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Freeform 381"/>
                  <p:cNvSpPr/>
                  <p:nvPr/>
                </p:nvSpPr>
                <p:spPr>
                  <a:xfrm>
                    <a:off x="4348800" y="453312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668" y="78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80"/>
                        </a:lnTo>
                        <a:lnTo>
                          <a:pt x="668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Freeform 382"/>
                  <p:cNvSpPr/>
                  <p:nvPr/>
                </p:nvSpPr>
                <p:spPr>
                  <a:xfrm>
                    <a:off x="4347720" y="4530240"/>
                    <a:ext cx="144360" cy="3888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880"/>
                      <a:gd name="textAreaBottom" fmla="*/ 38880 h 38880"/>
                    </a:gdLst>
                    <a:ahLst/>
                    <a:rect l="textAreaLeft" t="textAreaTop" r="textAreaRight" b="textAreaBottom"/>
                    <a:pathLst>
                      <a:path w="668" h="180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2"/>
                        </a:lnTo>
                        <a:lnTo>
                          <a:pt x="380" y="180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Freeform 383"/>
                  <p:cNvSpPr/>
                  <p:nvPr/>
                </p:nvSpPr>
                <p:spPr>
                  <a:xfrm>
                    <a:off x="4348800" y="4528800"/>
                    <a:ext cx="144360" cy="3816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668" h="177">
                        <a:moveTo>
                          <a:pt x="668" y="76"/>
                        </a:moveTo>
                        <a:lnTo>
                          <a:pt x="377" y="0"/>
                        </a:lnTo>
                        <a:lnTo>
                          <a:pt x="0" y="102"/>
                        </a:lnTo>
                        <a:lnTo>
                          <a:pt x="288" y="177"/>
                        </a:lnTo>
                        <a:lnTo>
                          <a:pt x="668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Freeform 384"/>
                  <p:cNvSpPr/>
                  <p:nvPr/>
                </p:nvSpPr>
                <p:spPr>
                  <a:xfrm>
                    <a:off x="4347720" y="4525920"/>
                    <a:ext cx="144360" cy="3852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38520"/>
                      <a:gd name="textAreaBottom" fmla="*/ 38880 h 38520"/>
                    </a:gdLst>
                    <a:ahLst/>
                    <a:rect l="textAreaLeft" t="textAreaTop" r="textAreaRight" b="textAreaBottom"/>
                    <a:pathLst>
                      <a:path w="668" h="179">
                        <a:moveTo>
                          <a:pt x="0" y="78"/>
                        </a:moveTo>
                        <a:lnTo>
                          <a:pt x="290" y="0"/>
                        </a:lnTo>
                        <a:lnTo>
                          <a:pt x="668" y="101"/>
                        </a:lnTo>
                        <a:lnTo>
                          <a:pt x="380" y="179"/>
                        </a:lnTo>
                        <a:lnTo>
                          <a:pt x="0" y="7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Freeform 385"/>
                  <p:cNvSpPr/>
                  <p:nvPr/>
                </p:nvSpPr>
                <p:spPr>
                  <a:xfrm>
                    <a:off x="4418640" y="4558680"/>
                    <a:ext cx="97560" cy="46800"/>
                  </a:xfrm>
                  <a:custGeom>
                    <a:avLst/>
                    <a:gdLst>
                      <a:gd name="textAreaLeft" fmla="*/ 0 w 97560"/>
                      <a:gd name="textAreaRight" fmla="*/ 97920 w 9756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1" h="218">
                        <a:moveTo>
                          <a:pt x="0" y="218"/>
                        </a:moveTo>
                        <a:lnTo>
                          <a:pt x="0" y="121"/>
                        </a:lnTo>
                        <a:lnTo>
                          <a:pt x="451" y="0"/>
                        </a:lnTo>
                        <a:lnTo>
                          <a:pt x="451" y="95"/>
                        </a:lnTo>
                        <a:lnTo>
                          <a:pt x="0" y="218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648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Freeform 386"/>
                  <p:cNvSpPr/>
                  <p:nvPr/>
                </p:nvSpPr>
                <p:spPr>
                  <a:xfrm>
                    <a:off x="4320720" y="4558680"/>
                    <a:ext cx="97920" cy="46800"/>
                  </a:xfrm>
                  <a:custGeom>
                    <a:avLst/>
                    <a:gdLst>
                      <a:gd name="textAreaLeft" fmla="*/ 0 w 97920"/>
                      <a:gd name="textAreaRight" fmla="*/ 98280 w 97920"/>
                      <a:gd name="textAreaTop" fmla="*/ 0 h 46800"/>
                      <a:gd name="textAreaBottom" fmla="*/ 47160 h 46800"/>
                    </a:gdLst>
                    <a:ahLst/>
                    <a:rect l="textAreaLeft" t="textAreaTop" r="textAreaRight" b="textAreaBottom"/>
                    <a:pathLst>
                      <a:path w="453" h="218">
                        <a:moveTo>
                          <a:pt x="0" y="0"/>
                        </a:moveTo>
                        <a:lnTo>
                          <a:pt x="0" y="95"/>
                        </a:lnTo>
                        <a:lnTo>
                          <a:pt x="453" y="218"/>
                        </a:lnTo>
                        <a:lnTo>
                          <a:pt x="453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648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8" name=""/>
                <p:cNvGrpSpPr/>
                <p:nvPr/>
              </p:nvGrpSpPr>
              <p:grpSpPr>
                <a:xfrm>
                  <a:off x="4512600" y="4412520"/>
                  <a:ext cx="387360" cy="295560"/>
                  <a:chOff x="4512600" y="4412520"/>
                  <a:chExt cx="387360" cy="295560"/>
                </a:xfrm>
              </p:grpSpPr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4723560" y="4412520"/>
                    <a:ext cx="139320" cy="237600"/>
                    <a:chOff x="4723560" y="4412520"/>
                    <a:chExt cx="139320" cy="237600"/>
                  </a:xfrm>
                </p:grpSpPr>
                <p:sp>
                  <p:nvSpPr>
                    <p:cNvPr id="600" name="Freeform 389"/>
                    <p:cNvSpPr/>
                    <p:nvPr/>
                  </p:nvSpPr>
                  <p:spPr>
                    <a:xfrm>
                      <a:off x="4723560" y="4451400"/>
                      <a:ext cx="139320" cy="109440"/>
                    </a:xfrm>
                    <a:custGeom>
                      <a:avLst/>
                      <a:gdLst>
                        <a:gd name="textAreaLeft" fmla="*/ 0 w 139320"/>
                        <a:gd name="textAreaRight" fmla="*/ 139680 w 139320"/>
                        <a:gd name="textAreaTop" fmla="*/ 0 h 109440"/>
                        <a:gd name="textAreaBottom" fmla="*/ 109800 h 109440"/>
                      </a:gdLst>
                      <a:ahLst/>
                      <a:rect l="textAreaLeft" t="textAreaTop" r="textAreaRight" b="textAreaBottom"/>
                      <a:pathLst>
                        <a:path w="237" h="186">
                          <a:moveTo>
                            <a:pt x="235" y="113"/>
                          </a:moveTo>
                          <a:cubicBezTo>
                            <a:pt x="235" y="113"/>
                            <a:pt x="235" y="113"/>
                            <a:pt x="235" y="113"/>
                          </a:cubicBezTo>
                          <a:cubicBezTo>
                            <a:pt x="230" y="84"/>
                            <a:pt x="226" y="57"/>
                            <a:pt x="225" y="49"/>
                          </a:cubicBezTo>
                          <a:cubicBezTo>
                            <a:pt x="223" y="32"/>
                            <a:pt x="207" y="26"/>
                            <a:pt x="199" y="24"/>
                          </a:cubicBezTo>
                          <a:cubicBezTo>
                            <a:pt x="192" y="21"/>
                            <a:pt x="169" y="16"/>
                            <a:pt x="156" y="12"/>
                          </a:cubicBezTo>
                          <a:cubicBezTo>
                            <a:pt x="145" y="9"/>
                            <a:pt x="125" y="3"/>
                            <a:pt x="116" y="2"/>
                          </a:cubicBezTo>
                          <a:cubicBezTo>
                            <a:pt x="107" y="0"/>
                            <a:pt x="90" y="4"/>
                            <a:pt x="87" y="12"/>
                          </a:cubicBezTo>
                          <a:cubicBezTo>
                            <a:pt x="86" y="14"/>
                            <a:pt x="79" y="50"/>
                            <a:pt x="73" y="85"/>
                          </a:cubicBezTo>
                          <a:cubicBezTo>
                            <a:pt x="73" y="85"/>
                            <a:pt x="73" y="85"/>
                            <a:pt x="73" y="85"/>
                          </a:cubicBezTo>
                          <a:cubicBezTo>
                            <a:pt x="72" y="90"/>
                            <a:pt x="72" y="90"/>
                            <a:pt x="72" y="90"/>
                          </a:cubicBezTo>
                          <a:cubicBezTo>
                            <a:pt x="49" y="96"/>
                            <a:pt x="29" y="102"/>
                            <a:pt x="21" y="104"/>
                          </a:cubicBezTo>
                          <a:cubicBezTo>
                            <a:pt x="0" y="108"/>
                            <a:pt x="9" y="137"/>
                            <a:pt x="26" y="135"/>
                          </a:cubicBezTo>
                          <a:cubicBezTo>
                            <a:pt x="31" y="135"/>
                            <a:pt x="55" y="129"/>
                            <a:pt x="80" y="122"/>
                          </a:cubicBezTo>
                          <a:cubicBezTo>
                            <a:pt x="80" y="122"/>
                            <a:pt x="80" y="122"/>
                            <a:pt x="80" y="122"/>
                          </a:cubicBezTo>
                          <a:cubicBezTo>
                            <a:pt x="86" y="120"/>
                            <a:pt x="86" y="120"/>
                            <a:pt x="86" y="120"/>
                          </a:cubicBezTo>
                          <a:cubicBezTo>
                            <a:pt x="92" y="118"/>
                            <a:pt x="96" y="116"/>
                            <a:pt x="99" y="112"/>
                          </a:cubicBezTo>
                          <a:cubicBezTo>
                            <a:pt x="102" y="108"/>
                            <a:pt x="104" y="102"/>
                            <a:pt x="104" y="92"/>
                          </a:cubicBezTo>
                          <a:cubicBezTo>
                            <a:pt x="104" y="92"/>
                            <a:pt x="104" y="92"/>
                            <a:pt x="104" y="92"/>
                          </a:cubicBezTo>
                          <a:cubicBezTo>
                            <a:pt x="108" y="65"/>
                            <a:pt x="111" y="43"/>
                            <a:pt x="110" y="47"/>
                          </a:cubicBezTo>
                          <a:cubicBezTo>
                            <a:pt x="110" y="53"/>
                            <a:pt x="109" y="117"/>
                            <a:pt x="109" y="160"/>
                          </a:cubicBezTo>
                          <a:cubicBezTo>
                            <a:pt x="110" y="165"/>
                            <a:pt x="112" y="170"/>
                            <a:pt x="119" y="170"/>
                          </a:cubicBezTo>
                          <a:cubicBezTo>
                            <a:pt x="131" y="173"/>
                            <a:pt x="162" y="183"/>
                            <a:pt x="169" y="184"/>
                          </a:cubicBezTo>
                          <a:cubicBezTo>
                            <a:pt x="178" y="186"/>
                            <a:pt x="193" y="176"/>
                            <a:pt x="196" y="165"/>
                          </a:cubicBezTo>
                          <a:cubicBezTo>
                            <a:pt x="196" y="163"/>
                            <a:pt x="196" y="162"/>
                            <a:pt x="196" y="160"/>
                          </a:cubicBezTo>
                          <a:cubicBezTo>
                            <a:pt x="202" y="158"/>
                            <a:pt x="209" y="157"/>
                            <a:pt x="216" y="155"/>
                          </a:cubicBezTo>
                          <a:cubicBezTo>
                            <a:pt x="217" y="154"/>
                            <a:pt x="218" y="154"/>
                            <a:pt x="219" y="154"/>
                          </a:cubicBezTo>
                          <a:cubicBezTo>
                            <a:pt x="225" y="152"/>
                            <a:pt x="229" y="150"/>
                            <a:pt x="232" y="146"/>
                          </a:cubicBezTo>
                          <a:cubicBezTo>
                            <a:pt x="235" y="141"/>
                            <a:pt x="237" y="135"/>
                            <a:pt x="237" y="124"/>
                          </a:cubicBezTo>
                          <a:lnTo>
                            <a:pt x="235" y="113"/>
                          </a:lnTo>
                          <a:close/>
                          <a:moveTo>
                            <a:pt x="193" y="75"/>
                          </a:moveTo>
                          <a:cubicBezTo>
                            <a:pt x="194" y="79"/>
                            <a:pt x="194" y="83"/>
                            <a:pt x="194" y="87"/>
                          </a:cubicBezTo>
                          <a:cubicBezTo>
                            <a:pt x="196" y="96"/>
                            <a:pt x="198" y="108"/>
                            <a:pt x="200" y="123"/>
                          </a:cubicBezTo>
                          <a:cubicBezTo>
                            <a:pt x="199" y="123"/>
                            <a:pt x="197" y="123"/>
                            <a:pt x="196" y="124"/>
                          </a:cubicBezTo>
                          <a:cubicBezTo>
                            <a:pt x="196" y="111"/>
                            <a:pt x="195" y="99"/>
                            <a:pt x="194" y="87"/>
                          </a:cubicBezTo>
                          <a:cubicBezTo>
                            <a:pt x="194" y="82"/>
                            <a:pt x="193" y="78"/>
                            <a:pt x="193" y="75"/>
                          </a:cubicBezTo>
                          <a:cubicBezTo>
                            <a:pt x="192" y="73"/>
                            <a:pt x="192" y="72"/>
                            <a:pt x="192" y="70"/>
                          </a:cubicBezTo>
                          <a:cubicBezTo>
                            <a:pt x="192" y="72"/>
                            <a:pt x="193" y="73"/>
                            <a:pt x="193" y="75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bdbdb"/>
                        </a:gs>
                        <a:gs pos="50000">
                          <a:srgbClr val="ffffff"/>
                        </a:gs>
                        <a:gs pos="100000">
                          <a:srgbClr val="dbdbdb"/>
                        </a:gs>
                      </a:gsLst>
                      <a:lin ang="1080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Freeform 390"/>
                    <p:cNvSpPr/>
                    <p:nvPr/>
                  </p:nvSpPr>
                  <p:spPr>
                    <a:xfrm>
                      <a:off x="4792680" y="4444200"/>
                      <a:ext cx="38520" cy="24120"/>
                    </a:xfrm>
                    <a:custGeom>
                      <a:avLst/>
                      <a:gdLst>
                        <a:gd name="textAreaLeft" fmla="*/ 0 w 38520"/>
                        <a:gd name="textAreaRight" fmla="*/ 38880 w 38520"/>
                        <a:gd name="textAreaTop" fmla="*/ 0 h 24120"/>
                        <a:gd name="textAreaBottom" fmla="*/ 24480 h 24120"/>
                      </a:gdLst>
                      <a:ahLst/>
                      <a:rect l="textAreaLeft" t="textAreaTop" r="textAreaRight" b="textAreaBottom"/>
                      <a:pathLst>
                        <a:path w="66" h="41">
                          <a:moveTo>
                            <a:pt x="30" y="39"/>
                          </a:moveTo>
                          <a:cubicBezTo>
                            <a:pt x="14" y="37"/>
                            <a:pt x="0" y="25"/>
                            <a:pt x="10" y="23"/>
                          </a:cubicBezTo>
                          <a:cubicBezTo>
                            <a:pt x="17" y="21"/>
                            <a:pt x="13" y="15"/>
                            <a:pt x="16" y="13"/>
                          </a:cubicBezTo>
                          <a:cubicBezTo>
                            <a:pt x="19" y="10"/>
                            <a:pt x="54" y="0"/>
                            <a:pt x="54" y="16"/>
                          </a:cubicBezTo>
                          <a:cubicBezTo>
                            <a:pt x="54" y="21"/>
                            <a:pt x="48" y="25"/>
                            <a:pt x="57" y="29"/>
                          </a:cubicBezTo>
                          <a:cubicBezTo>
                            <a:pt x="66" y="33"/>
                            <a:pt x="46" y="41"/>
                            <a:pt x="30" y="3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Freeform 391"/>
                    <p:cNvSpPr/>
                    <p:nvPr/>
                  </p:nvSpPr>
                  <p:spPr>
                    <a:xfrm>
                      <a:off x="4745160" y="4544280"/>
                      <a:ext cx="93240" cy="105840"/>
                    </a:xfrm>
                    <a:custGeom>
                      <a:avLst/>
                      <a:gdLst>
                        <a:gd name="textAreaLeft" fmla="*/ 0 w 93240"/>
                        <a:gd name="textAreaRight" fmla="*/ 93600 w 9324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159" h="180">
                          <a:moveTo>
                            <a:pt x="159" y="6"/>
                          </a:moveTo>
                          <a:cubicBezTo>
                            <a:pt x="156" y="17"/>
                            <a:pt x="140" y="23"/>
                            <a:pt x="132" y="21"/>
                          </a:cubicBezTo>
                          <a:cubicBezTo>
                            <a:pt x="124" y="20"/>
                            <a:pt x="94" y="14"/>
                            <a:pt x="81" y="11"/>
                          </a:cubicBezTo>
                          <a:cubicBezTo>
                            <a:pt x="75" y="10"/>
                            <a:pt x="73" y="5"/>
                            <a:pt x="72" y="0"/>
                          </a:cubicBezTo>
                          <a:cubicBezTo>
                            <a:pt x="72" y="19"/>
                            <a:pt x="72" y="18"/>
                            <a:pt x="68" y="19"/>
                          </a:cubicBezTo>
                          <a:cubicBezTo>
                            <a:pt x="68" y="19"/>
                            <a:pt x="28" y="28"/>
                            <a:pt x="17" y="32"/>
                          </a:cubicBezTo>
                          <a:cubicBezTo>
                            <a:pt x="7" y="36"/>
                            <a:pt x="2" y="42"/>
                            <a:pt x="1" y="55"/>
                          </a:cubicBezTo>
                          <a:cubicBezTo>
                            <a:pt x="1" y="55"/>
                            <a:pt x="0" y="135"/>
                            <a:pt x="1" y="145"/>
                          </a:cubicBezTo>
                          <a:cubicBezTo>
                            <a:pt x="2" y="163"/>
                            <a:pt x="25" y="165"/>
                            <a:pt x="36" y="156"/>
                          </a:cubicBezTo>
                          <a:cubicBezTo>
                            <a:pt x="39" y="153"/>
                            <a:pt x="43" y="149"/>
                            <a:pt x="43" y="145"/>
                          </a:cubicBezTo>
                          <a:cubicBezTo>
                            <a:pt x="42" y="130"/>
                            <a:pt x="42" y="102"/>
                            <a:pt x="42" y="73"/>
                          </a:cubicBezTo>
                          <a:cubicBezTo>
                            <a:pt x="42" y="73"/>
                            <a:pt x="42" y="73"/>
                            <a:pt x="42" y="73"/>
                          </a:cubicBezTo>
                          <a:cubicBezTo>
                            <a:pt x="42" y="73"/>
                            <a:pt x="42" y="72"/>
                            <a:pt x="42" y="72"/>
                          </a:cubicBezTo>
                          <a:cubicBezTo>
                            <a:pt x="42" y="70"/>
                            <a:pt x="42" y="68"/>
                            <a:pt x="42" y="66"/>
                          </a:cubicBezTo>
                          <a:cubicBezTo>
                            <a:pt x="42" y="65"/>
                            <a:pt x="42" y="65"/>
                            <a:pt x="42" y="64"/>
                          </a:cubicBezTo>
                          <a:cubicBezTo>
                            <a:pt x="42" y="64"/>
                            <a:pt x="42" y="63"/>
                            <a:pt x="42" y="63"/>
                          </a:cubicBezTo>
                          <a:cubicBezTo>
                            <a:pt x="43" y="50"/>
                            <a:pt x="48" y="44"/>
                            <a:pt x="59" y="41"/>
                          </a:cubicBezTo>
                          <a:cubicBezTo>
                            <a:pt x="68" y="37"/>
                            <a:pt x="101" y="30"/>
                            <a:pt x="103" y="30"/>
                          </a:cubicBezTo>
                          <a:cubicBezTo>
                            <a:pt x="107" y="28"/>
                            <a:pt x="107" y="28"/>
                            <a:pt x="103" y="30"/>
                          </a:cubicBezTo>
                          <a:cubicBezTo>
                            <a:pt x="101" y="30"/>
                            <a:pt x="68" y="37"/>
                            <a:pt x="59" y="41"/>
                          </a:cubicBezTo>
                          <a:cubicBezTo>
                            <a:pt x="48" y="44"/>
                            <a:pt x="43" y="50"/>
                            <a:pt x="42" y="63"/>
                          </a:cubicBezTo>
                          <a:cubicBezTo>
                            <a:pt x="42" y="64"/>
                            <a:pt x="42" y="70"/>
                            <a:pt x="42" y="71"/>
                          </a:cubicBezTo>
                          <a:cubicBezTo>
                            <a:pt x="42" y="71"/>
                            <a:pt x="42" y="71"/>
                            <a:pt x="42" y="72"/>
                          </a:cubicBezTo>
                          <a:cubicBezTo>
                            <a:pt x="42" y="72"/>
                            <a:pt x="42" y="74"/>
                            <a:pt x="42" y="77"/>
                          </a:cubicBezTo>
                          <a:cubicBezTo>
                            <a:pt x="42" y="77"/>
                            <a:pt x="42" y="77"/>
                            <a:pt x="42" y="77"/>
                          </a:cubicBezTo>
                          <a:cubicBezTo>
                            <a:pt x="43" y="154"/>
                            <a:pt x="43" y="154"/>
                            <a:pt x="43" y="154"/>
                          </a:cubicBezTo>
                          <a:cubicBezTo>
                            <a:pt x="42" y="154"/>
                            <a:pt x="43" y="154"/>
                            <a:pt x="43" y="154"/>
                          </a:cubicBezTo>
                          <a:cubicBezTo>
                            <a:pt x="43" y="155"/>
                            <a:pt x="43" y="156"/>
                            <a:pt x="43" y="157"/>
                          </a:cubicBezTo>
                          <a:cubicBezTo>
                            <a:pt x="44" y="180"/>
                            <a:pt x="84" y="177"/>
                            <a:pt x="84" y="157"/>
                          </a:cubicBezTo>
                          <a:cubicBezTo>
                            <a:pt x="84" y="142"/>
                            <a:pt x="85" y="80"/>
                            <a:pt x="85" y="77"/>
                          </a:cubicBezTo>
                          <a:cubicBezTo>
                            <a:pt x="85" y="74"/>
                            <a:pt x="87" y="70"/>
                            <a:pt x="89" y="69"/>
                          </a:cubicBezTo>
                          <a:cubicBezTo>
                            <a:pt x="91" y="69"/>
                            <a:pt x="136" y="57"/>
                            <a:pt x="141" y="55"/>
                          </a:cubicBezTo>
                          <a:cubicBezTo>
                            <a:pt x="153" y="52"/>
                            <a:pt x="159" y="47"/>
                            <a:pt x="159" y="25"/>
                          </a:cubicBezTo>
                          <a:cubicBezTo>
                            <a:pt x="159" y="8"/>
                            <a:pt x="159" y="8"/>
                            <a:pt x="159" y="8"/>
                          </a:cubicBezTo>
                          <a:cubicBezTo>
                            <a:pt x="159" y="7"/>
                            <a:pt x="159" y="7"/>
                            <a:pt x="159" y="6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bdbdb"/>
                        </a:gs>
                        <a:gs pos="50000">
                          <a:srgbClr val="ffffff"/>
                        </a:gs>
                        <a:gs pos="100000">
                          <a:srgbClr val="dbdbdb"/>
                        </a:gs>
                      </a:gsLst>
                      <a:lin ang="1080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Freeform 392"/>
                    <p:cNvSpPr/>
                    <p:nvPr/>
                  </p:nvSpPr>
                  <p:spPr>
                    <a:xfrm>
                      <a:off x="4797360" y="4523760"/>
                      <a:ext cx="52920" cy="31680"/>
                    </a:xfrm>
                    <a:custGeom>
                      <a:avLst/>
                      <a:gdLst>
                        <a:gd name="textAreaLeft" fmla="*/ 0 w 52920"/>
                        <a:gd name="textAreaRight" fmla="*/ 53280 w 52920"/>
                        <a:gd name="textAreaTop" fmla="*/ 0 h 31680"/>
                        <a:gd name="textAreaBottom" fmla="*/ 32040 h 31680"/>
                      </a:gdLst>
                      <a:ahLst/>
                      <a:rect l="textAreaLeft" t="textAreaTop" r="textAreaRight" b="textAreaBottom"/>
                      <a:pathLst>
                        <a:path w="91" h="54">
                          <a:moveTo>
                            <a:pt x="75" y="0"/>
                          </a:moveTo>
                          <a:cubicBezTo>
                            <a:pt x="61" y="4"/>
                            <a:pt x="45" y="8"/>
                            <a:pt x="28" y="14"/>
                          </a:cubicBezTo>
                          <a:cubicBezTo>
                            <a:pt x="0" y="22"/>
                            <a:pt x="17" y="54"/>
                            <a:pt x="40" y="46"/>
                          </a:cubicBezTo>
                          <a:cubicBezTo>
                            <a:pt x="44" y="44"/>
                            <a:pt x="66" y="38"/>
                            <a:pt x="91" y="32"/>
                          </a:cubicBezTo>
                        </a:path>
                      </a:pathLst>
                    </a:custGeom>
                    <a:noFill/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Oval 393"/>
                    <p:cNvSpPr/>
                    <p:nvPr/>
                  </p:nvSpPr>
                  <p:spPr>
                    <a:xfrm flipH="1">
                      <a:off x="4788360" y="4412520"/>
                      <a:ext cx="46800" cy="46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4512600" y="4501800"/>
                    <a:ext cx="387360" cy="206280"/>
                    <a:chOff x="4512600" y="4501800"/>
                    <a:chExt cx="387360" cy="206280"/>
                  </a:xfrm>
                </p:grpSpPr>
                <p:sp>
                  <p:nvSpPr>
                    <p:cNvPr id="606" name="Freeform 395"/>
                    <p:cNvSpPr/>
                    <p:nvPr/>
                  </p:nvSpPr>
                  <p:spPr>
                    <a:xfrm flipH="1">
                      <a:off x="4512960" y="4528440"/>
                      <a:ext cx="13680" cy="104760"/>
                    </a:xfrm>
                    <a:custGeom>
                      <a:avLst/>
                      <a:gdLst>
                        <a:gd name="textAreaLeft" fmla="*/ 360 w 13680"/>
                        <a:gd name="textAreaRight" fmla="*/ 14400 w 13680"/>
                        <a:gd name="textAreaTop" fmla="*/ 0 h 104760"/>
                        <a:gd name="textAreaBottom" fmla="*/ 105120 h 10476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3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6480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Freeform 396"/>
                    <p:cNvSpPr/>
                    <p:nvPr/>
                  </p:nvSpPr>
                  <p:spPr>
                    <a:xfrm flipH="1">
                      <a:off x="4526640" y="4528440"/>
                      <a:ext cx="14400" cy="104760"/>
                    </a:xfrm>
                    <a:custGeom>
                      <a:avLst/>
                      <a:gdLst>
                        <a:gd name="textAreaLeft" fmla="*/ 360 w 14400"/>
                        <a:gd name="textAreaRight" fmla="*/ 15120 w 14400"/>
                        <a:gd name="textAreaTop" fmla="*/ 0 h 104760"/>
                        <a:gd name="textAreaBottom" fmla="*/ 105120 h 10476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12" y="87"/>
                          </a:moveTo>
                          <a:lnTo>
                            <a:pt x="0" y="84"/>
                          </a:lnTo>
                          <a:lnTo>
                            <a:pt x="0" y="0"/>
                          </a:lnTo>
                          <a:lnTo>
                            <a:pt x="12" y="3"/>
                          </a:lnTo>
                          <a:lnTo>
                            <a:pt x="12" y="87"/>
                          </a:lnTo>
                          <a:close/>
                        </a:path>
                      </a:pathLst>
                    </a:custGeom>
                    <a:solidFill>
                      <a:srgbClr val="482400"/>
                    </a:solidFill>
                    <a:ln w="6480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Freeform 397"/>
                    <p:cNvSpPr/>
                    <p:nvPr/>
                  </p:nvSpPr>
                  <p:spPr>
                    <a:xfrm flipH="1">
                      <a:off x="4803120" y="4603320"/>
                      <a:ext cx="14760" cy="104760"/>
                    </a:xfrm>
                    <a:custGeom>
                      <a:avLst/>
                      <a:gdLst>
                        <a:gd name="textAreaLeft" fmla="*/ -360 w 14760"/>
                        <a:gd name="textAreaRight" fmla="*/ 14760 w 14760"/>
                        <a:gd name="textAreaTop" fmla="*/ 0 h 104760"/>
                        <a:gd name="textAreaBottom" fmla="*/ 105120 h 10476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12" y="87"/>
                          </a:moveTo>
                          <a:lnTo>
                            <a:pt x="0" y="84"/>
                          </a:lnTo>
                          <a:lnTo>
                            <a:pt x="0" y="0"/>
                          </a:lnTo>
                          <a:lnTo>
                            <a:pt x="12" y="4"/>
                          </a:lnTo>
                          <a:lnTo>
                            <a:pt x="12" y="87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6480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Freeform 398"/>
                    <p:cNvSpPr/>
                    <p:nvPr/>
                  </p:nvSpPr>
                  <p:spPr>
                    <a:xfrm flipH="1">
                      <a:off x="4789440" y="4603320"/>
                      <a:ext cx="13320" cy="104760"/>
                    </a:xfrm>
                    <a:custGeom>
                      <a:avLst/>
                      <a:gdLst>
                        <a:gd name="textAreaLeft" fmla="*/ -360 w 13320"/>
                        <a:gd name="textAreaRight" fmla="*/ 13320 w 13320"/>
                        <a:gd name="textAreaTop" fmla="*/ 0 h 104760"/>
                        <a:gd name="textAreaBottom" fmla="*/ 105120 h 10476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4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6480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Freeform 399"/>
                    <p:cNvSpPr/>
                    <p:nvPr/>
                  </p:nvSpPr>
                  <p:spPr>
                    <a:xfrm flipH="1">
                      <a:off x="4885560" y="4580640"/>
                      <a:ext cx="14400" cy="104760"/>
                    </a:xfrm>
                    <a:custGeom>
                      <a:avLst/>
                      <a:gdLst>
                        <a:gd name="textAreaLeft" fmla="*/ 360 w 14400"/>
                        <a:gd name="textAreaRight" fmla="*/ 15120 w 14400"/>
                        <a:gd name="textAreaTop" fmla="*/ 0 h 104760"/>
                        <a:gd name="textAreaBottom" fmla="*/ 105120 h 10476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12" y="87"/>
                          </a:moveTo>
                          <a:lnTo>
                            <a:pt x="0" y="84"/>
                          </a:lnTo>
                          <a:lnTo>
                            <a:pt x="0" y="0"/>
                          </a:lnTo>
                          <a:lnTo>
                            <a:pt x="12" y="3"/>
                          </a:lnTo>
                          <a:lnTo>
                            <a:pt x="12" y="87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6480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Freeform 400"/>
                    <p:cNvSpPr/>
                    <p:nvPr/>
                  </p:nvSpPr>
                  <p:spPr>
                    <a:xfrm flipH="1">
                      <a:off x="4871880" y="4580640"/>
                      <a:ext cx="13680" cy="104760"/>
                    </a:xfrm>
                    <a:custGeom>
                      <a:avLst/>
                      <a:gdLst>
                        <a:gd name="textAreaLeft" fmla="*/ 360 w 13680"/>
                        <a:gd name="textAreaRight" fmla="*/ 14400 w 13680"/>
                        <a:gd name="textAreaTop" fmla="*/ 0 h 104760"/>
                        <a:gd name="textAreaBottom" fmla="*/ 105120 h 10476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3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482400"/>
                    </a:solidFill>
                    <a:ln w="6480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Freeform 401"/>
                    <p:cNvSpPr/>
                    <p:nvPr/>
                  </p:nvSpPr>
                  <p:spPr>
                    <a:xfrm flipH="1">
                      <a:off x="4610520" y="4501800"/>
                      <a:ext cx="13320" cy="105840"/>
                    </a:xfrm>
                    <a:custGeom>
                      <a:avLst/>
                      <a:gdLst>
                        <a:gd name="textAreaLeft" fmla="*/ -360 w 13320"/>
                        <a:gd name="textAreaRight" fmla="*/ 13320 w 1332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3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Freeform 402"/>
                    <p:cNvSpPr/>
                    <p:nvPr/>
                  </p:nvSpPr>
                  <p:spPr>
                    <a:xfrm flipH="1">
                      <a:off x="4610520" y="4505400"/>
                      <a:ext cx="13320" cy="104760"/>
                    </a:xfrm>
                    <a:custGeom>
                      <a:avLst/>
                      <a:gdLst>
                        <a:gd name="textAreaLeft" fmla="*/ -360 w 13320"/>
                        <a:gd name="textAreaRight" fmla="*/ 13320 w 13320"/>
                        <a:gd name="textAreaTop" fmla="*/ 0 h 104760"/>
                        <a:gd name="textAreaBottom" fmla="*/ 105120 h 10476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12" y="87"/>
                          </a:moveTo>
                          <a:lnTo>
                            <a:pt x="0" y="84"/>
                          </a:lnTo>
                          <a:lnTo>
                            <a:pt x="0" y="0"/>
                          </a:lnTo>
                          <a:lnTo>
                            <a:pt x="12" y="4"/>
                          </a:lnTo>
                          <a:lnTo>
                            <a:pt x="12" y="87"/>
                          </a:lnTo>
                          <a:close/>
                        </a:path>
                      </a:pathLst>
                    </a:custGeom>
                    <a:solidFill>
                      <a:srgbClr val="482400"/>
                    </a:solidFill>
                    <a:ln w="6480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Freeform 403"/>
                    <p:cNvSpPr/>
                    <p:nvPr/>
                  </p:nvSpPr>
                  <p:spPr>
                    <a:xfrm flipH="1">
                      <a:off x="4595400" y="4505400"/>
                      <a:ext cx="14760" cy="104760"/>
                    </a:xfrm>
                    <a:custGeom>
                      <a:avLst/>
                      <a:gdLst>
                        <a:gd name="textAreaLeft" fmla="*/ -360 w 14760"/>
                        <a:gd name="textAreaRight" fmla="*/ 14760 w 14760"/>
                        <a:gd name="textAreaTop" fmla="*/ 0 h 104760"/>
                        <a:gd name="textAreaBottom" fmla="*/ 105120 h 104760"/>
                      </a:gdLst>
                      <a:ahLst/>
                      <a:rect l="textAreaLeft" t="textAreaTop" r="textAreaRight" b="textAreaBottom"/>
                      <a:pathLst>
                        <a:path w="12" h="87">
                          <a:moveTo>
                            <a:pt x="0" y="87"/>
                          </a:moveTo>
                          <a:lnTo>
                            <a:pt x="12" y="84"/>
                          </a:lnTo>
                          <a:lnTo>
                            <a:pt x="12" y="0"/>
                          </a:lnTo>
                          <a:lnTo>
                            <a:pt x="0" y="4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6480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Freeform 404"/>
                    <p:cNvSpPr/>
                    <p:nvPr/>
                  </p:nvSpPr>
                  <p:spPr>
                    <a:xfrm flipH="1">
                      <a:off x="4512600" y="4501800"/>
                      <a:ext cx="387360" cy="105840"/>
                    </a:xfrm>
                    <a:custGeom>
                      <a:avLst/>
                      <a:gdLst>
                        <a:gd name="textAreaLeft" fmla="*/ 360 w 387360"/>
                        <a:gd name="textAreaRight" fmla="*/ 388080 w 3873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321" h="87">
                          <a:moveTo>
                            <a:pt x="0" y="65"/>
                          </a:moveTo>
                          <a:lnTo>
                            <a:pt x="160" y="22"/>
                          </a:lnTo>
                          <a:lnTo>
                            <a:pt x="160" y="22"/>
                          </a:lnTo>
                          <a:lnTo>
                            <a:pt x="240" y="0"/>
                          </a:lnTo>
                          <a:lnTo>
                            <a:pt x="321" y="22"/>
                          </a:lnTo>
                          <a:lnTo>
                            <a:pt x="240" y="44"/>
                          </a:lnTo>
                          <a:lnTo>
                            <a:pt x="240" y="44"/>
                          </a:lnTo>
                          <a:lnTo>
                            <a:pt x="81" y="87"/>
                          </a:lnTo>
                          <a:lnTo>
                            <a:pt x="0" y="65"/>
                          </a:lnTo>
                          <a:close/>
                        </a:path>
                      </a:pathLst>
                    </a:custGeom>
                    <a:solidFill>
                      <a:srgbClr val="8e4700"/>
                    </a:solidFill>
                    <a:ln w="6480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Freeform 405"/>
                    <p:cNvSpPr/>
                    <p:nvPr/>
                  </p:nvSpPr>
                  <p:spPr>
                    <a:xfrm flipH="1">
                      <a:off x="4512240" y="4528440"/>
                      <a:ext cx="290520" cy="92520"/>
                    </a:xfrm>
                    <a:custGeom>
                      <a:avLst/>
                      <a:gdLst>
                        <a:gd name="textAreaLeft" fmla="*/ -360 w 290520"/>
                        <a:gd name="textAreaRight" fmla="*/ 290520 w 290520"/>
                        <a:gd name="textAreaTop" fmla="*/ 0 h 92520"/>
                        <a:gd name="textAreaBottom" fmla="*/ 92880 h 92520"/>
                      </a:gdLst>
                      <a:ahLst/>
                      <a:rect l="textAreaLeft" t="textAreaTop" r="textAreaRight" b="textAreaBottom"/>
                      <a:pathLst>
                        <a:path w="241" h="77">
                          <a:moveTo>
                            <a:pt x="0" y="65"/>
                          </a:moveTo>
                          <a:lnTo>
                            <a:pt x="0" y="77"/>
                          </a:lnTo>
                          <a:lnTo>
                            <a:pt x="241" y="12"/>
                          </a:lnTo>
                          <a:lnTo>
                            <a:pt x="241" y="0"/>
                          </a:lnTo>
                          <a:lnTo>
                            <a:pt x="0" y="65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6480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080" bIns="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Freeform 406"/>
                    <p:cNvSpPr/>
                    <p:nvPr/>
                  </p:nvSpPr>
                  <p:spPr>
                    <a:xfrm flipH="1">
                      <a:off x="4802760" y="4580640"/>
                      <a:ext cx="96840" cy="40320"/>
                    </a:xfrm>
                    <a:custGeom>
                      <a:avLst/>
                      <a:gdLst>
                        <a:gd name="textAreaLeft" fmla="*/ -360 w 96840"/>
                        <a:gd name="textAreaRight" fmla="*/ 96840 w 96840"/>
                        <a:gd name="textAreaTop" fmla="*/ 0 h 40320"/>
                        <a:gd name="textAreaBottom" fmla="*/ 40680 h 40320"/>
                      </a:gdLst>
                      <a:ahLst/>
                      <a:rect l="textAreaLeft" t="textAreaTop" r="textAreaRight" b="textAreaBottom"/>
                      <a:pathLst>
                        <a:path w="80" h="34">
                          <a:moveTo>
                            <a:pt x="0" y="0"/>
                          </a:moveTo>
                          <a:lnTo>
                            <a:pt x="0" y="13"/>
                          </a:lnTo>
                          <a:lnTo>
                            <a:pt x="80" y="34"/>
                          </a:lnTo>
                          <a:lnTo>
                            <a:pt x="80" y="2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63300"/>
                    </a:solidFill>
                    <a:ln w="6480">
                      <a:solidFill>
                        <a:srgbClr val="66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8" name=""/>
                  <p:cNvGrpSpPr/>
                  <p:nvPr/>
                </p:nvGrpSpPr>
                <p:grpSpPr>
                  <a:xfrm>
                    <a:off x="4649040" y="4492440"/>
                    <a:ext cx="120600" cy="80280"/>
                    <a:chOff x="4649040" y="4492440"/>
                    <a:chExt cx="120600" cy="80280"/>
                  </a:xfrm>
                </p:grpSpPr>
                <p:sp>
                  <p:nvSpPr>
                    <p:cNvPr id="619" name="Freeform 408"/>
                    <p:cNvSpPr/>
                    <p:nvPr/>
                  </p:nvSpPr>
                  <p:spPr>
                    <a:xfrm>
                      <a:off x="4649040" y="4535640"/>
                      <a:ext cx="120600" cy="32400"/>
                    </a:xfrm>
                    <a:custGeom>
                      <a:avLst/>
                      <a:gdLst>
                        <a:gd name="textAreaLeft" fmla="*/ 0 w 120600"/>
                        <a:gd name="textAreaRight" fmla="*/ 120960 w 120600"/>
                        <a:gd name="textAreaTop" fmla="*/ 0 h 32400"/>
                        <a:gd name="textAreaBottom" fmla="*/ 32760 h 32400"/>
                      </a:gdLst>
                      <a:ahLst/>
                      <a:rect l="textAreaLeft" t="textAreaTop" r="textAreaRight" b="textAreaBottom"/>
                      <a:pathLst>
                        <a:path w="25173" h="6756">
                          <a:moveTo>
                            <a:pt x="0" y="3378"/>
                          </a:moveTo>
                          <a:lnTo>
                            <a:pt x="12585" y="0"/>
                          </a:lnTo>
                          <a:lnTo>
                            <a:pt x="25173" y="3378"/>
                          </a:lnTo>
                          <a:lnTo>
                            <a:pt x="12585" y="6756"/>
                          </a:lnTo>
                          <a:lnTo>
                            <a:pt x="0" y="3378"/>
                          </a:ln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648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Freeform 409"/>
                    <p:cNvSpPr/>
                    <p:nvPr/>
                  </p:nvSpPr>
                  <p:spPr>
                    <a:xfrm>
                      <a:off x="4709160" y="4551840"/>
                      <a:ext cx="60120" cy="20520"/>
                    </a:xfrm>
                    <a:custGeom>
                      <a:avLst/>
                      <a:gdLst>
                        <a:gd name="textAreaLeft" fmla="*/ 0 w 60120"/>
                        <a:gd name="textAreaRight" fmla="*/ 60480 w 60120"/>
                        <a:gd name="textAreaTop" fmla="*/ 0 h 20520"/>
                        <a:gd name="textAreaBottom" fmla="*/ 20880 h 20520"/>
                      </a:gdLst>
                      <a:ahLst/>
                      <a:rect l="textAreaLeft" t="textAreaTop" r="textAreaRight" b="textAreaBottom"/>
                      <a:pathLst>
                        <a:path w="12588" h="4342">
                          <a:moveTo>
                            <a:pt x="0" y="3378"/>
                          </a:moveTo>
                          <a:lnTo>
                            <a:pt x="0" y="4342"/>
                          </a:lnTo>
                          <a:lnTo>
                            <a:pt x="12588" y="964"/>
                          </a:lnTo>
                          <a:lnTo>
                            <a:pt x="12588" y="0"/>
                          </a:lnTo>
                          <a:lnTo>
                            <a:pt x="0" y="3378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648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Freeform 410"/>
                    <p:cNvSpPr/>
                    <p:nvPr/>
                  </p:nvSpPr>
                  <p:spPr>
                    <a:xfrm>
                      <a:off x="4649040" y="4551840"/>
                      <a:ext cx="60120" cy="20520"/>
                    </a:xfrm>
                    <a:custGeom>
                      <a:avLst/>
                      <a:gdLst>
                        <a:gd name="textAreaLeft" fmla="*/ 0 w 60120"/>
                        <a:gd name="textAreaRight" fmla="*/ 60480 w 60120"/>
                        <a:gd name="textAreaTop" fmla="*/ 0 h 20520"/>
                        <a:gd name="textAreaBottom" fmla="*/ 20880 h 20520"/>
                      </a:gdLst>
                      <a:ahLst/>
                      <a:rect l="textAreaLeft" t="textAreaTop" r="textAreaRight" b="textAreaBottom"/>
                      <a:pathLst>
                        <a:path w="12585" h="4342">
                          <a:moveTo>
                            <a:pt x="12585" y="4342"/>
                          </a:moveTo>
                          <a:lnTo>
                            <a:pt x="0" y="964"/>
                          </a:lnTo>
                          <a:lnTo>
                            <a:pt x="0" y="0"/>
                          </a:lnTo>
                          <a:lnTo>
                            <a:pt x="12585" y="3378"/>
                          </a:lnTo>
                          <a:lnTo>
                            <a:pt x="12585" y="434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Freeform 411"/>
                    <p:cNvSpPr/>
                    <p:nvPr/>
                  </p:nvSpPr>
                  <p:spPr>
                    <a:xfrm>
                      <a:off x="4665960" y="4541040"/>
                      <a:ext cx="81720" cy="21960"/>
                    </a:xfrm>
                    <a:custGeom>
                      <a:avLst/>
                      <a:gdLst>
                        <a:gd name="textAreaLeft" fmla="*/ 0 w 81720"/>
                        <a:gd name="textAreaRight" fmla="*/ 82080 w 81720"/>
                        <a:gd name="textAreaTop" fmla="*/ 0 h 21960"/>
                        <a:gd name="textAreaBottom" fmla="*/ 22320 h 21960"/>
                      </a:gdLst>
                      <a:ahLst/>
                      <a:rect l="textAreaLeft" t="textAreaTop" r="textAreaRight" b="textAreaBottom"/>
                      <a:pathLst>
                        <a:path w="17020" h="4567">
                          <a:moveTo>
                            <a:pt x="0" y="1711"/>
                          </a:moveTo>
                          <a:lnTo>
                            <a:pt x="10647" y="4567"/>
                          </a:lnTo>
                          <a:lnTo>
                            <a:pt x="17020" y="2859"/>
                          </a:lnTo>
                          <a:lnTo>
                            <a:pt x="6371" y="0"/>
                          </a:lnTo>
                          <a:lnTo>
                            <a:pt x="0" y="1711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648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Freeform 412"/>
                    <p:cNvSpPr/>
                    <p:nvPr/>
                  </p:nvSpPr>
                  <p:spPr>
                    <a:xfrm>
                      <a:off x="4649040" y="4493520"/>
                      <a:ext cx="60120" cy="79200"/>
                    </a:xfrm>
                    <a:custGeom>
                      <a:avLst/>
                      <a:gdLst>
                        <a:gd name="textAreaLeft" fmla="*/ 0 w 60120"/>
                        <a:gd name="textAreaRight" fmla="*/ 60480 w 60120"/>
                        <a:gd name="textAreaTop" fmla="*/ 0 h 79200"/>
                        <a:gd name="textAreaBottom" fmla="*/ 79560 h 79200"/>
                      </a:gdLst>
                      <a:ahLst/>
                      <a:rect l="textAreaLeft" t="textAreaTop" r="textAreaRight" b="textAreaBottom"/>
                      <a:pathLst>
                        <a:path w="12585" h="16411">
                          <a:moveTo>
                            <a:pt x="0" y="0"/>
                          </a:moveTo>
                          <a:lnTo>
                            <a:pt x="0" y="13033"/>
                          </a:lnTo>
                          <a:lnTo>
                            <a:pt x="12585" y="16411"/>
                          </a:lnTo>
                          <a:lnTo>
                            <a:pt x="12585" y="337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648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Freeform 413"/>
                    <p:cNvSpPr/>
                    <p:nvPr/>
                  </p:nvSpPr>
                  <p:spPr>
                    <a:xfrm>
                      <a:off x="4709160" y="4508640"/>
                      <a:ext cx="4320" cy="64080"/>
                    </a:xfrm>
                    <a:custGeom>
                      <a:avLst/>
                      <a:gdLst>
                        <a:gd name="textAreaLeft" fmla="*/ 0 w 4320"/>
                        <a:gd name="textAreaRight" fmla="*/ 4680 w 4320"/>
                        <a:gd name="textAreaTop" fmla="*/ 0 h 64080"/>
                        <a:gd name="textAreaBottom" fmla="*/ 64440 h 64080"/>
                      </a:gdLst>
                      <a:ahLst/>
                      <a:rect l="textAreaLeft" t="textAreaTop" r="textAreaRight" b="textAreaBottom"/>
                      <a:pathLst>
                        <a:path w="971" h="13293">
                          <a:moveTo>
                            <a:pt x="0" y="13293"/>
                          </a:moveTo>
                          <a:lnTo>
                            <a:pt x="971" y="13030"/>
                          </a:lnTo>
                          <a:lnTo>
                            <a:pt x="971" y="0"/>
                          </a:lnTo>
                          <a:lnTo>
                            <a:pt x="0" y="260"/>
                          </a:lnTo>
                          <a:lnTo>
                            <a:pt x="0" y="13293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648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Freeform 414"/>
                    <p:cNvSpPr/>
                    <p:nvPr/>
                  </p:nvSpPr>
                  <p:spPr>
                    <a:xfrm>
                      <a:off x="4649040" y="4492440"/>
                      <a:ext cx="64800" cy="17280"/>
                    </a:xfrm>
                    <a:custGeom>
                      <a:avLst/>
                      <a:gdLst>
                        <a:gd name="textAreaLeft" fmla="*/ 0 w 64800"/>
                        <a:gd name="textAreaRight" fmla="*/ 65160 w 64800"/>
                        <a:gd name="textAreaTop" fmla="*/ 0 h 17280"/>
                        <a:gd name="textAreaBottom" fmla="*/ 17640 h 17280"/>
                      </a:gdLst>
                      <a:ahLst/>
                      <a:rect l="textAreaLeft" t="textAreaTop" r="textAreaRight" b="textAreaBottom"/>
                      <a:pathLst>
                        <a:path w="13556" h="3638">
                          <a:moveTo>
                            <a:pt x="13556" y="3378"/>
                          </a:moveTo>
                          <a:lnTo>
                            <a:pt x="12585" y="3638"/>
                          </a:lnTo>
                          <a:lnTo>
                            <a:pt x="0" y="260"/>
                          </a:lnTo>
                          <a:lnTo>
                            <a:pt x="971" y="0"/>
                          </a:lnTo>
                          <a:lnTo>
                            <a:pt x="13556" y="337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648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626" name=""/>
            <p:cNvGrpSpPr/>
            <p:nvPr/>
          </p:nvGrpSpPr>
          <p:grpSpPr>
            <a:xfrm>
              <a:off x="3706920" y="4771800"/>
              <a:ext cx="505800" cy="151560"/>
              <a:chOff x="3706920" y="4771800"/>
              <a:chExt cx="505800" cy="151560"/>
            </a:xfrm>
          </p:grpSpPr>
          <p:sp>
            <p:nvSpPr>
              <p:cNvPr id="627" name="Freeform 416"/>
              <p:cNvSpPr/>
              <p:nvPr/>
            </p:nvSpPr>
            <p:spPr>
              <a:xfrm>
                <a:off x="3851640" y="4771800"/>
                <a:ext cx="71640" cy="3492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6" h="217">
                    <a:moveTo>
                      <a:pt x="0" y="0"/>
                    </a:moveTo>
                    <a:lnTo>
                      <a:pt x="0" y="97"/>
                    </a:lnTo>
                    <a:lnTo>
                      <a:pt x="446" y="217"/>
                    </a:lnTo>
                    <a:lnTo>
                      <a:pt x="446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17"/>
              <p:cNvSpPr/>
              <p:nvPr/>
            </p:nvSpPr>
            <p:spPr>
              <a:xfrm>
                <a:off x="3706920" y="4771800"/>
                <a:ext cx="505800" cy="136080"/>
              </a:xfrm>
              <a:custGeom>
                <a:avLst/>
                <a:gdLst>
                  <a:gd name="textAreaLeft" fmla="*/ 0 w 505800"/>
                  <a:gd name="textAreaRight" fmla="*/ 506160 w 5058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3137" h="843">
                    <a:moveTo>
                      <a:pt x="2887" y="54"/>
                    </a:moveTo>
                    <a:lnTo>
                      <a:pt x="898" y="0"/>
                    </a:lnTo>
                    <a:lnTo>
                      <a:pt x="1344" y="120"/>
                    </a:lnTo>
                    <a:lnTo>
                      <a:pt x="0" y="482"/>
                    </a:lnTo>
                    <a:lnTo>
                      <a:pt x="1344" y="843"/>
                    </a:lnTo>
                    <a:lnTo>
                      <a:pt x="2688" y="482"/>
                    </a:lnTo>
                    <a:lnTo>
                      <a:pt x="3137" y="602"/>
                    </a:lnTo>
                    <a:lnTo>
                      <a:pt x="2887" y="54"/>
                    </a:lnTo>
                    <a:close/>
                  </a:path>
                </a:pathLst>
              </a:custGeom>
              <a:solidFill>
                <a:srgbClr val="333333"/>
              </a:soli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18"/>
              <p:cNvSpPr/>
              <p:nvPr/>
            </p:nvSpPr>
            <p:spPr>
              <a:xfrm>
                <a:off x="3706920" y="4849560"/>
                <a:ext cx="216720" cy="73800"/>
              </a:xfrm>
              <a:custGeom>
                <a:avLst/>
                <a:gdLst>
                  <a:gd name="textAreaLeft" fmla="*/ 0 w 216720"/>
                  <a:gd name="textAreaRight" fmla="*/ 217080 w 21672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1344" h="458">
                    <a:moveTo>
                      <a:pt x="0" y="0"/>
                    </a:moveTo>
                    <a:lnTo>
                      <a:pt x="0" y="97"/>
                    </a:lnTo>
                    <a:lnTo>
                      <a:pt x="1344" y="458"/>
                    </a:lnTo>
                    <a:lnTo>
                      <a:pt x="1344" y="3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19"/>
              <p:cNvSpPr/>
              <p:nvPr/>
            </p:nvSpPr>
            <p:spPr>
              <a:xfrm>
                <a:off x="4140360" y="4849560"/>
                <a:ext cx="72360" cy="3492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9" h="217">
                    <a:moveTo>
                      <a:pt x="0" y="0"/>
                    </a:moveTo>
                    <a:lnTo>
                      <a:pt x="0" y="97"/>
                    </a:lnTo>
                    <a:lnTo>
                      <a:pt x="449" y="217"/>
                    </a:lnTo>
                    <a:lnTo>
                      <a:pt x="449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20"/>
              <p:cNvSpPr/>
              <p:nvPr/>
            </p:nvSpPr>
            <p:spPr>
              <a:xfrm>
                <a:off x="3923640" y="4849560"/>
                <a:ext cx="216720" cy="73800"/>
              </a:xfrm>
              <a:custGeom>
                <a:avLst/>
                <a:gdLst>
                  <a:gd name="textAreaLeft" fmla="*/ 0 w 216720"/>
                  <a:gd name="textAreaRight" fmla="*/ 217080 w 21672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1344" h="458">
                    <a:moveTo>
                      <a:pt x="0" y="458"/>
                    </a:moveTo>
                    <a:lnTo>
                      <a:pt x="0" y="361"/>
                    </a:lnTo>
                    <a:lnTo>
                      <a:pt x="1344" y="0"/>
                    </a:lnTo>
                    <a:lnTo>
                      <a:pt x="1344" y="97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rgbClr val="333333"/>
              </a:soli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3822120" y="3402000"/>
              <a:ext cx="1863000" cy="749520"/>
              <a:chOff x="3822120" y="3402000"/>
              <a:chExt cx="1863000" cy="749520"/>
            </a:xfrm>
          </p:grpSpPr>
          <p:sp>
            <p:nvSpPr>
              <p:cNvPr id="633" name="Freeform 422"/>
              <p:cNvSpPr/>
              <p:nvPr/>
            </p:nvSpPr>
            <p:spPr>
              <a:xfrm>
                <a:off x="3822120" y="3683880"/>
                <a:ext cx="1747800" cy="467640"/>
              </a:xfrm>
              <a:custGeom>
                <a:avLst/>
                <a:gdLst>
                  <a:gd name="textAreaLeft" fmla="*/ 0 w 1747800"/>
                  <a:gd name="textAreaRight" fmla="*/ 1748160 w 1747800"/>
                  <a:gd name="textAreaTop" fmla="*/ 0 h 467640"/>
                  <a:gd name="textAreaBottom" fmla="*/ 468000 h 467640"/>
                </a:gdLst>
                <a:ahLst/>
                <a:rect l="textAreaLeft" t="textAreaTop" r="textAreaRight" b="textAreaBottom"/>
                <a:pathLst>
                  <a:path w="161" h="44">
                    <a:moveTo>
                      <a:pt x="0" y="22"/>
                    </a:moveTo>
                    <a:lnTo>
                      <a:pt x="81" y="0"/>
                    </a:lnTo>
                    <a:lnTo>
                      <a:pt x="161" y="22"/>
                    </a:lnTo>
                    <a:lnTo>
                      <a:pt x="81" y="44"/>
                    </a:lnTo>
                    <a:lnTo>
                      <a:pt x="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caca"/>
                  </a:gs>
                  <a:gs pos="100000">
                    <a:srgbClr val="b2b2b2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  <a:effectLst>
                <a:outerShdw dist="12600" dir="54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4723560" y="3634920"/>
                <a:ext cx="151200" cy="280440"/>
                <a:chOff x="4723560" y="3634920"/>
                <a:chExt cx="151200" cy="280440"/>
              </a:xfrm>
            </p:grpSpPr>
            <p:grpSp>
              <p:nvGrpSpPr>
                <p:cNvPr id="635" name=""/>
                <p:cNvGrpSpPr/>
                <p:nvPr/>
              </p:nvGrpSpPr>
              <p:grpSpPr>
                <a:xfrm>
                  <a:off x="4759200" y="3674160"/>
                  <a:ext cx="115560" cy="90000"/>
                  <a:chOff x="4759200" y="3674160"/>
                  <a:chExt cx="115560" cy="90000"/>
                </a:xfrm>
              </p:grpSpPr>
              <p:sp>
                <p:nvSpPr>
                  <p:cNvPr id="636" name="Freeform 425"/>
                  <p:cNvSpPr/>
                  <p:nvPr/>
                </p:nvSpPr>
                <p:spPr>
                  <a:xfrm flipH="1">
                    <a:off x="4758840" y="3674160"/>
                    <a:ext cx="115560" cy="30960"/>
                  </a:xfrm>
                  <a:custGeom>
                    <a:avLst/>
                    <a:gdLst>
                      <a:gd name="textAreaLeft" fmla="*/ -360 w 115560"/>
                      <a:gd name="textAreaRight" fmla="*/ 115560 w 115560"/>
                      <a:gd name="textAreaTop" fmla="*/ 0 h 30960"/>
                      <a:gd name="textAreaBottom" fmla="*/ 31320 h 3096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3"/>
                        </a:moveTo>
                        <a:lnTo>
                          <a:pt x="451" y="0"/>
                        </a:lnTo>
                        <a:lnTo>
                          <a:pt x="904" y="123"/>
                        </a:lnTo>
                        <a:lnTo>
                          <a:pt x="451" y="244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Freeform 426"/>
                  <p:cNvSpPr/>
                  <p:nvPr/>
                </p:nvSpPr>
                <p:spPr>
                  <a:xfrm flipH="1">
                    <a:off x="4758840" y="3689640"/>
                    <a:ext cx="57960" cy="74520"/>
                  </a:xfrm>
                  <a:custGeom>
                    <a:avLst/>
                    <a:gdLst>
                      <a:gd name="textAreaLeft" fmla="*/ -360 w 57960"/>
                      <a:gd name="textAreaRight" fmla="*/ 57960 w 5796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3" h="589">
                        <a:moveTo>
                          <a:pt x="0" y="589"/>
                        </a:moveTo>
                        <a:lnTo>
                          <a:pt x="0" y="121"/>
                        </a:lnTo>
                        <a:lnTo>
                          <a:pt x="453" y="0"/>
                        </a:lnTo>
                        <a:lnTo>
                          <a:pt x="453" y="468"/>
                        </a:lnTo>
                        <a:lnTo>
                          <a:pt x="0" y="589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Freeform 427"/>
                  <p:cNvSpPr/>
                  <p:nvPr/>
                </p:nvSpPr>
                <p:spPr>
                  <a:xfrm flipH="1">
                    <a:off x="4817160" y="3689640"/>
                    <a:ext cx="57600" cy="74520"/>
                  </a:xfrm>
                  <a:custGeom>
                    <a:avLst/>
                    <a:gdLst>
                      <a:gd name="textAreaLeft" fmla="*/ 360 w 57600"/>
                      <a:gd name="textAreaRight" fmla="*/ 58320 w 5760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1" h="589">
                        <a:moveTo>
                          <a:pt x="0" y="0"/>
                        </a:moveTo>
                        <a:lnTo>
                          <a:pt x="0" y="468"/>
                        </a:lnTo>
                        <a:lnTo>
                          <a:pt x="451" y="589"/>
                        </a:lnTo>
                        <a:lnTo>
                          <a:pt x="451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"/>
                <p:cNvGrpSpPr/>
                <p:nvPr/>
              </p:nvGrpSpPr>
              <p:grpSpPr>
                <a:xfrm>
                  <a:off x="4723560" y="3635280"/>
                  <a:ext cx="135000" cy="280080"/>
                  <a:chOff x="4723560" y="3635280"/>
                  <a:chExt cx="135000" cy="280080"/>
                </a:xfrm>
              </p:grpSpPr>
              <p:sp>
                <p:nvSpPr>
                  <p:cNvPr id="640" name="Freeform 429"/>
                  <p:cNvSpPr/>
                  <p:nvPr/>
                </p:nvSpPr>
                <p:spPr>
                  <a:xfrm>
                    <a:off x="4723560" y="3672000"/>
                    <a:ext cx="135000" cy="11376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226" h="191">
                        <a:moveTo>
                          <a:pt x="186" y="107"/>
                        </a:moveTo>
                        <a:cubicBezTo>
                          <a:pt x="184" y="108"/>
                          <a:pt x="175" y="110"/>
                          <a:pt x="164" y="113"/>
                        </a:cubicBezTo>
                        <a:cubicBezTo>
                          <a:pt x="159" y="84"/>
                          <a:pt x="155" y="57"/>
                          <a:pt x="154" y="49"/>
                        </a:cubicBezTo>
                        <a:cubicBezTo>
                          <a:pt x="151" y="32"/>
                          <a:pt x="136" y="27"/>
                          <a:pt x="128" y="24"/>
                        </a:cubicBezTo>
                        <a:cubicBezTo>
                          <a:pt x="120" y="21"/>
                          <a:pt x="98" y="16"/>
                          <a:pt x="85" y="13"/>
                        </a:cubicBezTo>
                        <a:cubicBezTo>
                          <a:pt x="73" y="9"/>
                          <a:pt x="54" y="3"/>
                          <a:pt x="45" y="2"/>
                        </a:cubicBezTo>
                        <a:cubicBezTo>
                          <a:pt x="36" y="0"/>
                          <a:pt x="18" y="4"/>
                          <a:pt x="15" y="12"/>
                        </a:cubicBezTo>
                        <a:cubicBezTo>
                          <a:pt x="14" y="14"/>
                          <a:pt x="8" y="50"/>
                          <a:pt x="2" y="85"/>
                        </a:cubicBezTo>
                        <a:cubicBezTo>
                          <a:pt x="2" y="85"/>
                          <a:pt x="2" y="85"/>
                          <a:pt x="2" y="85"/>
                        </a:cubicBezTo>
                        <a:cubicBezTo>
                          <a:pt x="1" y="89"/>
                          <a:pt x="1" y="89"/>
                          <a:pt x="1" y="89"/>
                        </a:cubicBezTo>
                        <a:cubicBezTo>
                          <a:pt x="1" y="89"/>
                          <a:pt x="1" y="89"/>
                          <a:pt x="1" y="89"/>
                        </a:cubicBezTo>
                        <a:cubicBezTo>
                          <a:pt x="0" y="98"/>
                          <a:pt x="3" y="104"/>
                          <a:pt x="8" y="106"/>
                        </a:cubicBezTo>
                        <a:cubicBezTo>
                          <a:pt x="12" y="108"/>
                          <a:pt x="17" y="107"/>
                          <a:pt x="23" y="106"/>
                        </a:cubicBezTo>
                        <a:cubicBezTo>
                          <a:pt x="29" y="105"/>
                          <a:pt x="29" y="105"/>
                          <a:pt x="29" y="105"/>
                        </a:cubicBezTo>
                        <a:cubicBezTo>
                          <a:pt x="29" y="105"/>
                          <a:pt x="29" y="105"/>
                          <a:pt x="29" y="105"/>
                        </a:cubicBezTo>
                        <a:cubicBezTo>
                          <a:pt x="30" y="104"/>
                          <a:pt x="31" y="104"/>
                          <a:pt x="32" y="104"/>
                        </a:cubicBezTo>
                        <a:cubicBezTo>
                          <a:pt x="34" y="103"/>
                          <a:pt x="36" y="103"/>
                          <a:pt x="38" y="102"/>
                        </a:cubicBezTo>
                        <a:cubicBezTo>
                          <a:pt x="39" y="68"/>
                          <a:pt x="39" y="68"/>
                          <a:pt x="39" y="68"/>
                        </a:cubicBezTo>
                        <a:cubicBezTo>
                          <a:pt x="38" y="68"/>
                          <a:pt x="37" y="69"/>
                          <a:pt x="36" y="69"/>
                        </a:cubicBezTo>
                        <a:cubicBezTo>
                          <a:pt x="38" y="54"/>
                          <a:pt x="39" y="44"/>
                          <a:pt x="39" y="47"/>
                        </a:cubicBezTo>
                        <a:cubicBezTo>
                          <a:pt x="39" y="53"/>
                          <a:pt x="38" y="122"/>
                          <a:pt x="38" y="165"/>
                        </a:cubicBezTo>
                        <a:cubicBezTo>
                          <a:pt x="39" y="170"/>
                          <a:pt x="41" y="175"/>
                          <a:pt x="47" y="175"/>
                        </a:cubicBezTo>
                        <a:cubicBezTo>
                          <a:pt x="59" y="178"/>
                          <a:pt x="91" y="188"/>
                          <a:pt x="98" y="189"/>
                        </a:cubicBezTo>
                        <a:cubicBezTo>
                          <a:pt x="106" y="191"/>
                          <a:pt x="122" y="181"/>
                          <a:pt x="125" y="170"/>
                        </a:cubicBezTo>
                        <a:cubicBezTo>
                          <a:pt x="125" y="168"/>
                          <a:pt x="125" y="155"/>
                          <a:pt x="125" y="153"/>
                        </a:cubicBezTo>
                        <a:cubicBezTo>
                          <a:pt x="125" y="124"/>
                          <a:pt x="125" y="124"/>
                          <a:pt x="125" y="124"/>
                        </a:cubicBezTo>
                        <a:cubicBezTo>
                          <a:pt x="125" y="111"/>
                          <a:pt x="124" y="99"/>
                          <a:pt x="123" y="88"/>
                        </a:cubicBezTo>
                        <a:cubicBezTo>
                          <a:pt x="122" y="82"/>
                          <a:pt x="122" y="78"/>
                          <a:pt x="121" y="75"/>
                        </a:cubicBezTo>
                        <a:cubicBezTo>
                          <a:pt x="121" y="73"/>
                          <a:pt x="121" y="72"/>
                          <a:pt x="121" y="71"/>
                        </a:cubicBezTo>
                        <a:cubicBezTo>
                          <a:pt x="121" y="72"/>
                          <a:pt x="121" y="73"/>
                          <a:pt x="121" y="75"/>
                        </a:cubicBezTo>
                        <a:cubicBezTo>
                          <a:pt x="122" y="79"/>
                          <a:pt x="123" y="83"/>
                          <a:pt x="123" y="88"/>
                        </a:cubicBezTo>
                        <a:cubicBezTo>
                          <a:pt x="124" y="96"/>
                          <a:pt x="126" y="107"/>
                          <a:pt x="128" y="121"/>
                        </a:cubicBezTo>
                        <a:cubicBezTo>
                          <a:pt x="129" y="122"/>
                          <a:pt x="129" y="122"/>
                          <a:pt x="129" y="123"/>
                        </a:cubicBezTo>
                        <a:cubicBezTo>
                          <a:pt x="129" y="123"/>
                          <a:pt x="129" y="123"/>
                          <a:pt x="129" y="123"/>
                        </a:cubicBezTo>
                        <a:cubicBezTo>
                          <a:pt x="129" y="127"/>
                          <a:pt x="129" y="127"/>
                          <a:pt x="129" y="127"/>
                        </a:cubicBezTo>
                        <a:cubicBezTo>
                          <a:pt x="131" y="137"/>
                          <a:pt x="134" y="143"/>
                          <a:pt x="137" y="147"/>
                        </a:cubicBezTo>
                        <a:cubicBezTo>
                          <a:pt x="141" y="151"/>
                          <a:pt x="145" y="152"/>
                          <a:pt x="151" y="153"/>
                        </a:cubicBezTo>
                        <a:cubicBezTo>
                          <a:pt x="166" y="149"/>
                          <a:pt x="181" y="144"/>
                          <a:pt x="199" y="139"/>
                        </a:cubicBezTo>
                        <a:cubicBezTo>
                          <a:pt x="226" y="131"/>
                          <a:pt x="210" y="99"/>
                          <a:pt x="186" y="1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3582c"/>
                      </a:gs>
                      <a:gs pos="50000">
                        <a:srgbClr val="996633"/>
                      </a:gs>
                      <a:gs pos="100000">
                        <a:srgbClr val="83582c"/>
                      </a:gs>
                    </a:gsLst>
                    <a:lin ang="108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Freeform 430"/>
                  <p:cNvSpPr/>
                  <p:nvPr/>
                </p:nvSpPr>
                <p:spPr>
                  <a:xfrm>
                    <a:off x="4753800" y="3666240"/>
                    <a:ext cx="35640" cy="21240"/>
                  </a:xfrm>
                  <a:custGeom>
                    <a:avLst/>
                    <a:gdLst>
                      <a:gd name="textAreaLeft" fmla="*/ 0 w 35640"/>
                      <a:gd name="textAreaRight" fmla="*/ 36000 w 35640"/>
                      <a:gd name="textAreaTop" fmla="*/ 0 h 21240"/>
                      <a:gd name="textAreaBottom" fmla="*/ 21600 h 21240"/>
                    </a:gdLst>
                    <a:ahLst/>
                    <a:rect l="textAreaLeft" t="textAreaTop" r="textAreaRight" b="textAreaBottom"/>
                    <a:pathLst>
                      <a:path w="60" h="36">
                        <a:moveTo>
                          <a:pt x="27" y="34"/>
                        </a:moveTo>
                        <a:cubicBezTo>
                          <a:pt x="13" y="33"/>
                          <a:pt x="0" y="22"/>
                          <a:pt x="9" y="20"/>
                        </a:cubicBezTo>
                        <a:cubicBezTo>
                          <a:pt x="15" y="19"/>
                          <a:pt x="12" y="13"/>
                          <a:pt x="14" y="11"/>
                        </a:cubicBezTo>
                        <a:cubicBezTo>
                          <a:pt x="17" y="8"/>
                          <a:pt x="48" y="0"/>
                          <a:pt x="48" y="14"/>
                        </a:cubicBezTo>
                        <a:cubicBezTo>
                          <a:pt x="48" y="18"/>
                          <a:pt x="43" y="22"/>
                          <a:pt x="51" y="26"/>
                        </a:cubicBezTo>
                        <a:cubicBezTo>
                          <a:pt x="60" y="29"/>
                          <a:pt x="41" y="36"/>
                          <a:pt x="27" y="34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Freeform 431"/>
                  <p:cNvSpPr/>
                  <p:nvPr/>
                </p:nvSpPr>
                <p:spPr>
                  <a:xfrm>
                    <a:off x="4744080" y="3769560"/>
                    <a:ext cx="54000" cy="14580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145800"/>
                      <a:gd name="textAreaBottom" fmla="*/ 146160 h 145800"/>
                    </a:gdLst>
                    <a:ahLst/>
                    <a:rect l="textAreaLeft" t="textAreaTop" r="textAreaRight" b="textAreaBottom"/>
                    <a:pathLst>
                      <a:path w="90" h="245">
                        <a:moveTo>
                          <a:pt x="89" y="156"/>
                        </a:moveTo>
                        <a:cubicBezTo>
                          <a:pt x="89" y="141"/>
                          <a:pt x="90" y="47"/>
                          <a:pt x="89" y="7"/>
                        </a:cubicBezTo>
                        <a:cubicBezTo>
                          <a:pt x="89" y="6"/>
                          <a:pt x="89" y="6"/>
                          <a:pt x="89" y="5"/>
                        </a:cubicBezTo>
                        <a:cubicBezTo>
                          <a:pt x="87" y="16"/>
                          <a:pt x="71" y="22"/>
                          <a:pt x="63" y="20"/>
                        </a:cubicBezTo>
                        <a:cubicBezTo>
                          <a:pt x="55" y="20"/>
                          <a:pt x="24" y="13"/>
                          <a:pt x="12" y="10"/>
                        </a:cubicBezTo>
                        <a:cubicBezTo>
                          <a:pt x="6" y="10"/>
                          <a:pt x="4" y="5"/>
                          <a:pt x="2" y="0"/>
                        </a:cubicBezTo>
                        <a:cubicBezTo>
                          <a:pt x="2" y="18"/>
                          <a:pt x="3" y="32"/>
                          <a:pt x="3" y="36"/>
                        </a:cubicBezTo>
                        <a:cubicBezTo>
                          <a:pt x="3" y="49"/>
                          <a:pt x="0" y="181"/>
                          <a:pt x="2" y="205"/>
                        </a:cubicBezTo>
                        <a:cubicBezTo>
                          <a:pt x="3" y="228"/>
                          <a:pt x="43" y="225"/>
                          <a:pt x="43" y="205"/>
                        </a:cubicBezTo>
                        <a:cubicBezTo>
                          <a:pt x="43" y="171"/>
                          <a:pt x="46" y="55"/>
                          <a:pt x="45" y="51"/>
                        </a:cubicBezTo>
                        <a:cubicBezTo>
                          <a:pt x="45" y="47"/>
                          <a:pt x="36" y="47"/>
                          <a:pt x="36" y="40"/>
                        </a:cubicBezTo>
                        <a:cubicBezTo>
                          <a:pt x="36" y="47"/>
                          <a:pt x="45" y="47"/>
                          <a:pt x="45" y="51"/>
                        </a:cubicBezTo>
                        <a:cubicBezTo>
                          <a:pt x="46" y="55"/>
                          <a:pt x="43" y="171"/>
                          <a:pt x="43" y="205"/>
                        </a:cubicBezTo>
                        <a:cubicBezTo>
                          <a:pt x="43" y="207"/>
                          <a:pt x="44" y="211"/>
                          <a:pt x="44" y="211"/>
                        </a:cubicBezTo>
                        <a:cubicBezTo>
                          <a:pt x="46" y="245"/>
                          <a:pt x="87" y="235"/>
                          <a:pt x="88" y="218"/>
                        </a:cubicBezTo>
                        <a:cubicBezTo>
                          <a:pt x="90" y="201"/>
                          <a:pt x="88" y="171"/>
                          <a:pt x="89" y="15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3582c"/>
                      </a:gs>
                      <a:gs pos="50000">
                        <a:srgbClr val="996633"/>
                      </a:gs>
                      <a:gs pos="100000">
                        <a:srgbClr val="83582c"/>
                      </a:gs>
                    </a:gsLst>
                    <a:lin ang="108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Oval 432"/>
                  <p:cNvSpPr/>
                  <p:nvPr/>
                </p:nvSpPr>
                <p:spPr>
                  <a:xfrm flipH="1">
                    <a:off x="4747680" y="3635280"/>
                    <a:ext cx="47160" cy="47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4" name=""/>
                <p:cNvGrpSpPr/>
                <p:nvPr/>
              </p:nvGrpSpPr>
              <p:grpSpPr>
                <a:xfrm>
                  <a:off x="4747680" y="3634920"/>
                  <a:ext cx="57600" cy="30600"/>
                  <a:chOff x="4747680" y="3634920"/>
                  <a:chExt cx="57600" cy="30600"/>
                </a:xfrm>
              </p:grpSpPr>
              <p:sp>
                <p:nvSpPr>
                  <p:cNvPr id="645" name="Freeform 434"/>
                  <p:cNvSpPr/>
                  <p:nvPr/>
                </p:nvSpPr>
                <p:spPr>
                  <a:xfrm>
                    <a:off x="4788000" y="3638520"/>
                    <a:ext cx="17280" cy="1368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3680"/>
                      <a:gd name="textAreaBottom" fmla="*/ 14040 h 13680"/>
                    </a:gdLst>
                    <a:ahLst/>
                    <a:rect l="textAreaLeft" t="textAreaTop" r="textAreaRight" b="textAreaBottom"/>
                    <a:pathLst>
                      <a:path w="28" h="22">
                        <a:moveTo>
                          <a:pt x="12" y="22"/>
                        </a:moveTo>
                        <a:cubicBezTo>
                          <a:pt x="12" y="22"/>
                          <a:pt x="12" y="22"/>
                          <a:pt x="12" y="22"/>
                        </a:cubicBezTo>
                        <a:cubicBezTo>
                          <a:pt x="17" y="21"/>
                          <a:pt x="28" y="13"/>
                          <a:pt x="21" y="5"/>
                        </a:cubicBezTo>
                        <a:cubicBezTo>
                          <a:pt x="15" y="0"/>
                          <a:pt x="4" y="3"/>
                          <a:pt x="0" y="4"/>
                        </a:cubicBezTo>
                        <a:cubicBezTo>
                          <a:pt x="0" y="4"/>
                          <a:pt x="10" y="15"/>
                          <a:pt x="12" y="2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3582c"/>
                      </a:gs>
                      <a:gs pos="50000">
                        <a:srgbClr val="996633"/>
                      </a:gs>
                      <a:gs pos="100000">
                        <a:srgbClr val="83582c"/>
                      </a:gs>
                    </a:gsLst>
                    <a:lin ang="108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Freeform 435"/>
                  <p:cNvSpPr/>
                  <p:nvPr/>
                </p:nvSpPr>
                <p:spPr>
                  <a:xfrm>
                    <a:off x="4747680" y="3634920"/>
                    <a:ext cx="47880" cy="30600"/>
                  </a:xfrm>
                  <a:custGeom>
                    <a:avLst/>
                    <a:gdLst>
                      <a:gd name="textAreaLeft" fmla="*/ 0 w 47880"/>
                      <a:gd name="textAreaRight" fmla="*/ 48240 w 4788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77" h="49">
                        <a:moveTo>
                          <a:pt x="77" y="28"/>
                        </a:moveTo>
                        <a:cubicBezTo>
                          <a:pt x="75" y="21"/>
                          <a:pt x="71" y="15"/>
                          <a:pt x="66" y="11"/>
                        </a:cubicBezTo>
                        <a:cubicBezTo>
                          <a:pt x="58" y="4"/>
                          <a:pt x="49" y="0"/>
                          <a:pt x="38" y="1"/>
                        </a:cubicBezTo>
                        <a:cubicBezTo>
                          <a:pt x="17" y="2"/>
                          <a:pt x="1" y="18"/>
                          <a:pt x="0" y="38"/>
                        </a:cubicBezTo>
                        <a:cubicBezTo>
                          <a:pt x="0" y="38"/>
                          <a:pt x="0" y="38"/>
                          <a:pt x="0" y="38"/>
                        </a:cubicBezTo>
                        <a:cubicBezTo>
                          <a:pt x="6" y="49"/>
                          <a:pt x="70" y="44"/>
                          <a:pt x="77" y="28"/>
                        </a:cubicBezTo>
                        <a:cubicBezTo>
                          <a:pt x="77" y="28"/>
                          <a:pt x="77" y="28"/>
                          <a:pt x="77" y="28"/>
                        </a:cubicBezTo>
                        <a:cubicBezTo>
                          <a:pt x="77" y="28"/>
                          <a:pt x="77" y="28"/>
                          <a:pt x="77" y="2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3582c"/>
                      </a:gs>
                      <a:gs pos="50000">
                        <a:srgbClr val="996633"/>
                      </a:gs>
                      <a:gs pos="100000">
                        <a:srgbClr val="83582c"/>
                      </a:gs>
                    </a:gsLst>
                    <a:lin ang="108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5014080" y="3402000"/>
                <a:ext cx="671040" cy="442080"/>
                <a:chOff x="5014080" y="3402000"/>
                <a:chExt cx="671040" cy="442080"/>
              </a:xfrm>
            </p:grpSpPr>
            <p:sp>
              <p:nvSpPr>
                <p:cNvPr id="648" name="Freeform 437"/>
                <p:cNvSpPr/>
                <p:nvPr/>
              </p:nvSpPr>
              <p:spPr>
                <a:xfrm flipH="1">
                  <a:off x="5602680" y="3642480"/>
                  <a:ext cx="68040" cy="72720"/>
                </a:xfrm>
                <a:custGeom>
                  <a:avLst/>
                  <a:gdLst>
                    <a:gd name="textAreaLeft" fmla="*/ -360 w 68040"/>
                    <a:gd name="textAreaRight" fmla="*/ 68040 w 680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420" h="449">
                      <a:moveTo>
                        <a:pt x="146" y="449"/>
                      </a:moveTo>
                      <a:lnTo>
                        <a:pt x="0" y="296"/>
                      </a:lnTo>
                      <a:lnTo>
                        <a:pt x="420" y="0"/>
                      </a:lnTo>
                      <a:lnTo>
                        <a:pt x="340" y="397"/>
                      </a:lnTo>
                      <a:lnTo>
                        <a:pt x="146" y="44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438"/>
                <p:cNvSpPr/>
                <p:nvPr/>
              </p:nvSpPr>
              <p:spPr>
                <a:xfrm flipH="1">
                  <a:off x="5309640" y="3720960"/>
                  <a:ext cx="67680" cy="72720"/>
                </a:xfrm>
                <a:custGeom>
                  <a:avLst/>
                  <a:gdLst>
                    <a:gd name="textAreaLeft" fmla="*/ 360 w 67680"/>
                    <a:gd name="textAreaRight" fmla="*/ 68400 w 6768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418" h="449">
                      <a:moveTo>
                        <a:pt x="146" y="449"/>
                      </a:moveTo>
                      <a:lnTo>
                        <a:pt x="0" y="296"/>
                      </a:lnTo>
                      <a:lnTo>
                        <a:pt x="418" y="0"/>
                      </a:lnTo>
                      <a:lnTo>
                        <a:pt x="340" y="397"/>
                      </a:lnTo>
                      <a:lnTo>
                        <a:pt x="146" y="44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439"/>
                <p:cNvSpPr/>
                <p:nvPr/>
              </p:nvSpPr>
              <p:spPr>
                <a:xfrm flipH="1">
                  <a:off x="5527080" y="3566520"/>
                  <a:ext cx="146880" cy="39240"/>
                </a:xfrm>
                <a:custGeom>
                  <a:avLst/>
                  <a:gdLst>
                    <a:gd name="textAreaLeft" fmla="*/ 360 w 146880"/>
                    <a:gd name="textAreaRight" fmla="*/ 147600 w 1468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905" h="243">
                      <a:moveTo>
                        <a:pt x="0" y="123"/>
                      </a:moveTo>
                      <a:lnTo>
                        <a:pt x="453" y="0"/>
                      </a:lnTo>
                      <a:lnTo>
                        <a:pt x="905" y="123"/>
                      </a:lnTo>
                      <a:lnTo>
                        <a:pt x="453" y="243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40"/>
                <p:cNvSpPr/>
                <p:nvPr/>
              </p:nvSpPr>
              <p:spPr>
                <a:xfrm flipH="1">
                  <a:off x="5014080" y="3402000"/>
                  <a:ext cx="560880" cy="150840"/>
                </a:xfrm>
                <a:custGeom>
                  <a:avLst/>
                  <a:gdLst>
                    <a:gd name="textAreaLeft" fmla="*/ 360 w 560880"/>
                    <a:gd name="textAreaRight" fmla="*/ 561600 w 56088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3449" h="929">
                      <a:moveTo>
                        <a:pt x="1352" y="0"/>
                      </a:moveTo>
                      <a:lnTo>
                        <a:pt x="0" y="366"/>
                      </a:lnTo>
                      <a:lnTo>
                        <a:pt x="2105" y="929"/>
                      </a:lnTo>
                      <a:lnTo>
                        <a:pt x="3449" y="565"/>
                      </a:lnTo>
                      <a:lnTo>
                        <a:pt x="135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441"/>
                <p:cNvSpPr/>
                <p:nvPr/>
              </p:nvSpPr>
              <p:spPr>
                <a:xfrm flipH="1">
                  <a:off x="5547960" y="3670200"/>
                  <a:ext cx="81000" cy="88560"/>
                </a:xfrm>
                <a:custGeom>
                  <a:avLst/>
                  <a:gdLst>
                    <a:gd name="textAreaLeft" fmla="*/ -360 w 81000"/>
                    <a:gd name="textAreaRight" fmla="*/ 81000 w 81000"/>
                    <a:gd name="textAreaTop" fmla="*/ 0 h 88560"/>
                    <a:gd name="textAreaBottom" fmla="*/ 88920 h 88560"/>
                  </a:gdLst>
                  <a:ahLst/>
                  <a:rect l="textAreaLeft" t="textAreaTop" r="textAreaRight" b="textAreaBottom"/>
                  <a:pathLst>
                    <a:path w="211" h="231">
                      <a:moveTo>
                        <a:pt x="168" y="67"/>
                      </a:moveTo>
                      <a:cubicBezTo>
                        <a:pt x="133" y="21"/>
                        <a:pt x="82" y="0"/>
                        <a:pt x="46" y="14"/>
                      </a:cubicBezTo>
                      <a:cubicBezTo>
                        <a:pt x="46" y="14"/>
                        <a:pt x="46" y="14"/>
                        <a:pt x="46" y="14"/>
                      </a:cubicBezTo>
                      <a:cubicBezTo>
                        <a:pt x="12" y="23"/>
                        <a:pt x="12" y="23"/>
                        <a:pt x="12" y="23"/>
                      </a:cubicBezTo>
                      <a:cubicBezTo>
                        <a:pt x="19" y="38"/>
                        <a:pt x="19" y="38"/>
                        <a:pt x="19" y="38"/>
                      </a:cubicBezTo>
                      <a:cubicBezTo>
                        <a:pt x="0" y="69"/>
                        <a:pt x="8" y="121"/>
                        <a:pt x="41" y="164"/>
                      </a:cubicBezTo>
                      <a:cubicBezTo>
                        <a:pt x="58" y="186"/>
                        <a:pt x="79" y="203"/>
                        <a:pt x="100" y="212"/>
                      </a:cubicBezTo>
                      <a:cubicBezTo>
                        <a:pt x="109" y="231"/>
                        <a:pt x="109" y="231"/>
                        <a:pt x="109" y="231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62" y="217"/>
                        <a:pt x="169" y="214"/>
                        <a:pt x="176" y="209"/>
                      </a:cubicBezTo>
                      <a:cubicBezTo>
                        <a:pt x="211" y="182"/>
                        <a:pt x="208" y="118"/>
                        <a:pt x="168" y="6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442"/>
                <p:cNvSpPr/>
                <p:nvPr/>
              </p:nvSpPr>
              <p:spPr>
                <a:xfrm flipH="1">
                  <a:off x="5565240" y="3673080"/>
                  <a:ext cx="81720" cy="92160"/>
                </a:xfrm>
                <a:custGeom>
                  <a:avLst/>
                  <a:gdLst>
                    <a:gd name="textAreaLeft" fmla="*/ 0 w 81720"/>
                    <a:gd name="textAreaRight" fmla="*/ 81720 w 8172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213" h="241">
                      <a:moveTo>
                        <a:pt x="177" y="214"/>
                      </a:moveTo>
                      <a:cubicBezTo>
                        <a:pt x="142" y="241"/>
                        <a:pt x="82" y="220"/>
                        <a:pt x="42" y="169"/>
                      </a:cubicBezTo>
                      <a:cubicBezTo>
                        <a:pt x="3" y="117"/>
                        <a:pt x="0" y="53"/>
                        <a:pt x="35" y="26"/>
                      </a:cubicBezTo>
                      <a:cubicBezTo>
                        <a:pt x="70" y="0"/>
                        <a:pt x="131" y="20"/>
                        <a:pt x="170" y="72"/>
                      </a:cubicBezTo>
                      <a:cubicBezTo>
                        <a:pt x="209" y="123"/>
                        <a:pt x="213" y="187"/>
                        <a:pt x="177" y="21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443"/>
                <p:cNvSpPr/>
                <p:nvPr/>
              </p:nvSpPr>
              <p:spPr>
                <a:xfrm flipH="1">
                  <a:off x="5581800" y="3691080"/>
                  <a:ext cx="49680" cy="55800"/>
                </a:xfrm>
                <a:custGeom>
                  <a:avLst/>
                  <a:gdLst>
                    <a:gd name="textAreaLeft" fmla="*/ 360 w 49680"/>
                    <a:gd name="textAreaRight" fmla="*/ 50400 w 4968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30" h="146">
                      <a:moveTo>
                        <a:pt x="109" y="130"/>
                      </a:moveTo>
                      <a:cubicBezTo>
                        <a:pt x="87" y="146"/>
                        <a:pt x="50" y="134"/>
                        <a:pt x="26" y="103"/>
                      </a:cubicBezTo>
                      <a:cubicBezTo>
                        <a:pt x="2" y="71"/>
                        <a:pt x="0" y="32"/>
                        <a:pt x="22" y="16"/>
                      </a:cubicBezTo>
                      <a:cubicBezTo>
                        <a:pt x="43" y="0"/>
                        <a:pt x="80" y="12"/>
                        <a:pt x="104" y="44"/>
                      </a:cubicBezTo>
                      <a:cubicBezTo>
                        <a:pt x="128" y="75"/>
                        <a:pt x="130" y="114"/>
                        <a:pt x="109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444"/>
                <p:cNvSpPr/>
                <p:nvPr/>
              </p:nvSpPr>
              <p:spPr>
                <a:xfrm flipH="1">
                  <a:off x="5254920" y="3749400"/>
                  <a:ext cx="80640" cy="88560"/>
                </a:xfrm>
                <a:custGeom>
                  <a:avLst/>
                  <a:gdLst>
                    <a:gd name="textAreaLeft" fmla="*/ 360 w 80640"/>
                    <a:gd name="textAreaRight" fmla="*/ 81360 w 80640"/>
                    <a:gd name="textAreaTop" fmla="*/ 0 h 88560"/>
                    <a:gd name="textAreaBottom" fmla="*/ 88920 h 88560"/>
                  </a:gdLst>
                  <a:ahLst/>
                  <a:rect l="textAreaLeft" t="textAreaTop" r="textAreaRight" b="textAreaBottom"/>
                  <a:pathLst>
                    <a:path w="210" h="231">
                      <a:moveTo>
                        <a:pt x="168" y="67"/>
                      </a:moveTo>
                      <a:cubicBezTo>
                        <a:pt x="133" y="21"/>
                        <a:pt x="81" y="0"/>
                        <a:pt x="46" y="14"/>
                      </a:cubicBezTo>
                      <a:cubicBezTo>
                        <a:pt x="46" y="14"/>
                        <a:pt x="46" y="14"/>
                        <a:pt x="46" y="14"/>
                      </a:cubicBezTo>
                      <a:cubicBezTo>
                        <a:pt x="11" y="23"/>
                        <a:pt x="11" y="23"/>
                        <a:pt x="11" y="23"/>
                      </a:cubicBezTo>
                      <a:cubicBezTo>
                        <a:pt x="18" y="38"/>
                        <a:pt x="18" y="38"/>
                        <a:pt x="18" y="38"/>
                      </a:cubicBezTo>
                      <a:cubicBezTo>
                        <a:pt x="0" y="69"/>
                        <a:pt x="7" y="120"/>
                        <a:pt x="40" y="164"/>
                      </a:cubicBezTo>
                      <a:cubicBezTo>
                        <a:pt x="57" y="186"/>
                        <a:pt x="78" y="202"/>
                        <a:pt x="99" y="212"/>
                      </a:cubicBezTo>
                      <a:cubicBezTo>
                        <a:pt x="108" y="231"/>
                        <a:pt x="108" y="231"/>
                        <a:pt x="108" y="231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61" y="217"/>
                        <a:pt x="169" y="214"/>
                        <a:pt x="175" y="209"/>
                      </a:cubicBezTo>
                      <a:cubicBezTo>
                        <a:pt x="210" y="182"/>
                        <a:pt x="207" y="118"/>
                        <a:pt x="168" y="6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445"/>
                <p:cNvSpPr/>
                <p:nvPr/>
              </p:nvSpPr>
              <p:spPr>
                <a:xfrm flipH="1">
                  <a:off x="5271480" y="3751560"/>
                  <a:ext cx="81720" cy="92520"/>
                </a:xfrm>
                <a:custGeom>
                  <a:avLst/>
                  <a:gdLst>
                    <a:gd name="textAreaLeft" fmla="*/ 0 w 81720"/>
                    <a:gd name="textAreaRight" fmla="*/ 81720 w 81720"/>
                    <a:gd name="textAreaTop" fmla="*/ 0 h 92520"/>
                    <a:gd name="textAreaBottom" fmla="*/ 92880 h 92520"/>
                  </a:gdLst>
                  <a:ahLst/>
                  <a:rect l="textAreaLeft" t="textAreaTop" r="textAreaRight" b="textAreaBottom"/>
                  <a:pathLst>
                    <a:path w="213" h="241">
                      <a:moveTo>
                        <a:pt x="178" y="215"/>
                      </a:moveTo>
                      <a:cubicBezTo>
                        <a:pt x="143" y="241"/>
                        <a:pt x="82" y="221"/>
                        <a:pt x="43" y="169"/>
                      </a:cubicBezTo>
                      <a:cubicBezTo>
                        <a:pt x="3" y="118"/>
                        <a:pt x="0" y="54"/>
                        <a:pt x="35" y="27"/>
                      </a:cubicBezTo>
                      <a:cubicBezTo>
                        <a:pt x="71" y="0"/>
                        <a:pt x="131" y="21"/>
                        <a:pt x="170" y="72"/>
                      </a:cubicBezTo>
                      <a:cubicBezTo>
                        <a:pt x="210" y="124"/>
                        <a:pt x="213" y="188"/>
                        <a:pt x="178" y="21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446"/>
                <p:cNvSpPr/>
                <p:nvPr/>
              </p:nvSpPr>
              <p:spPr>
                <a:xfrm flipH="1">
                  <a:off x="5287680" y="3770280"/>
                  <a:ext cx="49320" cy="55800"/>
                </a:xfrm>
                <a:custGeom>
                  <a:avLst/>
                  <a:gdLst>
                    <a:gd name="textAreaLeft" fmla="*/ -360 w 49320"/>
                    <a:gd name="textAreaRight" fmla="*/ 49320 w 493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29" h="146">
                      <a:moveTo>
                        <a:pt x="108" y="130"/>
                      </a:moveTo>
                      <a:cubicBezTo>
                        <a:pt x="86" y="146"/>
                        <a:pt x="50" y="134"/>
                        <a:pt x="26" y="102"/>
                      </a:cubicBezTo>
                      <a:cubicBezTo>
                        <a:pt x="2" y="71"/>
                        <a:pt x="0" y="32"/>
                        <a:pt x="21" y="16"/>
                      </a:cubicBezTo>
                      <a:cubicBezTo>
                        <a:pt x="43" y="0"/>
                        <a:pt x="79" y="12"/>
                        <a:pt x="103" y="43"/>
                      </a:cubicBezTo>
                      <a:cubicBezTo>
                        <a:pt x="127" y="75"/>
                        <a:pt x="129" y="114"/>
                        <a:pt x="108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447"/>
                <p:cNvSpPr/>
                <p:nvPr/>
              </p:nvSpPr>
              <p:spPr>
                <a:xfrm flipH="1">
                  <a:off x="5232600" y="3456720"/>
                  <a:ext cx="451440" cy="369360"/>
                </a:xfrm>
                <a:custGeom>
                  <a:avLst/>
                  <a:gdLst>
                    <a:gd name="textAreaLeft" fmla="*/ 360 w 451440"/>
                    <a:gd name="textAreaRight" fmla="*/ 452160 w 451440"/>
                    <a:gd name="textAreaTop" fmla="*/ 0 h 369360"/>
                    <a:gd name="textAreaBottom" fmla="*/ 369720 h 369360"/>
                  </a:gdLst>
                  <a:ahLst/>
                  <a:rect l="textAreaLeft" t="textAreaTop" r="textAreaRight" b="textAreaBottom"/>
                  <a:pathLst>
                    <a:path w="1175" h="962">
                      <a:moveTo>
                        <a:pt x="301" y="14"/>
                      </a:moveTo>
                      <a:cubicBezTo>
                        <a:pt x="242" y="0"/>
                        <a:pt x="218" y="72"/>
                        <a:pt x="218" y="72"/>
                      </a:cubicBezTo>
                      <a:cubicBezTo>
                        <a:pt x="128" y="365"/>
                        <a:pt x="128" y="365"/>
                        <a:pt x="128" y="365"/>
                      </a:cubicBezTo>
                      <a:cubicBezTo>
                        <a:pt x="128" y="365"/>
                        <a:pt x="52" y="326"/>
                        <a:pt x="26" y="338"/>
                      </a:cubicBezTo>
                      <a:cubicBezTo>
                        <a:pt x="0" y="350"/>
                        <a:pt x="26" y="656"/>
                        <a:pt x="26" y="656"/>
                      </a:cubicBezTo>
                      <a:cubicBezTo>
                        <a:pt x="96" y="674"/>
                        <a:pt x="96" y="674"/>
                        <a:pt x="96" y="674"/>
                      </a:cubicBezTo>
                      <a:cubicBezTo>
                        <a:pt x="85" y="633"/>
                        <a:pt x="93" y="595"/>
                        <a:pt x="120" y="574"/>
                      </a:cubicBezTo>
                      <a:cubicBezTo>
                        <a:pt x="160" y="543"/>
                        <a:pt x="231" y="567"/>
                        <a:pt x="276" y="627"/>
                      </a:cubicBezTo>
                      <a:cubicBezTo>
                        <a:pt x="302" y="661"/>
                        <a:pt x="314" y="700"/>
                        <a:pt x="313" y="732"/>
                      </a:cubicBezTo>
                      <a:cubicBezTo>
                        <a:pt x="860" y="878"/>
                        <a:pt x="860" y="878"/>
                        <a:pt x="860" y="878"/>
                      </a:cubicBezTo>
                      <a:cubicBezTo>
                        <a:pt x="850" y="838"/>
                        <a:pt x="857" y="800"/>
                        <a:pt x="884" y="780"/>
                      </a:cubicBezTo>
                      <a:cubicBezTo>
                        <a:pt x="925" y="749"/>
                        <a:pt x="995" y="772"/>
                        <a:pt x="1041" y="833"/>
                      </a:cubicBezTo>
                      <a:cubicBezTo>
                        <a:pt x="1066" y="866"/>
                        <a:pt x="1079" y="904"/>
                        <a:pt x="1078" y="936"/>
                      </a:cubicBezTo>
                      <a:cubicBezTo>
                        <a:pt x="1175" y="962"/>
                        <a:pt x="1175" y="962"/>
                        <a:pt x="1175" y="962"/>
                      </a:cubicBezTo>
                      <a:cubicBezTo>
                        <a:pt x="1175" y="250"/>
                        <a:pt x="1175" y="250"/>
                        <a:pt x="1175" y="250"/>
                      </a:cubicBezTo>
                      <a:lnTo>
                        <a:pt x="301" y="1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448"/>
                <p:cNvSpPr/>
                <p:nvPr/>
              </p:nvSpPr>
              <p:spPr>
                <a:xfrm flipH="1">
                  <a:off x="5599440" y="3505320"/>
                  <a:ext cx="26640" cy="100440"/>
                </a:xfrm>
                <a:custGeom>
                  <a:avLst/>
                  <a:gdLst>
                    <a:gd name="textAreaLeft" fmla="*/ 360 w 26640"/>
                    <a:gd name="textAreaRight" fmla="*/ 27360 w 26640"/>
                    <a:gd name="textAreaTop" fmla="*/ 0 h 100440"/>
                    <a:gd name="textAreaBottom" fmla="*/ 100800 h 100440"/>
                  </a:gdLst>
                  <a:ahLst/>
                  <a:rect l="textAreaLeft" t="textAreaTop" r="textAreaRight" b="textAreaBottom"/>
                  <a:pathLst>
                    <a:path w="165" h="619">
                      <a:moveTo>
                        <a:pt x="0" y="581"/>
                      </a:moveTo>
                      <a:lnTo>
                        <a:pt x="165" y="619"/>
                      </a:lnTo>
                      <a:lnTo>
                        <a:pt x="165" y="0"/>
                      </a:lnTo>
                      <a:lnTo>
                        <a:pt x="0" y="58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5e2ff"/>
                    </a:gs>
                    <a:gs pos="100000">
                      <a:srgbClr val="3399ff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449"/>
                <p:cNvSpPr/>
                <p:nvPr/>
              </p:nvSpPr>
              <p:spPr>
                <a:xfrm flipV="1">
                  <a:off x="5186880" y="3448800"/>
                  <a:ext cx="342720" cy="91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50"/>
                <p:cNvSpPr/>
                <p:nvPr/>
              </p:nvSpPr>
              <p:spPr>
                <a:xfrm flipV="1">
                  <a:off x="5143320" y="3436920"/>
                  <a:ext cx="342720" cy="91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51"/>
                <p:cNvSpPr/>
                <p:nvPr/>
              </p:nvSpPr>
              <p:spPr>
                <a:xfrm flipV="1">
                  <a:off x="5100120" y="3425760"/>
                  <a:ext cx="342720" cy="90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52"/>
                <p:cNvSpPr/>
                <p:nvPr/>
              </p:nvSpPr>
              <p:spPr>
                <a:xfrm flipV="1">
                  <a:off x="5056200" y="3413520"/>
                  <a:ext cx="342720" cy="91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53"/>
                <p:cNvSpPr/>
                <p:nvPr/>
              </p:nvSpPr>
              <p:spPr>
                <a:xfrm flipH="1">
                  <a:off x="5013720" y="3493800"/>
                  <a:ext cx="218520" cy="332280"/>
                </a:xfrm>
                <a:custGeom>
                  <a:avLst/>
                  <a:gdLst>
                    <a:gd name="textAreaLeft" fmla="*/ -360 w 218520"/>
                    <a:gd name="textAreaRight" fmla="*/ 218520 w 218520"/>
                    <a:gd name="textAreaTop" fmla="*/ 0 h 332280"/>
                    <a:gd name="textAreaBottom" fmla="*/ 332640 h 332280"/>
                  </a:gdLst>
                  <a:ahLst/>
                  <a:rect l="textAreaLeft" t="textAreaTop" r="textAreaRight" b="textAreaBottom"/>
                  <a:pathLst>
                    <a:path w="1344" h="2046">
                      <a:moveTo>
                        <a:pt x="0" y="364"/>
                      </a:moveTo>
                      <a:lnTo>
                        <a:pt x="1344" y="0"/>
                      </a:lnTo>
                      <a:lnTo>
                        <a:pt x="1344" y="1682"/>
                      </a:lnTo>
                      <a:lnTo>
                        <a:pt x="0" y="2046"/>
                      </a:lnTo>
                      <a:lnTo>
                        <a:pt x="0" y="3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454"/>
                <p:cNvSpPr/>
                <p:nvPr/>
              </p:nvSpPr>
              <p:spPr>
                <a:xfrm flipH="1">
                  <a:off x="5250240" y="3519720"/>
                  <a:ext cx="234720" cy="179640"/>
                </a:xfrm>
                <a:custGeom>
                  <a:avLst/>
                  <a:gdLst>
                    <a:gd name="textAreaLeft" fmla="*/ 360 w 234720"/>
                    <a:gd name="textAreaRight" fmla="*/ 235440 w 234720"/>
                    <a:gd name="textAreaTop" fmla="*/ 0 h 179640"/>
                    <a:gd name="textAreaBottom" fmla="*/ 180000 h 179640"/>
                  </a:gdLst>
                  <a:ahLst/>
                  <a:rect l="textAreaLeft" t="textAreaTop" r="textAreaRight" b="textAreaBottom"/>
                  <a:pathLst>
                    <a:path w="1444" h="1107">
                      <a:moveTo>
                        <a:pt x="0" y="0"/>
                      </a:moveTo>
                      <a:lnTo>
                        <a:pt x="0" y="722"/>
                      </a:lnTo>
                      <a:lnTo>
                        <a:pt x="1444" y="1107"/>
                      </a:lnTo>
                      <a:lnTo>
                        <a:pt x="1444" y="38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455"/>
                <p:cNvSpPr/>
                <p:nvPr/>
              </p:nvSpPr>
              <p:spPr>
                <a:xfrm flipH="1">
                  <a:off x="5496480" y="3490920"/>
                  <a:ext cx="96120" cy="264600"/>
                </a:xfrm>
                <a:custGeom>
                  <a:avLst/>
                  <a:gdLst>
                    <a:gd name="textAreaLeft" fmla="*/ -360 w 96120"/>
                    <a:gd name="textAreaRight" fmla="*/ 96120 w 96120"/>
                    <a:gd name="textAreaTop" fmla="*/ 0 h 264600"/>
                    <a:gd name="textAreaBottom" fmla="*/ 264960 h 264600"/>
                  </a:gdLst>
                  <a:ahLst/>
                  <a:rect l="textAreaLeft" t="textAreaTop" r="textAreaRight" b="textAreaBottom"/>
                  <a:pathLst>
                    <a:path w="593" h="1630">
                      <a:moveTo>
                        <a:pt x="0" y="0"/>
                      </a:moveTo>
                      <a:lnTo>
                        <a:pt x="593" y="161"/>
                      </a:lnTo>
                      <a:lnTo>
                        <a:pt x="593" y="1630"/>
                      </a:lnTo>
                      <a:lnTo>
                        <a:pt x="279" y="1545"/>
                      </a:lnTo>
                      <a:lnTo>
                        <a:pt x="0" y="96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456"/>
                <p:cNvSpPr/>
                <p:nvPr/>
              </p:nvSpPr>
              <p:spPr>
                <a:xfrm flipH="1">
                  <a:off x="5507640" y="3509640"/>
                  <a:ext cx="73440" cy="121320"/>
                </a:xfrm>
                <a:custGeom>
                  <a:avLst/>
                  <a:gdLst>
                    <a:gd name="textAreaLeft" fmla="*/ 360 w 73440"/>
                    <a:gd name="textAreaRight" fmla="*/ 74160 w 73440"/>
                    <a:gd name="textAreaTop" fmla="*/ 0 h 121320"/>
                    <a:gd name="textAreaBottom" fmla="*/ 121680 h 121320"/>
                  </a:gdLst>
                  <a:ahLst/>
                  <a:rect l="textAreaLeft" t="textAreaTop" r="textAreaRight" b="textAreaBottom"/>
                  <a:pathLst>
                    <a:path w="452" h="747">
                      <a:moveTo>
                        <a:pt x="0" y="0"/>
                      </a:moveTo>
                      <a:lnTo>
                        <a:pt x="0" y="626"/>
                      </a:lnTo>
                      <a:lnTo>
                        <a:pt x="452" y="747"/>
                      </a:lnTo>
                      <a:lnTo>
                        <a:pt x="452" y="1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5e2ff"/>
                    </a:gs>
                    <a:gs pos="100000">
                      <a:srgbClr val="3399ff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457"/>
                <p:cNvSpPr/>
                <p:nvPr/>
              </p:nvSpPr>
              <p:spPr>
                <a:xfrm flipH="1">
                  <a:off x="5604480" y="3523680"/>
                  <a:ext cx="27000" cy="788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67" h="487">
                      <a:moveTo>
                        <a:pt x="0" y="487"/>
                      </a:moveTo>
                      <a:lnTo>
                        <a:pt x="0" y="45"/>
                      </a:lnTo>
                      <a:lnTo>
                        <a:pt x="167" y="0"/>
                      </a:lnTo>
                      <a:lnTo>
                        <a:pt x="167" y="442"/>
                      </a:lnTo>
                      <a:lnTo>
                        <a:pt x="0" y="48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5e2ff"/>
                    </a:gs>
                    <a:gs pos="100000">
                      <a:srgbClr val="3399ff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458"/>
                <p:cNvSpPr/>
                <p:nvPr/>
              </p:nvSpPr>
              <p:spPr>
                <a:xfrm flipH="1">
                  <a:off x="5631840" y="3529800"/>
                  <a:ext cx="5040" cy="72720"/>
                </a:xfrm>
                <a:custGeom>
                  <a:avLst/>
                  <a:gdLst>
                    <a:gd name="textAreaLeft" fmla="*/ 360 w 5040"/>
                    <a:gd name="textAreaRight" fmla="*/ 5760 w 50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31" h="449">
                      <a:moveTo>
                        <a:pt x="31" y="7"/>
                      </a:moveTo>
                      <a:lnTo>
                        <a:pt x="0" y="0"/>
                      </a:lnTo>
                      <a:lnTo>
                        <a:pt x="0" y="439"/>
                      </a:lnTo>
                      <a:lnTo>
                        <a:pt x="31" y="449"/>
                      </a:lnTo>
                      <a:lnTo>
                        <a:pt x="31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459"/>
                <p:cNvSpPr/>
                <p:nvPr/>
              </p:nvSpPr>
              <p:spPr>
                <a:xfrm flipH="1">
                  <a:off x="5604480" y="3522240"/>
                  <a:ext cx="32040" cy="8280"/>
                </a:xfrm>
                <a:custGeom>
                  <a:avLst/>
                  <a:gdLst>
                    <a:gd name="textAreaLeft" fmla="*/ -360 w 32040"/>
                    <a:gd name="textAreaRight" fmla="*/ 32040 w 3204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98" h="52">
                      <a:moveTo>
                        <a:pt x="198" y="7"/>
                      </a:moveTo>
                      <a:lnTo>
                        <a:pt x="165" y="0"/>
                      </a:lnTo>
                      <a:lnTo>
                        <a:pt x="0" y="45"/>
                      </a:lnTo>
                      <a:lnTo>
                        <a:pt x="31" y="52"/>
                      </a:lnTo>
                      <a:lnTo>
                        <a:pt x="198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460"/>
                <p:cNvSpPr/>
                <p:nvPr/>
              </p:nvSpPr>
              <p:spPr>
                <a:xfrm flipH="1">
                  <a:off x="5596200" y="3607920"/>
                  <a:ext cx="3960" cy="4680"/>
                </a:xfrm>
                <a:custGeom>
                  <a:avLst/>
                  <a:gdLst>
                    <a:gd name="textAreaLeft" fmla="*/ -360 w 3960"/>
                    <a:gd name="textAreaRight" fmla="*/ 3960 w 396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9" y="11"/>
                      </a:moveTo>
                      <a:cubicBezTo>
                        <a:pt x="8" y="13"/>
                        <a:pt x="4" y="11"/>
                        <a:pt x="2" y="9"/>
                      </a:cubicBezTo>
                      <a:cubicBezTo>
                        <a:pt x="0" y="6"/>
                        <a:pt x="0" y="3"/>
                        <a:pt x="2" y="1"/>
                      </a:cubicBezTo>
                      <a:cubicBezTo>
                        <a:pt x="4" y="0"/>
                        <a:pt x="7" y="1"/>
                        <a:pt x="9" y="4"/>
                      </a:cubicBezTo>
                      <a:cubicBezTo>
                        <a:pt x="11" y="6"/>
                        <a:pt x="11" y="10"/>
                        <a:pt x="9" y="1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461"/>
                <p:cNvSpPr/>
                <p:nvPr/>
              </p:nvSpPr>
              <p:spPr>
                <a:xfrm flipH="1">
                  <a:off x="5596200" y="3497040"/>
                  <a:ext cx="3960" cy="5040"/>
                </a:xfrm>
                <a:custGeom>
                  <a:avLst/>
                  <a:gdLst>
                    <a:gd name="textAreaLeft" fmla="*/ -360 w 3960"/>
                    <a:gd name="textAreaRight" fmla="*/ 3960 w 3960"/>
                    <a:gd name="textAreaTop" fmla="*/ 0 h 5040"/>
                    <a:gd name="textAreaBottom" fmla="*/ 5040 h 504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9" y="12"/>
                      </a:moveTo>
                      <a:cubicBezTo>
                        <a:pt x="8" y="13"/>
                        <a:pt x="4" y="12"/>
                        <a:pt x="2" y="9"/>
                      </a:cubicBezTo>
                      <a:cubicBezTo>
                        <a:pt x="0" y="7"/>
                        <a:pt x="0" y="3"/>
                        <a:pt x="2" y="2"/>
                      </a:cubicBezTo>
                      <a:cubicBezTo>
                        <a:pt x="4" y="0"/>
                        <a:pt x="7" y="1"/>
                        <a:pt x="9" y="4"/>
                      </a:cubicBezTo>
                      <a:cubicBezTo>
                        <a:pt x="11" y="7"/>
                        <a:pt x="11" y="10"/>
                        <a:pt x="9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462"/>
                <p:cNvSpPr/>
                <p:nvPr/>
              </p:nvSpPr>
              <p:spPr>
                <a:xfrm flipH="1">
                  <a:off x="5597280" y="3498120"/>
                  <a:ext cx="35640" cy="122760"/>
                </a:xfrm>
                <a:custGeom>
                  <a:avLst/>
                  <a:gdLst>
                    <a:gd name="textAreaLeft" fmla="*/ -360 w 35640"/>
                    <a:gd name="textAreaRight" fmla="*/ 35640 w 35640"/>
                    <a:gd name="textAreaTop" fmla="*/ 0 h 122760"/>
                    <a:gd name="textAreaBottom" fmla="*/ 123120 h 122760"/>
                  </a:gdLst>
                  <a:ahLst/>
                  <a:rect l="textAreaLeft" t="textAreaTop" r="textAreaRight" b="textAreaBottom"/>
                  <a:pathLst>
                    <a:path w="93" h="320">
                      <a:moveTo>
                        <a:pt x="0" y="24"/>
                      </a:moveTo>
                      <a:cubicBezTo>
                        <a:pt x="0" y="320"/>
                        <a:pt x="0" y="320"/>
                        <a:pt x="0" y="320"/>
                      </a:cubicBezTo>
                      <a:cubicBezTo>
                        <a:pt x="93" y="295"/>
                        <a:pt x="93" y="295"/>
                        <a:pt x="93" y="295"/>
                      </a:cubicBezTo>
                      <a:cubicBezTo>
                        <a:pt x="91" y="287"/>
                        <a:pt x="91" y="287"/>
                        <a:pt x="91" y="287"/>
                      </a:cubicBezTo>
                      <a:cubicBezTo>
                        <a:pt x="91" y="287"/>
                        <a:pt x="17" y="307"/>
                        <a:pt x="8" y="310"/>
                      </a:cubicBezTo>
                      <a:cubicBezTo>
                        <a:pt x="8" y="300"/>
                        <a:pt x="8" y="36"/>
                        <a:pt x="8" y="30"/>
                      </a:cubicBezTo>
                      <a:cubicBezTo>
                        <a:pt x="14" y="29"/>
                        <a:pt x="93" y="8"/>
                        <a:pt x="93" y="8"/>
                      </a:cubicBezTo>
                      <a:cubicBezTo>
                        <a:pt x="91" y="0"/>
                        <a:pt x="91" y="0"/>
                        <a:pt x="91" y="0"/>
                      </a:cubicBez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463"/>
                <p:cNvSpPr/>
                <p:nvPr/>
              </p:nvSpPr>
              <p:spPr>
                <a:xfrm flipH="1">
                  <a:off x="5122800" y="3540600"/>
                  <a:ext cx="94680" cy="243360"/>
                </a:xfrm>
                <a:custGeom>
                  <a:avLst/>
                  <a:gdLst>
                    <a:gd name="textAreaLeft" fmla="*/ -360 w 94680"/>
                    <a:gd name="textAreaRight" fmla="*/ 94680 w 94680"/>
                    <a:gd name="textAreaTop" fmla="*/ 0 h 243360"/>
                    <a:gd name="textAreaBottom" fmla="*/ 243720 h 243360"/>
                  </a:gdLst>
                  <a:ahLst/>
                  <a:rect l="textAreaLeft" t="textAreaTop" r="textAreaRight" b="textAreaBottom"/>
                  <a:pathLst>
                    <a:path w="584" h="1498">
                      <a:moveTo>
                        <a:pt x="0" y="159"/>
                      </a:moveTo>
                      <a:lnTo>
                        <a:pt x="0" y="1498"/>
                      </a:lnTo>
                      <a:lnTo>
                        <a:pt x="584" y="1342"/>
                      </a:lnTo>
                      <a:lnTo>
                        <a:pt x="584" y="0"/>
                      </a:lnTo>
                      <a:lnTo>
                        <a:pt x="0" y="15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464"/>
                <p:cNvSpPr/>
                <p:nvPr/>
              </p:nvSpPr>
              <p:spPr>
                <a:xfrm flipH="1">
                  <a:off x="5027760" y="3515760"/>
                  <a:ext cx="94680" cy="243000"/>
                </a:xfrm>
                <a:custGeom>
                  <a:avLst/>
                  <a:gdLst>
                    <a:gd name="textAreaLeft" fmla="*/ -360 w 94680"/>
                    <a:gd name="textAreaRight" fmla="*/ 94680 w 9468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583" h="1497">
                      <a:moveTo>
                        <a:pt x="583" y="0"/>
                      </a:moveTo>
                      <a:lnTo>
                        <a:pt x="0" y="155"/>
                      </a:lnTo>
                      <a:lnTo>
                        <a:pt x="0" y="1497"/>
                      </a:lnTo>
                      <a:lnTo>
                        <a:pt x="583" y="1339"/>
                      </a:lnTo>
                      <a:lnTo>
                        <a:pt x="58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465"/>
                <p:cNvSpPr/>
                <p:nvPr/>
              </p:nvSpPr>
              <p:spPr>
                <a:xfrm flipH="1">
                  <a:off x="5017320" y="3751560"/>
                  <a:ext cx="12960" cy="147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4" h="39">
                      <a:moveTo>
                        <a:pt x="6" y="34"/>
                      </a:moveTo>
                      <a:cubicBezTo>
                        <a:pt x="11" y="39"/>
                        <a:pt x="21" y="36"/>
                        <a:pt x="27" y="27"/>
                      </a:cubicBezTo>
                      <a:cubicBezTo>
                        <a:pt x="34" y="19"/>
                        <a:pt x="34" y="9"/>
                        <a:pt x="29" y="5"/>
                      </a:cubicBezTo>
                      <a:cubicBezTo>
                        <a:pt x="23" y="0"/>
                        <a:pt x="13" y="4"/>
                        <a:pt x="7" y="12"/>
                      </a:cubicBezTo>
                      <a:cubicBezTo>
                        <a:pt x="1" y="20"/>
                        <a:pt x="0" y="30"/>
                        <a:pt x="6" y="3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40505"/>
                    </a:gs>
                    <a:gs pos="100000">
                      <a:srgbClr val="dddddd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466"/>
                <p:cNvSpPr/>
                <p:nvPr/>
              </p:nvSpPr>
              <p:spPr>
                <a:xfrm flipH="1">
                  <a:off x="5214240" y="3805560"/>
                  <a:ext cx="12960" cy="147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4" h="39">
                      <a:moveTo>
                        <a:pt x="6" y="34"/>
                      </a:moveTo>
                      <a:cubicBezTo>
                        <a:pt x="12" y="39"/>
                        <a:pt x="21" y="36"/>
                        <a:pt x="27" y="27"/>
                      </a:cubicBezTo>
                      <a:cubicBezTo>
                        <a:pt x="34" y="19"/>
                        <a:pt x="34" y="9"/>
                        <a:pt x="29" y="5"/>
                      </a:cubicBezTo>
                      <a:cubicBezTo>
                        <a:pt x="23" y="0"/>
                        <a:pt x="13" y="4"/>
                        <a:pt x="7" y="12"/>
                      </a:cubicBezTo>
                      <a:cubicBezTo>
                        <a:pt x="1" y="20"/>
                        <a:pt x="0" y="30"/>
                        <a:pt x="6" y="3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40505"/>
                    </a:gs>
                    <a:gs pos="100000">
                      <a:srgbClr val="dddddd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467"/>
                <p:cNvSpPr/>
                <p:nvPr/>
              </p:nvSpPr>
              <p:spPr>
                <a:xfrm flipH="1">
                  <a:off x="5215320" y="3792600"/>
                  <a:ext cx="10800" cy="12240"/>
                </a:xfrm>
                <a:custGeom>
                  <a:avLst/>
                  <a:gdLst>
                    <a:gd name="textAreaLeft" fmla="*/ 360 w 10800"/>
                    <a:gd name="textAreaRight" fmla="*/ 11520 w 1080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5"/>
                        <a:pt x="28" y="7"/>
                        <a:pt x="24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6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269"/>
                    </a:gs>
                    <a:gs pos="100000">
                      <a:srgbClr val="dddddd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468"/>
                <p:cNvSpPr/>
                <p:nvPr/>
              </p:nvSpPr>
              <p:spPr>
                <a:xfrm flipH="1">
                  <a:off x="5018400" y="3738600"/>
                  <a:ext cx="10440" cy="1224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5"/>
                        <a:pt x="28" y="7"/>
                        <a:pt x="23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6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269"/>
                    </a:gs>
                    <a:gs pos="100000">
                      <a:srgbClr val="dddddd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469"/>
                <p:cNvSpPr/>
                <p:nvPr/>
              </p:nvSpPr>
              <p:spPr>
                <a:xfrm flipH="1">
                  <a:off x="5215320" y="3552840"/>
                  <a:ext cx="10800" cy="11880"/>
                </a:xfrm>
                <a:custGeom>
                  <a:avLst/>
                  <a:gdLst>
                    <a:gd name="textAreaLeft" fmla="*/ 360 w 10800"/>
                    <a:gd name="textAreaRight" fmla="*/ 11520 w 1080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6"/>
                        <a:pt x="28" y="7"/>
                        <a:pt x="24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7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269"/>
                    </a:gs>
                    <a:gs pos="100000">
                      <a:srgbClr val="dddddd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470"/>
                <p:cNvSpPr/>
                <p:nvPr/>
              </p:nvSpPr>
              <p:spPr>
                <a:xfrm flipH="1">
                  <a:off x="5018400" y="349884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6"/>
                        <a:pt x="28" y="7"/>
                        <a:pt x="23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7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269"/>
                    </a:gs>
                    <a:gs pos="100000">
                      <a:srgbClr val="dddddd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471"/>
                <p:cNvSpPr/>
                <p:nvPr/>
              </p:nvSpPr>
              <p:spPr>
                <a:xfrm flipH="1">
                  <a:off x="5129280" y="3647160"/>
                  <a:ext cx="11520" cy="2952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71" h="182">
                      <a:moveTo>
                        <a:pt x="0" y="19"/>
                      </a:moveTo>
                      <a:lnTo>
                        <a:pt x="0" y="182"/>
                      </a:lnTo>
                      <a:lnTo>
                        <a:pt x="71" y="163"/>
                      </a:lnTo>
                      <a:lnTo>
                        <a:pt x="71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472"/>
                <p:cNvSpPr/>
                <p:nvPr/>
              </p:nvSpPr>
              <p:spPr>
                <a:xfrm flipH="1">
                  <a:off x="5106600" y="3642120"/>
                  <a:ext cx="11520" cy="2952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71" h="182">
                      <a:moveTo>
                        <a:pt x="0" y="19"/>
                      </a:moveTo>
                      <a:lnTo>
                        <a:pt x="0" y="182"/>
                      </a:lnTo>
                      <a:lnTo>
                        <a:pt x="71" y="163"/>
                      </a:lnTo>
                      <a:lnTo>
                        <a:pt x="71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473"/>
                <p:cNvSpPr/>
                <p:nvPr/>
              </p:nvSpPr>
              <p:spPr>
                <a:xfrm flipH="1">
                  <a:off x="5659920" y="3689640"/>
                  <a:ext cx="25200" cy="25920"/>
                </a:xfrm>
                <a:custGeom>
                  <a:avLst/>
                  <a:gdLst>
                    <a:gd name="textAreaLeft" fmla="*/ 360 w 25200"/>
                    <a:gd name="textAreaRight" fmla="*/ 25920 w 2520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66" h="68">
                      <a:moveTo>
                        <a:pt x="66" y="68"/>
                      </a:moveTo>
                      <a:cubicBezTo>
                        <a:pt x="6" y="58"/>
                        <a:pt x="13" y="56"/>
                        <a:pt x="13" y="43"/>
                      </a:cubicBezTo>
                      <a:cubicBezTo>
                        <a:pt x="13" y="31"/>
                        <a:pt x="0" y="0"/>
                        <a:pt x="13" y="0"/>
                      </a:cubicBezTo>
                      <a:cubicBezTo>
                        <a:pt x="26" y="0"/>
                        <a:pt x="54" y="12"/>
                        <a:pt x="66" y="12"/>
                      </a:cubicBezTo>
                      <a:lnTo>
                        <a:pt x="66" y="6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5" name=""/>
            <p:cNvGrpSpPr/>
            <p:nvPr/>
          </p:nvGrpSpPr>
          <p:grpSpPr>
            <a:xfrm>
              <a:off x="5175720" y="3773520"/>
              <a:ext cx="1863000" cy="749520"/>
              <a:chOff x="5175720" y="3773520"/>
              <a:chExt cx="1863000" cy="749520"/>
            </a:xfrm>
          </p:grpSpPr>
          <p:sp>
            <p:nvSpPr>
              <p:cNvPr id="686" name="Freeform 475"/>
              <p:cNvSpPr/>
              <p:nvPr/>
            </p:nvSpPr>
            <p:spPr>
              <a:xfrm>
                <a:off x="5175720" y="4055400"/>
                <a:ext cx="1747800" cy="467640"/>
              </a:xfrm>
              <a:custGeom>
                <a:avLst/>
                <a:gdLst>
                  <a:gd name="textAreaLeft" fmla="*/ 0 w 1747800"/>
                  <a:gd name="textAreaRight" fmla="*/ 1748160 w 1747800"/>
                  <a:gd name="textAreaTop" fmla="*/ 0 h 467640"/>
                  <a:gd name="textAreaBottom" fmla="*/ 468000 h 467640"/>
                </a:gdLst>
                <a:ahLst/>
                <a:rect l="textAreaLeft" t="textAreaTop" r="textAreaRight" b="textAreaBottom"/>
                <a:pathLst>
                  <a:path w="161" h="44">
                    <a:moveTo>
                      <a:pt x="0" y="22"/>
                    </a:moveTo>
                    <a:lnTo>
                      <a:pt x="81" y="0"/>
                    </a:lnTo>
                    <a:lnTo>
                      <a:pt x="161" y="22"/>
                    </a:lnTo>
                    <a:lnTo>
                      <a:pt x="81" y="44"/>
                    </a:lnTo>
                    <a:lnTo>
                      <a:pt x="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caca"/>
                  </a:gs>
                  <a:gs pos="100000">
                    <a:srgbClr val="b2b2b2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  <a:effectLst>
                <a:outerShdw dist="12600" dir="54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7" name=""/>
              <p:cNvGrpSpPr/>
              <p:nvPr/>
            </p:nvGrpSpPr>
            <p:grpSpPr>
              <a:xfrm>
                <a:off x="6077160" y="4006440"/>
                <a:ext cx="151200" cy="280440"/>
                <a:chOff x="6077160" y="4006440"/>
                <a:chExt cx="151200" cy="280440"/>
              </a:xfrm>
            </p:grpSpPr>
            <p:grpSp>
              <p:nvGrpSpPr>
                <p:cNvPr id="688" name=""/>
                <p:cNvGrpSpPr/>
                <p:nvPr/>
              </p:nvGrpSpPr>
              <p:grpSpPr>
                <a:xfrm>
                  <a:off x="6112800" y="4045680"/>
                  <a:ext cx="115560" cy="90000"/>
                  <a:chOff x="6112800" y="4045680"/>
                  <a:chExt cx="115560" cy="90000"/>
                </a:xfrm>
              </p:grpSpPr>
              <p:sp>
                <p:nvSpPr>
                  <p:cNvPr id="689" name="Freeform 478"/>
                  <p:cNvSpPr/>
                  <p:nvPr/>
                </p:nvSpPr>
                <p:spPr>
                  <a:xfrm flipH="1">
                    <a:off x="6112440" y="4045680"/>
                    <a:ext cx="115560" cy="30960"/>
                  </a:xfrm>
                  <a:custGeom>
                    <a:avLst/>
                    <a:gdLst>
                      <a:gd name="textAreaLeft" fmla="*/ -360 w 115560"/>
                      <a:gd name="textAreaRight" fmla="*/ 115560 w 115560"/>
                      <a:gd name="textAreaTop" fmla="*/ 0 h 30960"/>
                      <a:gd name="textAreaBottom" fmla="*/ 31320 h 3096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3"/>
                        </a:moveTo>
                        <a:lnTo>
                          <a:pt x="451" y="0"/>
                        </a:lnTo>
                        <a:lnTo>
                          <a:pt x="904" y="123"/>
                        </a:lnTo>
                        <a:lnTo>
                          <a:pt x="451" y="244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Freeform 479"/>
                  <p:cNvSpPr/>
                  <p:nvPr/>
                </p:nvSpPr>
                <p:spPr>
                  <a:xfrm flipH="1">
                    <a:off x="6112440" y="4061160"/>
                    <a:ext cx="57960" cy="74520"/>
                  </a:xfrm>
                  <a:custGeom>
                    <a:avLst/>
                    <a:gdLst>
                      <a:gd name="textAreaLeft" fmla="*/ -360 w 57960"/>
                      <a:gd name="textAreaRight" fmla="*/ 57960 w 5796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3" h="589">
                        <a:moveTo>
                          <a:pt x="0" y="589"/>
                        </a:moveTo>
                        <a:lnTo>
                          <a:pt x="0" y="121"/>
                        </a:lnTo>
                        <a:lnTo>
                          <a:pt x="453" y="0"/>
                        </a:lnTo>
                        <a:lnTo>
                          <a:pt x="453" y="468"/>
                        </a:lnTo>
                        <a:lnTo>
                          <a:pt x="0" y="589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Freeform 480"/>
                  <p:cNvSpPr/>
                  <p:nvPr/>
                </p:nvSpPr>
                <p:spPr>
                  <a:xfrm flipH="1">
                    <a:off x="6170760" y="4061160"/>
                    <a:ext cx="57600" cy="74520"/>
                  </a:xfrm>
                  <a:custGeom>
                    <a:avLst/>
                    <a:gdLst>
                      <a:gd name="textAreaLeft" fmla="*/ 360 w 57600"/>
                      <a:gd name="textAreaRight" fmla="*/ 58320 w 5760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1" h="589">
                        <a:moveTo>
                          <a:pt x="0" y="0"/>
                        </a:moveTo>
                        <a:lnTo>
                          <a:pt x="0" y="468"/>
                        </a:lnTo>
                        <a:lnTo>
                          <a:pt x="451" y="589"/>
                        </a:lnTo>
                        <a:lnTo>
                          <a:pt x="451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2" name=""/>
                <p:cNvGrpSpPr/>
                <p:nvPr/>
              </p:nvGrpSpPr>
              <p:grpSpPr>
                <a:xfrm>
                  <a:off x="6077160" y="4006800"/>
                  <a:ext cx="135000" cy="280080"/>
                  <a:chOff x="6077160" y="4006800"/>
                  <a:chExt cx="135000" cy="280080"/>
                </a:xfrm>
              </p:grpSpPr>
              <p:sp>
                <p:nvSpPr>
                  <p:cNvPr id="693" name="Freeform 482"/>
                  <p:cNvSpPr/>
                  <p:nvPr/>
                </p:nvSpPr>
                <p:spPr>
                  <a:xfrm>
                    <a:off x="6077160" y="4043520"/>
                    <a:ext cx="135000" cy="11376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226" h="191">
                        <a:moveTo>
                          <a:pt x="186" y="107"/>
                        </a:moveTo>
                        <a:cubicBezTo>
                          <a:pt x="184" y="108"/>
                          <a:pt x="175" y="110"/>
                          <a:pt x="164" y="113"/>
                        </a:cubicBezTo>
                        <a:cubicBezTo>
                          <a:pt x="159" y="84"/>
                          <a:pt x="155" y="57"/>
                          <a:pt x="154" y="49"/>
                        </a:cubicBezTo>
                        <a:cubicBezTo>
                          <a:pt x="151" y="32"/>
                          <a:pt x="136" y="27"/>
                          <a:pt x="128" y="24"/>
                        </a:cubicBezTo>
                        <a:cubicBezTo>
                          <a:pt x="120" y="21"/>
                          <a:pt x="98" y="16"/>
                          <a:pt x="85" y="13"/>
                        </a:cubicBezTo>
                        <a:cubicBezTo>
                          <a:pt x="73" y="9"/>
                          <a:pt x="54" y="3"/>
                          <a:pt x="45" y="2"/>
                        </a:cubicBezTo>
                        <a:cubicBezTo>
                          <a:pt x="36" y="0"/>
                          <a:pt x="18" y="4"/>
                          <a:pt x="15" y="12"/>
                        </a:cubicBezTo>
                        <a:cubicBezTo>
                          <a:pt x="14" y="14"/>
                          <a:pt x="8" y="50"/>
                          <a:pt x="2" y="85"/>
                        </a:cubicBezTo>
                        <a:cubicBezTo>
                          <a:pt x="2" y="85"/>
                          <a:pt x="2" y="85"/>
                          <a:pt x="2" y="85"/>
                        </a:cubicBezTo>
                        <a:cubicBezTo>
                          <a:pt x="1" y="89"/>
                          <a:pt x="1" y="89"/>
                          <a:pt x="1" y="89"/>
                        </a:cubicBezTo>
                        <a:cubicBezTo>
                          <a:pt x="1" y="89"/>
                          <a:pt x="1" y="89"/>
                          <a:pt x="1" y="89"/>
                        </a:cubicBezTo>
                        <a:cubicBezTo>
                          <a:pt x="0" y="98"/>
                          <a:pt x="3" y="104"/>
                          <a:pt x="8" y="106"/>
                        </a:cubicBezTo>
                        <a:cubicBezTo>
                          <a:pt x="12" y="108"/>
                          <a:pt x="17" y="107"/>
                          <a:pt x="23" y="106"/>
                        </a:cubicBezTo>
                        <a:cubicBezTo>
                          <a:pt x="29" y="105"/>
                          <a:pt x="29" y="105"/>
                          <a:pt x="29" y="105"/>
                        </a:cubicBezTo>
                        <a:cubicBezTo>
                          <a:pt x="29" y="105"/>
                          <a:pt x="29" y="105"/>
                          <a:pt x="29" y="105"/>
                        </a:cubicBezTo>
                        <a:cubicBezTo>
                          <a:pt x="30" y="104"/>
                          <a:pt x="31" y="104"/>
                          <a:pt x="32" y="104"/>
                        </a:cubicBezTo>
                        <a:cubicBezTo>
                          <a:pt x="34" y="103"/>
                          <a:pt x="36" y="103"/>
                          <a:pt x="38" y="102"/>
                        </a:cubicBezTo>
                        <a:cubicBezTo>
                          <a:pt x="39" y="68"/>
                          <a:pt x="39" y="68"/>
                          <a:pt x="39" y="68"/>
                        </a:cubicBezTo>
                        <a:cubicBezTo>
                          <a:pt x="38" y="68"/>
                          <a:pt x="37" y="69"/>
                          <a:pt x="36" y="69"/>
                        </a:cubicBezTo>
                        <a:cubicBezTo>
                          <a:pt x="38" y="54"/>
                          <a:pt x="39" y="44"/>
                          <a:pt x="39" y="47"/>
                        </a:cubicBezTo>
                        <a:cubicBezTo>
                          <a:pt x="39" y="53"/>
                          <a:pt x="38" y="122"/>
                          <a:pt x="38" y="165"/>
                        </a:cubicBezTo>
                        <a:cubicBezTo>
                          <a:pt x="39" y="170"/>
                          <a:pt x="41" y="175"/>
                          <a:pt x="47" y="175"/>
                        </a:cubicBezTo>
                        <a:cubicBezTo>
                          <a:pt x="59" y="178"/>
                          <a:pt x="91" y="188"/>
                          <a:pt x="98" y="189"/>
                        </a:cubicBezTo>
                        <a:cubicBezTo>
                          <a:pt x="106" y="191"/>
                          <a:pt x="122" y="181"/>
                          <a:pt x="125" y="170"/>
                        </a:cubicBezTo>
                        <a:cubicBezTo>
                          <a:pt x="125" y="168"/>
                          <a:pt x="125" y="155"/>
                          <a:pt x="125" y="153"/>
                        </a:cubicBezTo>
                        <a:cubicBezTo>
                          <a:pt x="125" y="124"/>
                          <a:pt x="125" y="124"/>
                          <a:pt x="125" y="124"/>
                        </a:cubicBezTo>
                        <a:cubicBezTo>
                          <a:pt x="125" y="111"/>
                          <a:pt x="124" y="99"/>
                          <a:pt x="123" y="88"/>
                        </a:cubicBezTo>
                        <a:cubicBezTo>
                          <a:pt x="122" y="82"/>
                          <a:pt x="122" y="78"/>
                          <a:pt x="121" y="75"/>
                        </a:cubicBezTo>
                        <a:cubicBezTo>
                          <a:pt x="121" y="73"/>
                          <a:pt x="121" y="72"/>
                          <a:pt x="121" y="71"/>
                        </a:cubicBezTo>
                        <a:cubicBezTo>
                          <a:pt x="121" y="72"/>
                          <a:pt x="121" y="73"/>
                          <a:pt x="121" y="75"/>
                        </a:cubicBezTo>
                        <a:cubicBezTo>
                          <a:pt x="122" y="79"/>
                          <a:pt x="123" y="83"/>
                          <a:pt x="123" y="88"/>
                        </a:cubicBezTo>
                        <a:cubicBezTo>
                          <a:pt x="124" y="96"/>
                          <a:pt x="126" y="107"/>
                          <a:pt x="128" y="121"/>
                        </a:cubicBezTo>
                        <a:cubicBezTo>
                          <a:pt x="129" y="122"/>
                          <a:pt x="129" y="122"/>
                          <a:pt x="129" y="123"/>
                        </a:cubicBezTo>
                        <a:cubicBezTo>
                          <a:pt x="129" y="123"/>
                          <a:pt x="129" y="123"/>
                          <a:pt x="129" y="123"/>
                        </a:cubicBezTo>
                        <a:cubicBezTo>
                          <a:pt x="129" y="127"/>
                          <a:pt x="129" y="127"/>
                          <a:pt x="129" y="127"/>
                        </a:cubicBezTo>
                        <a:cubicBezTo>
                          <a:pt x="131" y="137"/>
                          <a:pt x="134" y="143"/>
                          <a:pt x="137" y="147"/>
                        </a:cubicBezTo>
                        <a:cubicBezTo>
                          <a:pt x="141" y="151"/>
                          <a:pt x="145" y="152"/>
                          <a:pt x="151" y="153"/>
                        </a:cubicBezTo>
                        <a:cubicBezTo>
                          <a:pt x="166" y="149"/>
                          <a:pt x="181" y="144"/>
                          <a:pt x="199" y="139"/>
                        </a:cubicBezTo>
                        <a:cubicBezTo>
                          <a:pt x="226" y="131"/>
                          <a:pt x="210" y="99"/>
                          <a:pt x="186" y="1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3582c"/>
                      </a:gs>
                      <a:gs pos="50000">
                        <a:srgbClr val="996633"/>
                      </a:gs>
                      <a:gs pos="100000">
                        <a:srgbClr val="83582c"/>
                      </a:gs>
                    </a:gsLst>
                    <a:lin ang="108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Freeform 483"/>
                  <p:cNvSpPr/>
                  <p:nvPr/>
                </p:nvSpPr>
                <p:spPr>
                  <a:xfrm>
                    <a:off x="6107400" y="4037760"/>
                    <a:ext cx="35640" cy="21240"/>
                  </a:xfrm>
                  <a:custGeom>
                    <a:avLst/>
                    <a:gdLst>
                      <a:gd name="textAreaLeft" fmla="*/ 0 w 35640"/>
                      <a:gd name="textAreaRight" fmla="*/ 36000 w 35640"/>
                      <a:gd name="textAreaTop" fmla="*/ 0 h 21240"/>
                      <a:gd name="textAreaBottom" fmla="*/ 21600 h 21240"/>
                    </a:gdLst>
                    <a:ahLst/>
                    <a:rect l="textAreaLeft" t="textAreaTop" r="textAreaRight" b="textAreaBottom"/>
                    <a:pathLst>
                      <a:path w="60" h="36">
                        <a:moveTo>
                          <a:pt x="27" y="34"/>
                        </a:moveTo>
                        <a:cubicBezTo>
                          <a:pt x="13" y="33"/>
                          <a:pt x="0" y="22"/>
                          <a:pt x="9" y="20"/>
                        </a:cubicBezTo>
                        <a:cubicBezTo>
                          <a:pt x="15" y="19"/>
                          <a:pt x="12" y="13"/>
                          <a:pt x="14" y="11"/>
                        </a:cubicBezTo>
                        <a:cubicBezTo>
                          <a:pt x="17" y="8"/>
                          <a:pt x="48" y="0"/>
                          <a:pt x="48" y="14"/>
                        </a:cubicBezTo>
                        <a:cubicBezTo>
                          <a:pt x="48" y="18"/>
                          <a:pt x="43" y="22"/>
                          <a:pt x="51" y="26"/>
                        </a:cubicBezTo>
                        <a:cubicBezTo>
                          <a:pt x="60" y="29"/>
                          <a:pt x="41" y="36"/>
                          <a:pt x="27" y="34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Freeform 484"/>
                  <p:cNvSpPr/>
                  <p:nvPr/>
                </p:nvSpPr>
                <p:spPr>
                  <a:xfrm>
                    <a:off x="6097680" y="4141080"/>
                    <a:ext cx="54000" cy="14580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145800"/>
                      <a:gd name="textAreaBottom" fmla="*/ 146160 h 145800"/>
                    </a:gdLst>
                    <a:ahLst/>
                    <a:rect l="textAreaLeft" t="textAreaTop" r="textAreaRight" b="textAreaBottom"/>
                    <a:pathLst>
                      <a:path w="90" h="245">
                        <a:moveTo>
                          <a:pt x="89" y="156"/>
                        </a:moveTo>
                        <a:cubicBezTo>
                          <a:pt x="89" y="141"/>
                          <a:pt x="90" y="47"/>
                          <a:pt x="89" y="7"/>
                        </a:cubicBezTo>
                        <a:cubicBezTo>
                          <a:pt x="89" y="6"/>
                          <a:pt x="89" y="6"/>
                          <a:pt x="89" y="5"/>
                        </a:cubicBezTo>
                        <a:cubicBezTo>
                          <a:pt x="87" y="16"/>
                          <a:pt x="71" y="22"/>
                          <a:pt x="63" y="20"/>
                        </a:cubicBezTo>
                        <a:cubicBezTo>
                          <a:pt x="55" y="20"/>
                          <a:pt x="24" y="13"/>
                          <a:pt x="12" y="10"/>
                        </a:cubicBezTo>
                        <a:cubicBezTo>
                          <a:pt x="6" y="10"/>
                          <a:pt x="4" y="5"/>
                          <a:pt x="2" y="0"/>
                        </a:cubicBezTo>
                        <a:cubicBezTo>
                          <a:pt x="2" y="18"/>
                          <a:pt x="3" y="32"/>
                          <a:pt x="3" y="36"/>
                        </a:cubicBezTo>
                        <a:cubicBezTo>
                          <a:pt x="3" y="49"/>
                          <a:pt x="0" y="181"/>
                          <a:pt x="2" y="205"/>
                        </a:cubicBezTo>
                        <a:cubicBezTo>
                          <a:pt x="3" y="228"/>
                          <a:pt x="43" y="225"/>
                          <a:pt x="43" y="205"/>
                        </a:cubicBezTo>
                        <a:cubicBezTo>
                          <a:pt x="43" y="171"/>
                          <a:pt x="46" y="55"/>
                          <a:pt x="45" y="51"/>
                        </a:cubicBezTo>
                        <a:cubicBezTo>
                          <a:pt x="45" y="47"/>
                          <a:pt x="36" y="47"/>
                          <a:pt x="36" y="40"/>
                        </a:cubicBezTo>
                        <a:cubicBezTo>
                          <a:pt x="36" y="47"/>
                          <a:pt x="45" y="47"/>
                          <a:pt x="45" y="51"/>
                        </a:cubicBezTo>
                        <a:cubicBezTo>
                          <a:pt x="46" y="55"/>
                          <a:pt x="43" y="171"/>
                          <a:pt x="43" y="205"/>
                        </a:cubicBezTo>
                        <a:cubicBezTo>
                          <a:pt x="43" y="207"/>
                          <a:pt x="44" y="211"/>
                          <a:pt x="44" y="211"/>
                        </a:cubicBezTo>
                        <a:cubicBezTo>
                          <a:pt x="46" y="245"/>
                          <a:pt x="87" y="235"/>
                          <a:pt x="88" y="218"/>
                        </a:cubicBezTo>
                        <a:cubicBezTo>
                          <a:pt x="90" y="201"/>
                          <a:pt x="88" y="171"/>
                          <a:pt x="89" y="15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3582c"/>
                      </a:gs>
                      <a:gs pos="50000">
                        <a:srgbClr val="996633"/>
                      </a:gs>
                      <a:gs pos="100000">
                        <a:srgbClr val="83582c"/>
                      </a:gs>
                    </a:gsLst>
                    <a:lin ang="108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Oval 485"/>
                  <p:cNvSpPr/>
                  <p:nvPr/>
                </p:nvSpPr>
                <p:spPr>
                  <a:xfrm flipH="1">
                    <a:off x="6101280" y="4006800"/>
                    <a:ext cx="47160" cy="47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7" name=""/>
                <p:cNvGrpSpPr/>
                <p:nvPr/>
              </p:nvGrpSpPr>
              <p:grpSpPr>
                <a:xfrm>
                  <a:off x="6101280" y="4006440"/>
                  <a:ext cx="57600" cy="30600"/>
                  <a:chOff x="6101280" y="4006440"/>
                  <a:chExt cx="57600" cy="30600"/>
                </a:xfrm>
              </p:grpSpPr>
              <p:sp>
                <p:nvSpPr>
                  <p:cNvPr id="698" name="Freeform 487"/>
                  <p:cNvSpPr/>
                  <p:nvPr/>
                </p:nvSpPr>
                <p:spPr>
                  <a:xfrm>
                    <a:off x="6141600" y="4010040"/>
                    <a:ext cx="17280" cy="1368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3680"/>
                      <a:gd name="textAreaBottom" fmla="*/ 14040 h 13680"/>
                    </a:gdLst>
                    <a:ahLst/>
                    <a:rect l="textAreaLeft" t="textAreaTop" r="textAreaRight" b="textAreaBottom"/>
                    <a:pathLst>
                      <a:path w="28" h="22">
                        <a:moveTo>
                          <a:pt x="12" y="22"/>
                        </a:moveTo>
                        <a:cubicBezTo>
                          <a:pt x="12" y="22"/>
                          <a:pt x="12" y="22"/>
                          <a:pt x="12" y="22"/>
                        </a:cubicBezTo>
                        <a:cubicBezTo>
                          <a:pt x="17" y="21"/>
                          <a:pt x="28" y="13"/>
                          <a:pt x="21" y="5"/>
                        </a:cubicBezTo>
                        <a:cubicBezTo>
                          <a:pt x="15" y="0"/>
                          <a:pt x="4" y="3"/>
                          <a:pt x="0" y="4"/>
                        </a:cubicBezTo>
                        <a:cubicBezTo>
                          <a:pt x="0" y="4"/>
                          <a:pt x="10" y="15"/>
                          <a:pt x="12" y="2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3582c"/>
                      </a:gs>
                      <a:gs pos="50000">
                        <a:srgbClr val="996633"/>
                      </a:gs>
                      <a:gs pos="100000">
                        <a:srgbClr val="83582c"/>
                      </a:gs>
                    </a:gsLst>
                    <a:lin ang="108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Freeform 488"/>
                  <p:cNvSpPr/>
                  <p:nvPr/>
                </p:nvSpPr>
                <p:spPr>
                  <a:xfrm>
                    <a:off x="6101280" y="4006440"/>
                    <a:ext cx="47880" cy="30600"/>
                  </a:xfrm>
                  <a:custGeom>
                    <a:avLst/>
                    <a:gdLst>
                      <a:gd name="textAreaLeft" fmla="*/ 0 w 47880"/>
                      <a:gd name="textAreaRight" fmla="*/ 48240 w 4788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77" h="49">
                        <a:moveTo>
                          <a:pt x="77" y="28"/>
                        </a:moveTo>
                        <a:cubicBezTo>
                          <a:pt x="75" y="21"/>
                          <a:pt x="71" y="15"/>
                          <a:pt x="66" y="11"/>
                        </a:cubicBezTo>
                        <a:cubicBezTo>
                          <a:pt x="58" y="4"/>
                          <a:pt x="49" y="0"/>
                          <a:pt x="38" y="1"/>
                        </a:cubicBezTo>
                        <a:cubicBezTo>
                          <a:pt x="17" y="2"/>
                          <a:pt x="1" y="18"/>
                          <a:pt x="0" y="38"/>
                        </a:cubicBezTo>
                        <a:cubicBezTo>
                          <a:pt x="0" y="38"/>
                          <a:pt x="0" y="38"/>
                          <a:pt x="0" y="38"/>
                        </a:cubicBezTo>
                        <a:cubicBezTo>
                          <a:pt x="6" y="49"/>
                          <a:pt x="70" y="44"/>
                          <a:pt x="77" y="28"/>
                        </a:cubicBezTo>
                        <a:cubicBezTo>
                          <a:pt x="77" y="28"/>
                          <a:pt x="77" y="28"/>
                          <a:pt x="77" y="28"/>
                        </a:cubicBezTo>
                        <a:cubicBezTo>
                          <a:pt x="77" y="28"/>
                          <a:pt x="77" y="28"/>
                          <a:pt x="77" y="2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3582c"/>
                      </a:gs>
                      <a:gs pos="50000">
                        <a:srgbClr val="996633"/>
                      </a:gs>
                      <a:gs pos="100000">
                        <a:srgbClr val="83582c"/>
                      </a:gs>
                    </a:gsLst>
                    <a:lin ang="108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0" name=""/>
              <p:cNvGrpSpPr/>
              <p:nvPr/>
            </p:nvGrpSpPr>
            <p:grpSpPr>
              <a:xfrm>
                <a:off x="6367680" y="3773520"/>
                <a:ext cx="671040" cy="442080"/>
                <a:chOff x="6367680" y="3773520"/>
                <a:chExt cx="671040" cy="442080"/>
              </a:xfrm>
            </p:grpSpPr>
            <p:sp>
              <p:nvSpPr>
                <p:cNvPr id="701" name="Freeform 490"/>
                <p:cNvSpPr/>
                <p:nvPr/>
              </p:nvSpPr>
              <p:spPr>
                <a:xfrm flipH="1">
                  <a:off x="6956280" y="4014000"/>
                  <a:ext cx="68040" cy="72720"/>
                </a:xfrm>
                <a:custGeom>
                  <a:avLst/>
                  <a:gdLst>
                    <a:gd name="textAreaLeft" fmla="*/ -360 w 68040"/>
                    <a:gd name="textAreaRight" fmla="*/ 68040 w 680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420" h="449">
                      <a:moveTo>
                        <a:pt x="146" y="449"/>
                      </a:moveTo>
                      <a:lnTo>
                        <a:pt x="0" y="296"/>
                      </a:lnTo>
                      <a:lnTo>
                        <a:pt x="420" y="0"/>
                      </a:lnTo>
                      <a:lnTo>
                        <a:pt x="340" y="397"/>
                      </a:lnTo>
                      <a:lnTo>
                        <a:pt x="146" y="44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491"/>
                <p:cNvSpPr/>
                <p:nvPr/>
              </p:nvSpPr>
              <p:spPr>
                <a:xfrm flipH="1">
                  <a:off x="6663240" y="4092480"/>
                  <a:ext cx="67680" cy="72720"/>
                </a:xfrm>
                <a:custGeom>
                  <a:avLst/>
                  <a:gdLst>
                    <a:gd name="textAreaLeft" fmla="*/ 360 w 67680"/>
                    <a:gd name="textAreaRight" fmla="*/ 68400 w 6768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418" h="449">
                      <a:moveTo>
                        <a:pt x="146" y="449"/>
                      </a:moveTo>
                      <a:lnTo>
                        <a:pt x="0" y="296"/>
                      </a:lnTo>
                      <a:lnTo>
                        <a:pt x="418" y="0"/>
                      </a:lnTo>
                      <a:lnTo>
                        <a:pt x="340" y="397"/>
                      </a:lnTo>
                      <a:lnTo>
                        <a:pt x="146" y="44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492"/>
                <p:cNvSpPr/>
                <p:nvPr/>
              </p:nvSpPr>
              <p:spPr>
                <a:xfrm flipH="1">
                  <a:off x="6880680" y="3938040"/>
                  <a:ext cx="146880" cy="39240"/>
                </a:xfrm>
                <a:custGeom>
                  <a:avLst/>
                  <a:gdLst>
                    <a:gd name="textAreaLeft" fmla="*/ 360 w 146880"/>
                    <a:gd name="textAreaRight" fmla="*/ 147600 w 1468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905" h="243">
                      <a:moveTo>
                        <a:pt x="0" y="123"/>
                      </a:moveTo>
                      <a:lnTo>
                        <a:pt x="453" y="0"/>
                      </a:lnTo>
                      <a:lnTo>
                        <a:pt x="905" y="123"/>
                      </a:lnTo>
                      <a:lnTo>
                        <a:pt x="453" y="243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Freeform 493"/>
                <p:cNvSpPr/>
                <p:nvPr/>
              </p:nvSpPr>
              <p:spPr>
                <a:xfrm flipH="1">
                  <a:off x="6367680" y="3773520"/>
                  <a:ext cx="560880" cy="150840"/>
                </a:xfrm>
                <a:custGeom>
                  <a:avLst/>
                  <a:gdLst>
                    <a:gd name="textAreaLeft" fmla="*/ 360 w 560880"/>
                    <a:gd name="textAreaRight" fmla="*/ 561600 w 56088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3449" h="929">
                      <a:moveTo>
                        <a:pt x="1352" y="0"/>
                      </a:moveTo>
                      <a:lnTo>
                        <a:pt x="0" y="366"/>
                      </a:lnTo>
                      <a:lnTo>
                        <a:pt x="2105" y="929"/>
                      </a:lnTo>
                      <a:lnTo>
                        <a:pt x="3449" y="565"/>
                      </a:lnTo>
                      <a:lnTo>
                        <a:pt x="135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494"/>
                <p:cNvSpPr/>
                <p:nvPr/>
              </p:nvSpPr>
              <p:spPr>
                <a:xfrm flipH="1">
                  <a:off x="6901560" y="4041720"/>
                  <a:ext cx="81000" cy="88560"/>
                </a:xfrm>
                <a:custGeom>
                  <a:avLst/>
                  <a:gdLst>
                    <a:gd name="textAreaLeft" fmla="*/ -360 w 81000"/>
                    <a:gd name="textAreaRight" fmla="*/ 81000 w 81000"/>
                    <a:gd name="textAreaTop" fmla="*/ 0 h 88560"/>
                    <a:gd name="textAreaBottom" fmla="*/ 88920 h 88560"/>
                  </a:gdLst>
                  <a:ahLst/>
                  <a:rect l="textAreaLeft" t="textAreaTop" r="textAreaRight" b="textAreaBottom"/>
                  <a:pathLst>
                    <a:path w="211" h="231">
                      <a:moveTo>
                        <a:pt x="168" y="67"/>
                      </a:moveTo>
                      <a:cubicBezTo>
                        <a:pt x="133" y="21"/>
                        <a:pt x="82" y="0"/>
                        <a:pt x="46" y="14"/>
                      </a:cubicBezTo>
                      <a:cubicBezTo>
                        <a:pt x="46" y="14"/>
                        <a:pt x="46" y="14"/>
                        <a:pt x="46" y="14"/>
                      </a:cubicBezTo>
                      <a:cubicBezTo>
                        <a:pt x="12" y="23"/>
                        <a:pt x="12" y="23"/>
                        <a:pt x="12" y="23"/>
                      </a:cubicBezTo>
                      <a:cubicBezTo>
                        <a:pt x="19" y="38"/>
                        <a:pt x="19" y="38"/>
                        <a:pt x="19" y="38"/>
                      </a:cubicBezTo>
                      <a:cubicBezTo>
                        <a:pt x="0" y="69"/>
                        <a:pt x="8" y="121"/>
                        <a:pt x="41" y="164"/>
                      </a:cubicBezTo>
                      <a:cubicBezTo>
                        <a:pt x="58" y="186"/>
                        <a:pt x="79" y="203"/>
                        <a:pt x="100" y="212"/>
                      </a:cubicBezTo>
                      <a:cubicBezTo>
                        <a:pt x="109" y="231"/>
                        <a:pt x="109" y="231"/>
                        <a:pt x="109" y="231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62" y="217"/>
                        <a:pt x="169" y="214"/>
                        <a:pt x="176" y="209"/>
                      </a:cubicBezTo>
                      <a:cubicBezTo>
                        <a:pt x="211" y="182"/>
                        <a:pt x="208" y="118"/>
                        <a:pt x="168" y="6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495"/>
                <p:cNvSpPr/>
                <p:nvPr/>
              </p:nvSpPr>
              <p:spPr>
                <a:xfrm flipH="1">
                  <a:off x="6918840" y="4044600"/>
                  <a:ext cx="81720" cy="92160"/>
                </a:xfrm>
                <a:custGeom>
                  <a:avLst/>
                  <a:gdLst>
                    <a:gd name="textAreaLeft" fmla="*/ 0 w 81720"/>
                    <a:gd name="textAreaRight" fmla="*/ 81720 w 8172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213" h="241">
                      <a:moveTo>
                        <a:pt x="177" y="214"/>
                      </a:moveTo>
                      <a:cubicBezTo>
                        <a:pt x="142" y="241"/>
                        <a:pt x="82" y="220"/>
                        <a:pt x="42" y="169"/>
                      </a:cubicBezTo>
                      <a:cubicBezTo>
                        <a:pt x="3" y="117"/>
                        <a:pt x="0" y="53"/>
                        <a:pt x="35" y="26"/>
                      </a:cubicBezTo>
                      <a:cubicBezTo>
                        <a:pt x="70" y="0"/>
                        <a:pt x="131" y="20"/>
                        <a:pt x="170" y="72"/>
                      </a:cubicBezTo>
                      <a:cubicBezTo>
                        <a:pt x="209" y="123"/>
                        <a:pt x="213" y="187"/>
                        <a:pt x="177" y="21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Freeform 496"/>
                <p:cNvSpPr/>
                <p:nvPr/>
              </p:nvSpPr>
              <p:spPr>
                <a:xfrm flipH="1">
                  <a:off x="6935400" y="4062600"/>
                  <a:ext cx="49680" cy="55800"/>
                </a:xfrm>
                <a:custGeom>
                  <a:avLst/>
                  <a:gdLst>
                    <a:gd name="textAreaLeft" fmla="*/ 360 w 49680"/>
                    <a:gd name="textAreaRight" fmla="*/ 50400 w 4968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30" h="146">
                      <a:moveTo>
                        <a:pt x="109" y="130"/>
                      </a:moveTo>
                      <a:cubicBezTo>
                        <a:pt x="87" y="146"/>
                        <a:pt x="50" y="134"/>
                        <a:pt x="26" y="103"/>
                      </a:cubicBezTo>
                      <a:cubicBezTo>
                        <a:pt x="2" y="71"/>
                        <a:pt x="0" y="32"/>
                        <a:pt x="22" y="16"/>
                      </a:cubicBezTo>
                      <a:cubicBezTo>
                        <a:pt x="43" y="0"/>
                        <a:pt x="80" y="12"/>
                        <a:pt x="104" y="44"/>
                      </a:cubicBezTo>
                      <a:cubicBezTo>
                        <a:pt x="128" y="75"/>
                        <a:pt x="130" y="114"/>
                        <a:pt x="109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497"/>
                <p:cNvSpPr/>
                <p:nvPr/>
              </p:nvSpPr>
              <p:spPr>
                <a:xfrm flipH="1">
                  <a:off x="6608520" y="4120920"/>
                  <a:ext cx="80640" cy="88560"/>
                </a:xfrm>
                <a:custGeom>
                  <a:avLst/>
                  <a:gdLst>
                    <a:gd name="textAreaLeft" fmla="*/ 360 w 80640"/>
                    <a:gd name="textAreaRight" fmla="*/ 81360 w 80640"/>
                    <a:gd name="textAreaTop" fmla="*/ 0 h 88560"/>
                    <a:gd name="textAreaBottom" fmla="*/ 88920 h 88560"/>
                  </a:gdLst>
                  <a:ahLst/>
                  <a:rect l="textAreaLeft" t="textAreaTop" r="textAreaRight" b="textAreaBottom"/>
                  <a:pathLst>
                    <a:path w="210" h="231">
                      <a:moveTo>
                        <a:pt x="168" y="67"/>
                      </a:moveTo>
                      <a:cubicBezTo>
                        <a:pt x="133" y="21"/>
                        <a:pt x="81" y="0"/>
                        <a:pt x="46" y="14"/>
                      </a:cubicBezTo>
                      <a:cubicBezTo>
                        <a:pt x="46" y="14"/>
                        <a:pt x="46" y="14"/>
                        <a:pt x="46" y="14"/>
                      </a:cubicBezTo>
                      <a:cubicBezTo>
                        <a:pt x="11" y="23"/>
                        <a:pt x="11" y="23"/>
                        <a:pt x="11" y="23"/>
                      </a:cubicBezTo>
                      <a:cubicBezTo>
                        <a:pt x="18" y="38"/>
                        <a:pt x="18" y="38"/>
                        <a:pt x="18" y="38"/>
                      </a:cubicBezTo>
                      <a:cubicBezTo>
                        <a:pt x="0" y="69"/>
                        <a:pt x="7" y="120"/>
                        <a:pt x="40" y="164"/>
                      </a:cubicBezTo>
                      <a:cubicBezTo>
                        <a:pt x="57" y="186"/>
                        <a:pt x="78" y="202"/>
                        <a:pt x="99" y="212"/>
                      </a:cubicBezTo>
                      <a:cubicBezTo>
                        <a:pt x="108" y="231"/>
                        <a:pt x="108" y="231"/>
                        <a:pt x="108" y="231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61" y="217"/>
                        <a:pt x="169" y="214"/>
                        <a:pt x="175" y="209"/>
                      </a:cubicBezTo>
                      <a:cubicBezTo>
                        <a:pt x="210" y="182"/>
                        <a:pt x="207" y="118"/>
                        <a:pt x="168" y="6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498"/>
                <p:cNvSpPr/>
                <p:nvPr/>
              </p:nvSpPr>
              <p:spPr>
                <a:xfrm flipH="1">
                  <a:off x="6625080" y="4123080"/>
                  <a:ext cx="81720" cy="92520"/>
                </a:xfrm>
                <a:custGeom>
                  <a:avLst/>
                  <a:gdLst>
                    <a:gd name="textAreaLeft" fmla="*/ 0 w 81720"/>
                    <a:gd name="textAreaRight" fmla="*/ 81720 w 81720"/>
                    <a:gd name="textAreaTop" fmla="*/ 0 h 92520"/>
                    <a:gd name="textAreaBottom" fmla="*/ 92880 h 92520"/>
                  </a:gdLst>
                  <a:ahLst/>
                  <a:rect l="textAreaLeft" t="textAreaTop" r="textAreaRight" b="textAreaBottom"/>
                  <a:pathLst>
                    <a:path w="213" h="241">
                      <a:moveTo>
                        <a:pt x="178" y="215"/>
                      </a:moveTo>
                      <a:cubicBezTo>
                        <a:pt x="143" y="241"/>
                        <a:pt x="82" y="221"/>
                        <a:pt x="43" y="169"/>
                      </a:cubicBezTo>
                      <a:cubicBezTo>
                        <a:pt x="3" y="118"/>
                        <a:pt x="0" y="54"/>
                        <a:pt x="35" y="27"/>
                      </a:cubicBezTo>
                      <a:cubicBezTo>
                        <a:pt x="71" y="0"/>
                        <a:pt x="131" y="21"/>
                        <a:pt x="170" y="72"/>
                      </a:cubicBezTo>
                      <a:cubicBezTo>
                        <a:pt x="210" y="124"/>
                        <a:pt x="213" y="188"/>
                        <a:pt x="178" y="21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499"/>
                <p:cNvSpPr/>
                <p:nvPr/>
              </p:nvSpPr>
              <p:spPr>
                <a:xfrm flipH="1">
                  <a:off x="6641280" y="4141800"/>
                  <a:ext cx="49320" cy="55800"/>
                </a:xfrm>
                <a:custGeom>
                  <a:avLst/>
                  <a:gdLst>
                    <a:gd name="textAreaLeft" fmla="*/ -360 w 49320"/>
                    <a:gd name="textAreaRight" fmla="*/ 49320 w 493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29" h="146">
                      <a:moveTo>
                        <a:pt x="108" y="130"/>
                      </a:moveTo>
                      <a:cubicBezTo>
                        <a:pt x="86" y="146"/>
                        <a:pt x="50" y="134"/>
                        <a:pt x="26" y="102"/>
                      </a:cubicBezTo>
                      <a:cubicBezTo>
                        <a:pt x="2" y="71"/>
                        <a:pt x="0" y="32"/>
                        <a:pt x="21" y="16"/>
                      </a:cubicBezTo>
                      <a:cubicBezTo>
                        <a:pt x="43" y="0"/>
                        <a:pt x="79" y="12"/>
                        <a:pt x="103" y="43"/>
                      </a:cubicBezTo>
                      <a:cubicBezTo>
                        <a:pt x="127" y="75"/>
                        <a:pt x="129" y="114"/>
                        <a:pt x="108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500"/>
                <p:cNvSpPr/>
                <p:nvPr/>
              </p:nvSpPr>
              <p:spPr>
                <a:xfrm flipH="1">
                  <a:off x="6586200" y="3828240"/>
                  <a:ext cx="451440" cy="369360"/>
                </a:xfrm>
                <a:custGeom>
                  <a:avLst/>
                  <a:gdLst>
                    <a:gd name="textAreaLeft" fmla="*/ 360 w 451440"/>
                    <a:gd name="textAreaRight" fmla="*/ 452160 w 451440"/>
                    <a:gd name="textAreaTop" fmla="*/ 0 h 369360"/>
                    <a:gd name="textAreaBottom" fmla="*/ 369720 h 369360"/>
                  </a:gdLst>
                  <a:ahLst/>
                  <a:rect l="textAreaLeft" t="textAreaTop" r="textAreaRight" b="textAreaBottom"/>
                  <a:pathLst>
                    <a:path w="1175" h="962">
                      <a:moveTo>
                        <a:pt x="301" y="14"/>
                      </a:moveTo>
                      <a:cubicBezTo>
                        <a:pt x="242" y="0"/>
                        <a:pt x="218" y="72"/>
                        <a:pt x="218" y="72"/>
                      </a:cubicBezTo>
                      <a:cubicBezTo>
                        <a:pt x="128" y="365"/>
                        <a:pt x="128" y="365"/>
                        <a:pt x="128" y="365"/>
                      </a:cubicBezTo>
                      <a:cubicBezTo>
                        <a:pt x="128" y="365"/>
                        <a:pt x="52" y="326"/>
                        <a:pt x="26" y="338"/>
                      </a:cubicBezTo>
                      <a:cubicBezTo>
                        <a:pt x="0" y="350"/>
                        <a:pt x="26" y="656"/>
                        <a:pt x="26" y="656"/>
                      </a:cubicBezTo>
                      <a:cubicBezTo>
                        <a:pt x="96" y="674"/>
                        <a:pt x="96" y="674"/>
                        <a:pt x="96" y="674"/>
                      </a:cubicBezTo>
                      <a:cubicBezTo>
                        <a:pt x="85" y="633"/>
                        <a:pt x="93" y="595"/>
                        <a:pt x="120" y="574"/>
                      </a:cubicBezTo>
                      <a:cubicBezTo>
                        <a:pt x="160" y="543"/>
                        <a:pt x="231" y="567"/>
                        <a:pt x="276" y="627"/>
                      </a:cubicBezTo>
                      <a:cubicBezTo>
                        <a:pt x="302" y="661"/>
                        <a:pt x="314" y="700"/>
                        <a:pt x="313" y="732"/>
                      </a:cubicBezTo>
                      <a:cubicBezTo>
                        <a:pt x="860" y="878"/>
                        <a:pt x="860" y="878"/>
                        <a:pt x="860" y="878"/>
                      </a:cubicBezTo>
                      <a:cubicBezTo>
                        <a:pt x="850" y="838"/>
                        <a:pt x="857" y="800"/>
                        <a:pt x="884" y="780"/>
                      </a:cubicBezTo>
                      <a:cubicBezTo>
                        <a:pt x="925" y="749"/>
                        <a:pt x="995" y="772"/>
                        <a:pt x="1041" y="833"/>
                      </a:cubicBezTo>
                      <a:cubicBezTo>
                        <a:pt x="1066" y="866"/>
                        <a:pt x="1079" y="904"/>
                        <a:pt x="1078" y="936"/>
                      </a:cubicBezTo>
                      <a:cubicBezTo>
                        <a:pt x="1175" y="962"/>
                        <a:pt x="1175" y="962"/>
                        <a:pt x="1175" y="962"/>
                      </a:cubicBezTo>
                      <a:cubicBezTo>
                        <a:pt x="1175" y="250"/>
                        <a:pt x="1175" y="250"/>
                        <a:pt x="1175" y="250"/>
                      </a:cubicBezTo>
                      <a:lnTo>
                        <a:pt x="301" y="1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501"/>
                <p:cNvSpPr/>
                <p:nvPr/>
              </p:nvSpPr>
              <p:spPr>
                <a:xfrm flipH="1">
                  <a:off x="6953040" y="3876840"/>
                  <a:ext cx="26640" cy="100440"/>
                </a:xfrm>
                <a:custGeom>
                  <a:avLst/>
                  <a:gdLst>
                    <a:gd name="textAreaLeft" fmla="*/ 360 w 26640"/>
                    <a:gd name="textAreaRight" fmla="*/ 27360 w 26640"/>
                    <a:gd name="textAreaTop" fmla="*/ 0 h 100440"/>
                    <a:gd name="textAreaBottom" fmla="*/ 100800 h 100440"/>
                  </a:gdLst>
                  <a:ahLst/>
                  <a:rect l="textAreaLeft" t="textAreaTop" r="textAreaRight" b="textAreaBottom"/>
                  <a:pathLst>
                    <a:path w="165" h="619">
                      <a:moveTo>
                        <a:pt x="0" y="581"/>
                      </a:moveTo>
                      <a:lnTo>
                        <a:pt x="165" y="619"/>
                      </a:lnTo>
                      <a:lnTo>
                        <a:pt x="165" y="0"/>
                      </a:lnTo>
                      <a:lnTo>
                        <a:pt x="0" y="58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5e2ff"/>
                    </a:gs>
                    <a:gs pos="100000">
                      <a:srgbClr val="3399ff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Line 502"/>
                <p:cNvSpPr/>
                <p:nvPr/>
              </p:nvSpPr>
              <p:spPr>
                <a:xfrm flipV="1">
                  <a:off x="6540480" y="3820320"/>
                  <a:ext cx="342720" cy="91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03"/>
                <p:cNvSpPr/>
                <p:nvPr/>
              </p:nvSpPr>
              <p:spPr>
                <a:xfrm flipV="1">
                  <a:off x="6496920" y="3808440"/>
                  <a:ext cx="342720" cy="91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Line 504"/>
                <p:cNvSpPr/>
                <p:nvPr/>
              </p:nvSpPr>
              <p:spPr>
                <a:xfrm flipV="1">
                  <a:off x="6453720" y="3797280"/>
                  <a:ext cx="342720" cy="90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05"/>
                <p:cNvSpPr/>
                <p:nvPr/>
              </p:nvSpPr>
              <p:spPr>
                <a:xfrm flipV="1">
                  <a:off x="6409800" y="3785040"/>
                  <a:ext cx="342720" cy="91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506"/>
                <p:cNvSpPr/>
                <p:nvPr/>
              </p:nvSpPr>
              <p:spPr>
                <a:xfrm flipH="1">
                  <a:off x="6367320" y="3865320"/>
                  <a:ext cx="218520" cy="332280"/>
                </a:xfrm>
                <a:custGeom>
                  <a:avLst/>
                  <a:gdLst>
                    <a:gd name="textAreaLeft" fmla="*/ -360 w 218520"/>
                    <a:gd name="textAreaRight" fmla="*/ 218520 w 218520"/>
                    <a:gd name="textAreaTop" fmla="*/ 0 h 332280"/>
                    <a:gd name="textAreaBottom" fmla="*/ 332640 h 332280"/>
                  </a:gdLst>
                  <a:ahLst/>
                  <a:rect l="textAreaLeft" t="textAreaTop" r="textAreaRight" b="textAreaBottom"/>
                  <a:pathLst>
                    <a:path w="1344" h="2046">
                      <a:moveTo>
                        <a:pt x="0" y="364"/>
                      </a:moveTo>
                      <a:lnTo>
                        <a:pt x="1344" y="0"/>
                      </a:lnTo>
                      <a:lnTo>
                        <a:pt x="1344" y="1682"/>
                      </a:lnTo>
                      <a:lnTo>
                        <a:pt x="0" y="2046"/>
                      </a:lnTo>
                      <a:lnTo>
                        <a:pt x="0" y="3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507"/>
                <p:cNvSpPr/>
                <p:nvPr/>
              </p:nvSpPr>
              <p:spPr>
                <a:xfrm flipH="1">
                  <a:off x="6603840" y="3891240"/>
                  <a:ext cx="234720" cy="179640"/>
                </a:xfrm>
                <a:custGeom>
                  <a:avLst/>
                  <a:gdLst>
                    <a:gd name="textAreaLeft" fmla="*/ 360 w 234720"/>
                    <a:gd name="textAreaRight" fmla="*/ 235440 w 234720"/>
                    <a:gd name="textAreaTop" fmla="*/ 0 h 179640"/>
                    <a:gd name="textAreaBottom" fmla="*/ 180000 h 179640"/>
                  </a:gdLst>
                  <a:ahLst/>
                  <a:rect l="textAreaLeft" t="textAreaTop" r="textAreaRight" b="textAreaBottom"/>
                  <a:pathLst>
                    <a:path w="1444" h="1107">
                      <a:moveTo>
                        <a:pt x="0" y="0"/>
                      </a:moveTo>
                      <a:lnTo>
                        <a:pt x="0" y="722"/>
                      </a:lnTo>
                      <a:lnTo>
                        <a:pt x="1444" y="1107"/>
                      </a:lnTo>
                      <a:lnTo>
                        <a:pt x="1444" y="38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08"/>
                <p:cNvSpPr/>
                <p:nvPr/>
              </p:nvSpPr>
              <p:spPr>
                <a:xfrm flipH="1">
                  <a:off x="6850080" y="3862440"/>
                  <a:ext cx="96120" cy="264600"/>
                </a:xfrm>
                <a:custGeom>
                  <a:avLst/>
                  <a:gdLst>
                    <a:gd name="textAreaLeft" fmla="*/ -360 w 96120"/>
                    <a:gd name="textAreaRight" fmla="*/ 96120 w 96120"/>
                    <a:gd name="textAreaTop" fmla="*/ 0 h 264600"/>
                    <a:gd name="textAreaBottom" fmla="*/ 264960 h 264600"/>
                  </a:gdLst>
                  <a:ahLst/>
                  <a:rect l="textAreaLeft" t="textAreaTop" r="textAreaRight" b="textAreaBottom"/>
                  <a:pathLst>
                    <a:path w="593" h="1630">
                      <a:moveTo>
                        <a:pt x="0" y="0"/>
                      </a:moveTo>
                      <a:lnTo>
                        <a:pt x="593" y="161"/>
                      </a:lnTo>
                      <a:lnTo>
                        <a:pt x="593" y="1630"/>
                      </a:lnTo>
                      <a:lnTo>
                        <a:pt x="279" y="1545"/>
                      </a:lnTo>
                      <a:lnTo>
                        <a:pt x="0" y="96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509"/>
                <p:cNvSpPr/>
                <p:nvPr/>
              </p:nvSpPr>
              <p:spPr>
                <a:xfrm flipH="1">
                  <a:off x="6861240" y="3881160"/>
                  <a:ext cx="73440" cy="121320"/>
                </a:xfrm>
                <a:custGeom>
                  <a:avLst/>
                  <a:gdLst>
                    <a:gd name="textAreaLeft" fmla="*/ 360 w 73440"/>
                    <a:gd name="textAreaRight" fmla="*/ 74160 w 73440"/>
                    <a:gd name="textAreaTop" fmla="*/ 0 h 121320"/>
                    <a:gd name="textAreaBottom" fmla="*/ 121680 h 121320"/>
                  </a:gdLst>
                  <a:ahLst/>
                  <a:rect l="textAreaLeft" t="textAreaTop" r="textAreaRight" b="textAreaBottom"/>
                  <a:pathLst>
                    <a:path w="452" h="747">
                      <a:moveTo>
                        <a:pt x="0" y="0"/>
                      </a:moveTo>
                      <a:lnTo>
                        <a:pt x="0" y="626"/>
                      </a:lnTo>
                      <a:lnTo>
                        <a:pt x="452" y="747"/>
                      </a:lnTo>
                      <a:lnTo>
                        <a:pt x="452" y="1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5e2ff"/>
                    </a:gs>
                    <a:gs pos="100000">
                      <a:srgbClr val="3399ff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510"/>
                <p:cNvSpPr/>
                <p:nvPr/>
              </p:nvSpPr>
              <p:spPr>
                <a:xfrm flipH="1">
                  <a:off x="6958080" y="3895200"/>
                  <a:ext cx="27000" cy="788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67" h="487">
                      <a:moveTo>
                        <a:pt x="0" y="487"/>
                      </a:moveTo>
                      <a:lnTo>
                        <a:pt x="0" y="45"/>
                      </a:lnTo>
                      <a:lnTo>
                        <a:pt x="167" y="0"/>
                      </a:lnTo>
                      <a:lnTo>
                        <a:pt x="167" y="442"/>
                      </a:lnTo>
                      <a:lnTo>
                        <a:pt x="0" y="48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5e2ff"/>
                    </a:gs>
                    <a:gs pos="100000">
                      <a:srgbClr val="3399ff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Freeform 511"/>
                <p:cNvSpPr/>
                <p:nvPr/>
              </p:nvSpPr>
              <p:spPr>
                <a:xfrm flipH="1">
                  <a:off x="6985440" y="3901320"/>
                  <a:ext cx="5040" cy="72720"/>
                </a:xfrm>
                <a:custGeom>
                  <a:avLst/>
                  <a:gdLst>
                    <a:gd name="textAreaLeft" fmla="*/ 360 w 5040"/>
                    <a:gd name="textAreaRight" fmla="*/ 5760 w 50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31" h="449">
                      <a:moveTo>
                        <a:pt x="31" y="7"/>
                      </a:moveTo>
                      <a:lnTo>
                        <a:pt x="0" y="0"/>
                      </a:lnTo>
                      <a:lnTo>
                        <a:pt x="0" y="439"/>
                      </a:lnTo>
                      <a:lnTo>
                        <a:pt x="31" y="449"/>
                      </a:lnTo>
                      <a:lnTo>
                        <a:pt x="31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512"/>
                <p:cNvSpPr/>
                <p:nvPr/>
              </p:nvSpPr>
              <p:spPr>
                <a:xfrm flipH="1">
                  <a:off x="6958080" y="3893760"/>
                  <a:ext cx="32040" cy="8280"/>
                </a:xfrm>
                <a:custGeom>
                  <a:avLst/>
                  <a:gdLst>
                    <a:gd name="textAreaLeft" fmla="*/ -360 w 32040"/>
                    <a:gd name="textAreaRight" fmla="*/ 32040 w 3204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98" h="52">
                      <a:moveTo>
                        <a:pt x="198" y="7"/>
                      </a:moveTo>
                      <a:lnTo>
                        <a:pt x="165" y="0"/>
                      </a:lnTo>
                      <a:lnTo>
                        <a:pt x="0" y="45"/>
                      </a:lnTo>
                      <a:lnTo>
                        <a:pt x="31" y="52"/>
                      </a:lnTo>
                      <a:lnTo>
                        <a:pt x="198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513"/>
                <p:cNvSpPr/>
                <p:nvPr/>
              </p:nvSpPr>
              <p:spPr>
                <a:xfrm flipH="1">
                  <a:off x="6949800" y="3979440"/>
                  <a:ext cx="3960" cy="4680"/>
                </a:xfrm>
                <a:custGeom>
                  <a:avLst/>
                  <a:gdLst>
                    <a:gd name="textAreaLeft" fmla="*/ -360 w 3960"/>
                    <a:gd name="textAreaRight" fmla="*/ 3960 w 396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9" y="11"/>
                      </a:moveTo>
                      <a:cubicBezTo>
                        <a:pt x="8" y="13"/>
                        <a:pt x="4" y="11"/>
                        <a:pt x="2" y="9"/>
                      </a:cubicBezTo>
                      <a:cubicBezTo>
                        <a:pt x="0" y="6"/>
                        <a:pt x="0" y="3"/>
                        <a:pt x="2" y="1"/>
                      </a:cubicBezTo>
                      <a:cubicBezTo>
                        <a:pt x="4" y="0"/>
                        <a:pt x="7" y="1"/>
                        <a:pt x="9" y="4"/>
                      </a:cubicBezTo>
                      <a:cubicBezTo>
                        <a:pt x="11" y="6"/>
                        <a:pt x="11" y="10"/>
                        <a:pt x="9" y="1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514"/>
                <p:cNvSpPr/>
                <p:nvPr/>
              </p:nvSpPr>
              <p:spPr>
                <a:xfrm flipH="1">
                  <a:off x="6949800" y="3868560"/>
                  <a:ext cx="3960" cy="5040"/>
                </a:xfrm>
                <a:custGeom>
                  <a:avLst/>
                  <a:gdLst>
                    <a:gd name="textAreaLeft" fmla="*/ -360 w 3960"/>
                    <a:gd name="textAreaRight" fmla="*/ 3960 w 3960"/>
                    <a:gd name="textAreaTop" fmla="*/ 0 h 5040"/>
                    <a:gd name="textAreaBottom" fmla="*/ 5040 h 504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9" y="12"/>
                      </a:moveTo>
                      <a:cubicBezTo>
                        <a:pt x="8" y="13"/>
                        <a:pt x="4" y="12"/>
                        <a:pt x="2" y="9"/>
                      </a:cubicBezTo>
                      <a:cubicBezTo>
                        <a:pt x="0" y="7"/>
                        <a:pt x="0" y="3"/>
                        <a:pt x="2" y="2"/>
                      </a:cubicBezTo>
                      <a:cubicBezTo>
                        <a:pt x="4" y="0"/>
                        <a:pt x="7" y="1"/>
                        <a:pt x="9" y="4"/>
                      </a:cubicBezTo>
                      <a:cubicBezTo>
                        <a:pt x="11" y="7"/>
                        <a:pt x="11" y="10"/>
                        <a:pt x="9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515"/>
                <p:cNvSpPr/>
                <p:nvPr/>
              </p:nvSpPr>
              <p:spPr>
                <a:xfrm flipH="1">
                  <a:off x="6950880" y="3869640"/>
                  <a:ext cx="35640" cy="122760"/>
                </a:xfrm>
                <a:custGeom>
                  <a:avLst/>
                  <a:gdLst>
                    <a:gd name="textAreaLeft" fmla="*/ -360 w 35640"/>
                    <a:gd name="textAreaRight" fmla="*/ 35640 w 35640"/>
                    <a:gd name="textAreaTop" fmla="*/ 0 h 122760"/>
                    <a:gd name="textAreaBottom" fmla="*/ 123120 h 122760"/>
                  </a:gdLst>
                  <a:ahLst/>
                  <a:rect l="textAreaLeft" t="textAreaTop" r="textAreaRight" b="textAreaBottom"/>
                  <a:pathLst>
                    <a:path w="93" h="320">
                      <a:moveTo>
                        <a:pt x="0" y="24"/>
                      </a:moveTo>
                      <a:cubicBezTo>
                        <a:pt x="0" y="320"/>
                        <a:pt x="0" y="320"/>
                        <a:pt x="0" y="320"/>
                      </a:cubicBezTo>
                      <a:cubicBezTo>
                        <a:pt x="93" y="295"/>
                        <a:pt x="93" y="295"/>
                        <a:pt x="93" y="295"/>
                      </a:cubicBezTo>
                      <a:cubicBezTo>
                        <a:pt x="91" y="287"/>
                        <a:pt x="91" y="287"/>
                        <a:pt x="91" y="287"/>
                      </a:cubicBezTo>
                      <a:cubicBezTo>
                        <a:pt x="91" y="287"/>
                        <a:pt x="17" y="307"/>
                        <a:pt x="8" y="310"/>
                      </a:cubicBezTo>
                      <a:cubicBezTo>
                        <a:pt x="8" y="300"/>
                        <a:pt x="8" y="36"/>
                        <a:pt x="8" y="30"/>
                      </a:cubicBezTo>
                      <a:cubicBezTo>
                        <a:pt x="14" y="29"/>
                        <a:pt x="93" y="8"/>
                        <a:pt x="93" y="8"/>
                      </a:cubicBezTo>
                      <a:cubicBezTo>
                        <a:pt x="91" y="0"/>
                        <a:pt x="91" y="0"/>
                        <a:pt x="91" y="0"/>
                      </a:cubicBez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516"/>
                <p:cNvSpPr/>
                <p:nvPr/>
              </p:nvSpPr>
              <p:spPr>
                <a:xfrm flipH="1">
                  <a:off x="6476400" y="3912120"/>
                  <a:ext cx="94680" cy="243360"/>
                </a:xfrm>
                <a:custGeom>
                  <a:avLst/>
                  <a:gdLst>
                    <a:gd name="textAreaLeft" fmla="*/ -360 w 94680"/>
                    <a:gd name="textAreaRight" fmla="*/ 94680 w 94680"/>
                    <a:gd name="textAreaTop" fmla="*/ 0 h 243360"/>
                    <a:gd name="textAreaBottom" fmla="*/ 243720 h 243360"/>
                  </a:gdLst>
                  <a:ahLst/>
                  <a:rect l="textAreaLeft" t="textAreaTop" r="textAreaRight" b="textAreaBottom"/>
                  <a:pathLst>
                    <a:path w="584" h="1498">
                      <a:moveTo>
                        <a:pt x="0" y="159"/>
                      </a:moveTo>
                      <a:lnTo>
                        <a:pt x="0" y="1498"/>
                      </a:lnTo>
                      <a:lnTo>
                        <a:pt x="584" y="1342"/>
                      </a:lnTo>
                      <a:lnTo>
                        <a:pt x="584" y="0"/>
                      </a:lnTo>
                      <a:lnTo>
                        <a:pt x="0" y="15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17"/>
                <p:cNvSpPr/>
                <p:nvPr/>
              </p:nvSpPr>
              <p:spPr>
                <a:xfrm flipH="1">
                  <a:off x="6381360" y="3887280"/>
                  <a:ext cx="94680" cy="243000"/>
                </a:xfrm>
                <a:custGeom>
                  <a:avLst/>
                  <a:gdLst>
                    <a:gd name="textAreaLeft" fmla="*/ -360 w 94680"/>
                    <a:gd name="textAreaRight" fmla="*/ 94680 w 9468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583" h="1497">
                      <a:moveTo>
                        <a:pt x="583" y="0"/>
                      </a:moveTo>
                      <a:lnTo>
                        <a:pt x="0" y="155"/>
                      </a:lnTo>
                      <a:lnTo>
                        <a:pt x="0" y="1497"/>
                      </a:lnTo>
                      <a:lnTo>
                        <a:pt x="583" y="1339"/>
                      </a:lnTo>
                      <a:lnTo>
                        <a:pt x="58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518"/>
                <p:cNvSpPr/>
                <p:nvPr/>
              </p:nvSpPr>
              <p:spPr>
                <a:xfrm flipH="1">
                  <a:off x="6370920" y="4123080"/>
                  <a:ext cx="12960" cy="147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4" h="39">
                      <a:moveTo>
                        <a:pt x="6" y="34"/>
                      </a:moveTo>
                      <a:cubicBezTo>
                        <a:pt x="11" y="39"/>
                        <a:pt x="21" y="36"/>
                        <a:pt x="27" y="27"/>
                      </a:cubicBezTo>
                      <a:cubicBezTo>
                        <a:pt x="34" y="19"/>
                        <a:pt x="34" y="9"/>
                        <a:pt x="29" y="5"/>
                      </a:cubicBezTo>
                      <a:cubicBezTo>
                        <a:pt x="23" y="0"/>
                        <a:pt x="13" y="4"/>
                        <a:pt x="7" y="12"/>
                      </a:cubicBezTo>
                      <a:cubicBezTo>
                        <a:pt x="1" y="20"/>
                        <a:pt x="0" y="30"/>
                        <a:pt x="6" y="3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40505"/>
                    </a:gs>
                    <a:gs pos="100000">
                      <a:srgbClr val="dddddd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519"/>
                <p:cNvSpPr/>
                <p:nvPr/>
              </p:nvSpPr>
              <p:spPr>
                <a:xfrm flipH="1">
                  <a:off x="6567840" y="4177080"/>
                  <a:ext cx="12960" cy="147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4" h="39">
                      <a:moveTo>
                        <a:pt x="6" y="34"/>
                      </a:moveTo>
                      <a:cubicBezTo>
                        <a:pt x="12" y="39"/>
                        <a:pt x="21" y="36"/>
                        <a:pt x="27" y="27"/>
                      </a:cubicBezTo>
                      <a:cubicBezTo>
                        <a:pt x="34" y="19"/>
                        <a:pt x="34" y="9"/>
                        <a:pt x="29" y="5"/>
                      </a:cubicBezTo>
                      <a:cubicBezTo>
                        <a:pt x="23" y="0"/>
                        <a:pt x="13" y="4"/>
                        <a:pt x="7" y="12"/>
                      </a:cubicBezTo>
                      <a:cubicBezTo>
                        <a:pt x="1" y="20"/>
                        <a:pt x="0" y="30"/>
                        <a:pt x="6" y="3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40505"/>
                    </a:gs>
                    <a:gs pos="100000">
                      <a:srgbClr val="dddddd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520"/>
                <p:cNvSpPr/>
                <p:nvPr/>
              </p:nvSpPr>
              <p:spPr>
                <a:xfrm flipH="1">
                  <a:off x="6568920" y="4164120"/>
                  <a:ext cx="10800" cy="12240"/>
                </a:xfrm>
                <a:custGeom>
                  <a:avLst/>
                  <a:gdLst>
                    <a:gd name="textAreaLeft" fmla="*/ 360 w 10800"/>
                    <a:gd name="textAreaRight" fmla="*/ 11520 w 1080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5"/>
                        <a:pt x="28" y="7"/>
                        <a:pt x="24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6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269"/>
                    </a:gs>
                    <a:gs pos="100000">
                      <a:srgbClr val="dddddd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521"/>
                <p:cNvSpPr/>
                <p:nvPr/>
              </p:nvSpPr>
              <p:spPr>
                <a:xfrm flipH="1">
                  <a:off x="6372000" y="4110120"/>
                  <a:ext cx="10440" cy="1224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5"/>
                        <a:pt x="28" y="7"/>
                        <a:pt x="23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6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269"/>
                    </a:gs>
                    <a:gs pos="100000">
                      <a:srgbClr val="dddddd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522"/>
                <p:cNvSpPr/>
                <p:nvPr/>
              </p:nvSpPr>
              <p:spPr>
                <a:xfrm flipH="1">
                  <a:off x="6568920" y="3924360"/>
                  <a:ext cx="10800" cy="11880"/>
                </a:xfrm>
                <a:custGeom>
                  <a:avLst/>
                  <a:gdLst>
                    <a:gd name="textAreaLeft" fmla="*/ 360 w 10800"/>
                    <a:gd name="textAreaRight" fmla="*/ 11520 w 1080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6"/>
                        <a:pt x="28" y="7"/>
                        <a:pt x="24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7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269"/>
                    </a:gs>
                    <a:gs pos="100000">
                      <a:srgbClr val="dddddd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523"/>
                <p:cNvSpPr/>
                <p:nvPr/>
              </p:nvSpPr>
              <p:spPr>
                <a:xfrm flipH="1">
                  <a:off x="6372000" y="387036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6"/>
                        <a:pt x="28" y="7"/>
                        <a:pt x="23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7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269"/>
                    </a:gs>
                    <a:gs pos="100000">
                      <a:srgbClr val="dddddd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524"/>
                <p:cNvSpPr/>
                <p:nvPr/>
              </p:nvSpPr>
              <p:spPr>
                <a:xfrm flipH="1">
                  <a:off x="6482880" y="4018680"/>
                  <a:ext cx="11520" cy="2952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71" h="182">
                      <a:moveTo>
                        <a:pt x="0" y="19"/>
                      </a:moveTo>
                      <a:lnTo>
                        <a:pt x="0" y="182"/>
                      </a:lnTo>
                      <a:lnTo>
                        <a:pt x="71" y="163"/>
                      </a:lnTo>
                      <a:lnTo>
                        <a:pt x="71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525"/>
                <p:cNvSpPr/>
                <p:nvPr/>
              </p:nvSpPr>
              <p:spPr>
                <a:xfrm flipH="1">
                  <a:off x="6460200" y="4013640"/>
                  <a:ext cx="11520" cy="2952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71" h="182">
                      <a:moveTo>
                        <a:pt x="0" y="19"/>
                      </a:moveTo>
                      <a:lnTo>
                        <a:pt x="0" y="182"/>
                      </a:lnTo>
                      <a:lnTo>
                        <a:pt x="71" y="163"/>
                      </a:lnTo>
                      <a:lnTo>
                        <a:pt x="71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526"/>
                <p:cNvSpPr/>
                <p:nvPr/>
              </p:nvSpPr>
              <p:spPr>
                <a:xfrm flipH="1">
                  <a:off x="7013520" y="4061160"/>
                  <a:ext cx="25200" cy="25920"/>
                </a:xfrm>
                <a:custGeom>
                  <a:avLst/>
                  <a:gdLst>
                    <a:gd name="textAreaLeft" fmla="*/ 360 w 25200"/>
                    <a:gd name="textAreaRight" fmla="*/ 25920 w 2520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66" h="68">
                      <a:moveTo>
                        <a:pt x="66" y="68"/>
                      </a:moveTo>
                      <a:cubicBezTo>
                        <a:pt x="6" y="58"/>
                        <a:pt x="13" y="56"/>
                        <a:pt x="13" y="43"/>
                      </a:cubicBezTo>
                      <a:cubicBezTo>
                        <a:pt x="13" y="31"/>
                        <a:pt x="0" y="0"/>
                        <a:pt x="13" y="0"/>
                      </a:cubicBezTo>
                      <a:cubicBezTo>
                        <a:pt x="26" y="0"/>
                        <a:pt x="54" y="12"/>
                        <a:pt x="66" y="12"/>
                      </a:cubicBezTo>
                      <a:lnTo>
                        <a:pt x="66" y="6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8" name=""/>
            <p:cNvGrpSpPr/>
            <p:nvPr/>
          </p:nvGrpSpPr>
          <p:grpSpPr>
            <a:xfrm>
              <a:off x="6545520" y="4146480"/>
              <a:ext cx="1863000" cy="749520"/>
              <a:chOff x="6545520" y="4146480"/>
              <a:chExt cx="1863000" cy="749520"/>
            </a:xfrm>
          </p:grpSpPr>
          <p:sp>
            <p:nvSpPr>
              <p:cNvPr id="739" name="Freeform 528"/>
              <p:cNvSpPr/>
              <p:nvPr/>
            </p:nvSpPr>
            <p:spPr>
              <a:xfrm>
                <a:off x="6545520" y="4428360"/>
                <a:ext cx="1747800" cy="467640"/>
              </a:xfrm>
              <a:custGeom>
                <a:avLst/>
                <a:gdLst>
                  <a:gd name="textAreaLeft" fmla="*/ 0 w 1747800"/>
                  <a:gd name="textAreaRight" fmla="*/ 1748160 w 1747800"/>
                  <a:gd name="textAreaTop" fmla="*/ 0 h 467640"/>
                  <a:gd name="textAreaBottom" fmla="*/ 468000 h 467640"/>
                </a:gdLst>
                <a:ahLst/>
                <a:rect l="textAreaLeft" t="textAreaTop" r="textAreaRight" b="textAreaBottom"/>
                <a:pathLst>
                  <a:path w="161" h="44">
                    <a:moveTo>
                      <a:pt x="0" y="22"/>
                    </a:moveTo>
                    <a:lnTo>
                      <a:pt x="81" y="0"/>
                    </a:lnTo>
                    <a:lnTo>
                      <a:pt x="161" y="22"/>
                    </a:lnTo>
                    <a:lnTo>
                      <a:pt x="81" y="44"/>
                    </a:lnTo>
                    <a:lnTo>
                      <a:pt x="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acaca"/>
                  </a:gs>
                  <a:gs pos="100000">
                    <a:srgbClr val="b2b2b2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  <a:effectLst>
                <a:outerShdw dist="12600" dir="54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0" name=""/>
              <p:cNvGrpSpPr/>
              <p:nvPr/>
            </p:nvGrpSpPr>
            <p:grpSpPr>
              <a:xfrm>
                <a:off x="7446960" y="4379400"/>
                <a:ext cx="151200" cy="280440"/>
                <a:chOff x="7446960" y="4379400"/>
                <a:chExt cx="151200" cy="280440"/>
              </a:xfrm>
            </p:grpSpPr>
            <p:grpSp>
              <p:nvGrpSpPr>
                <p:cNvPr id="741" name=""/>
                <p:cNvGrpSpPr/>
                <p:nvPr/>
              </p:nvGrpSpPr>
              <p:grpSpPr>
                <a:xfrm>
                  <a:off x="7482600" y="4418640"/>
                  <a:ext cx="115560" cy="90000"/>
                  <a:chOff x="7482600" y="4418640"/>
                  <a:chExt cx="115560" cy="90000"/>
                </a:xfrm>
              </p:grpSpPr>
              <p:sp>
                <p:nvSpPr>
                  <p:cNvPr id="742" name="Freeform 531"/>
                  <p:cNvSpPr/>
                  <p:nvPr/>
                </p:nvSpPr>
                <p:spPr>
                  <a:xfrm flipH="1">
                    <a:off x="7482240" y="4418640"/>
                    <a:ext cx="115560" cy="30960"/>
                  </a:xfrm>
                  <a:custGeom>
                    <a:avLst/>
                    <a:gdLst>
                      <a:gd name="textAreaLeft" fmla="*/ -360 w 115560"/>
                      <a:gd name="textAreaRight" fmla="*/ 115560 w 115560"/>
                      <a:gd name="textAreaTop" fmla="*/ 0 h 30960"/>
                      <a:gd name="textAreaBottom" fmla="*/ 31320 h 30960"/>
                    </a:gdLst>
                    <a:ahLst/>
                    <a:rect l="textAreaLeft" t="textAreaTop" r="textAreaRight" b="textAreaBottom"/>
                    <a:pathLst>
                      <a:path w="904" h="244">
                        <a:moveTo>
                          <a:pt x="0" y="123"/>
                        </a:moveTo>
                        <a:lnTo>
                          <a:pt x="451" y="0"/>
                        </a:lnTo>
                        <a:lnTo>
                          <a:pt x="904" y="123"/>
                        </a:lnTo>
                        <a:lnTo>
                          <a:pt x="451" y="244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Freeform 532"/>
                  <p:cNvSpPr/>
                  <p:nvPr/>
                </p:nvSpPr>
                <p:spPr>
                  <a:xfrm flipH="1">
                    <a:off x="7482240" y="4434120"/>
                    <a:ext cx="57960" cy="74520"/>
                  </a:xfrm>
                  <a:custGeom>
                    <a:avLst/>
                    <a:gdLst>
                      <a:gd name="textAreaLeft" fmla="*/ -360 w 57960"/>
                      <a:gd name="textAreaRight" fmla="*/ 57960 w 5796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3" h="589">
                        <a:moveTo>
                          <a:pt x="0" y="589"/>
                        </a:moveTo>
                        <a:lnTo>
                          <a:pt x="0" y="121"/>
                        </a:lnTo>
                        <a:lnTo>
                          <a:pt x="453" y="0"/>
                        </a:lnTo>
                        <a:lnTo>
                          <a:pt x="453" y="468"/>
                        </a:lnTo>
                        <a:lnTo>
                          <a:pt x="0" y="589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Freeform 533"/>
                  <p:cNvSpPr/>
                  <p:nvPr/>
                </p:nvSpPr>
                <p:spPr>
                  <a:xfrm flipH="1">
                    <a:off x="7540560" y="4434120"/>
                    <a:ext cx="57600" cy="74520"/>
                  </a:xfrm>
                  <a:custGeom>
                    <a:avLst/>
                    <a:gdLst>
                      <a:gd name="textAreaLeft" fmla="*/ 360 w 57600"/>
                      <a:gd name="textAreaRight" fmla="*/ 58320 w 57600"/>
                      <a:gd name="textAreaTop" fmla="*/ 0 h 74520"/>
                      <a:gd name="textAreaBottom" fmla="*/ 74880 h 74520"/>
                    </a:gdLst>
                    <a:ahLst/>
                    <a:rect l="textAreaLeft" t="textAreaTop" r="textAreaRight" b="textAreaBottom"/>
                    <a:pathLst>
                      <a:path w="451" h="589">
                        <a:moveTo>
                          <a:pt x="0" y="0"/>
                        </a:moveTo>
                        <a:lnTo>
                          <a:pt x="0" y="468"/>
                        </a:lnTo>
                        <a:lnTo>
                          <a:pt x="451" y="589"/>
                        </a:lnTo>
                        <a:lnTo>
                          <a:pt x="451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5" name=""/>
                <p:cNvGrpSpPr/>
                <p:nvPr/>
              </p:nvGrpSpPr>
              <p:grpSpPr>
                <a:xfrm>
                  <a:off x="7446960" y="4379760"/>
                  <a:ext cx="135000" cy="280080"/>
                  <a:chOff x="7446960" y="4379760"/>
                  <a:chExt cx="135000" cy="280080"/>
                </a:xfrm>
              </p:grpSpPr>
              <p:sp>
                <p:nvSpPr>
                  <p:cNvPr id="746" name="Freeform 535"/>
                  <p:cNvSpPr/>
                  <p:nvPr/>
                </p:nvSpPr>
                <p:spPr>
                  <a:xfrm>
                    <a:off x="7446960" y="4416480"/>
                    <a:ext cx="135000" cy="11376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113760"/>
                      <a:gd name="textAreaBottom" fmla="*/ 114120 h 113760"/>
                    </a:gdLst>
                    <a:ahLst/>
                    <a:rect l="textAreaLeft" t="textAreaTop" r="textAreaRight" b="textAreaBottom"/>
                    <a:pathLst>
                      <a:path w="226" h="191">
                        <a:moveTo>
                          <a:pt x="186" y="107"/>
                        </a:moveTo>
                        <a:cubicBezTo>
                          <a:pt x="184" y="108"/>
                          <a:pt x="175" y="110"/>
                          <a:pt x="164" y="113"/>
                        </a:cubicBezTo>
                        <a:cubicBezTo>
                          <a:pt x="159" y="84"/>
                          <a:pt x="155" y="57"/>
                          <a:pt x="154" y="49"/>
                        </a:cubicBezTo>
                        <a:cubicBezTo>
                          <a:pt x="151" y="32"/>
                          <a:pt x="136" y="27"/>
                          <a:pt x="128" y="24"/>
                        </a:cubicBezTo>
                        <a:cubicBezTo>
                          <a:pt x="120" y="21"/>
                          <a:pt x="98" y="16"/>
                          <a:pt x="85" y="13"/>
                        </a:cubicBezTo>
                        <a:cubicBezTo>
                          <a:pt x="73" y="9"/>
                          <a:pt x="54" y="3"/>
                          <a:pt x="45" y="2"/>
                        </a:cubicBezTo>
                        <a:cubicBezTo>
                          <a:pt x="36" y="0"/>
                          <a:pt x="18" y="4"/>
                          <a:pt x="15" y="12"/>
                        </a:cubicBezTo>
                        <a:cubicBezTo>
                          <a:pt x="14" y="14"/>
                          <a:pt x="8" y="50"/>
                          <a:pt x="2" y="85"/>
                        </a:cubicBezTo>
                        <a:cubicBezTo>
                          <a:pt x="2" y="85"/>
                          <a:pt x="2" y="85"/>
                          <a:pt x="2" y="85"/>
                        </a:cubicBezTo>
                        <a:cubicBezTo>
                          <a:pt x="1" y="89"/>
                          <a:pt x="1" y="89"/>
                          <a:pt x="1" y="89"/>
                        </a:cubicBezTo>
                        <a:cubicBezTo>
                          <a:pt x="1" y="89"/>
                          <a:pt x="1" y="89"/>
                          <a:pt x="1" y="89"/>
                        </a:cubicBezTo>
                        <a:cubicBezTo>
                          <a:pt x="0" y="98"/>
                          <a:pt x="3" y="104"/>
                          <a:pt x="8" y="106"/>
                        </a:cubicBezTo>
                        <a:cubicBezTo>
                          <a:pt x="12" y="108"/>
                          <a:pt x="17" y="107"/>
                          <a:pt x="23" y="106"/>
                        </a:cubicBezTo>
                        <a:cubicBezTo>
                          <a:pt x="29" y="105"/>
                          <a:pt x="29" y="105"/>
                          <a:pt x="29" y="105"/>
                        </a:cubicBezTo>
                        <a:cubicBezTo>
                          <a:pt x="29" y="105"/>
                          <a:pt x="29" y="105"/>
                          <a:pt x="29" y="105"/>
                        </a:cubicBezTo>
                        <a:cubicBezTo>
                          <a:pt x="30" y="104"/>
                          <a:pt x="31" y="104"/>
                          <a:pt x="32" y="104"/>
                        </a:cubicBezTo>
                        <a:cubicBezTo>
                          <a:pt x="34" y="103"/>
                          <a:pt x="36" y="103"/>
                          <a:pt x="38" y="102"/>
                        </a:cubicBezTo>
                        <a:cubicBezTo>
                          <a:pt x="39" y="68"/>
                          <a:pt x="39" y="68"/>
                          <a:pt x="39" y="68"/>
                        </a:cubicBezTo>
                        <a:cubicBezTo>
                          <a:pt x="38" y="68"/>
                          <a:pt x="37" y="69"/>
                          <a:pt x="36" y="69"/>
                        </a:cubicBezTo>
                        <a:cubicBezTo>
                          <a:pt x="38" y="54"/>
                          <a:pt x="39" y="44"/>
                          <a:pt x="39" y="47"/>
                        </a:cubicBezTo>
                        <a:cubicBezTo>
                          <a:pt x="39" y="53"/>
                          <a:pt x="38" y="122"/>
                          <a:pt x="38" y="165"/>
                        </a:cubicBezTo>
                        <a:cubicBezTo>
                          <a:pt x="39" y="170"/>
                          <a:pt x="41" y="175"/>
                          <a:pt x="47" y="175"/>
                        </a:cubicBezTo>
                        <a:cubicBezTo>
                          <a:pt x="59" y="178"/>
                          <a:pt x="91" y="188"/>
                          <a:pt x="98" y="189"/>
                        </a:cubicBezTo>
                        <a:cubicBezTo>
                          <a:pt x="106" y="191"/>
                          <a:pt x="122" y="181"/>
                          <a:pt x="125" y="170"/>
                        </a:cubicBezTo>
                        <a:cubicBezTo>
                          <a:pt x="125" y="168"/>
                          <a:pt x="125" y="155"/>
                          <a:pt x="125" y="153"/>
                        </a:cubicBezTo>
                        <a:cubicBezTo>
                          <a:pt x="125" y="124"/>
                          <a:pt x="125" y="124"/>
                          <a:pt x="125" y="124"/>
                        </a:cubicBezTo>
                        <a:cubicBezTo>
                          <a:pt x="125" y="111"/>
                          <a:pt x="124" y="99"/>
                          <a:pt x="123" y="88"/>
                        </a:cubicBezTo>
                        <a:cubicBezTo>
                          <a:pt x="122" y="82"/>
                          <a:pt x="122" y="78"/>
                          <a:pt x="121" y="75"/>
                        </a:cubicBezTo>
                        <a:cubicBezTo>
                          <a:pt x="121" y="73"/>
                          <a:pt x="121" y="72"/>
                          <a:pt x="121" y="71"/>
                        </a:cubicBezTo>
                        <a:cubicBezTo>
                          <a:pt x="121" y="72"/>
                          <a:pt x="121" y="73"/>
                          <a:pt x="121" y="75"/>
                        </a:cubicBezTo>
                        <a:cubicBezTo>
                          <a:pt x="122" y="79"/>
                          <a:pt x="123" y="83"/>
                          <a:pt x="123" y="88"/>
                        </a:cubicBezTo>
                        <a:cubicBezTo>
                          <a:pt x="124" y="96"/>
                          <a:pt x="126" y="107"/>
                          <a:pt x="128" y="121"/>
                        </a:cubicBezTo>
                        <a:cubicBezTo>
                          <a:pt x="129" y="122"/>
                          <a:pt x="129" y="122"/>
                          <a:pt x="129" y="123"/>
                        </a:cubicBezTo>
                        <a:cubicBezTo>
                          <a:pt x="129" y="123"/>
                          <a:pt x="129" y="123"/>
                          <a:pt x="129" y="123"/>
                        </a:cubicBezTo>
                        <a:cubicBezTo>
                          <a:pt x="129" y="127"/>
                          <a:pt x="129" y="127"/>
                          <a:pt x="129" y="127"/>
                        </a:cubicBezTo>
                        <a:cubicBezTo>
                          <a:pt x="131" y="137"/>
                          <a:pt x="134" y="143"/>
                          <a:pt x="137" y="147"/>
                        </a:cubicBezTo>
                        <a:cubicBezTo>
                          <a:pt x="141" y="151"/>
                          <a:pt x="145" y="152"/>
                          <a:pt x="151" y="153"/>
                        </a:cubicBezTo>
                        <a:cubicBezTo>
                          <a:pt x="166" y="149"/>
                          <a:pt x="181" y="144"/>
                          <a:pt x="199" y="139"/>
                        </a:cubicBezTo>
                        <a:cubicBezTo>
                          <a:pt x="226" y="131"/>
                          <a:pt x="210" y="99"/>
                          <a:pt x="186" y="107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3582c"/>
                      </a:gs>
                      <a:gs pos="50000">
                        <a:srgbClr val="996633"/>
                      </a:gs>
                      <a:gs pos="100000">
                        <a:srgbClr val="83582c"/>
                      </a:gs>
                    </a:gsLst>
                    <a:lin ang="108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Freeform 536"/>
                  <p:cNvSpPr/>
                  <p:nvPr/>
                </p:nvSpPr>
                <p:spPr>
                  <a:xfrm>
                    <a:off x="7477200" y="4410720"/>
                    <a:ext cx="35640" cy="21240"/>
                  </a:xfrm>
                  <a:custGeom>
                    <a:avLst/>
                    <a:gdLst>
                      <a:gd name="textAreaLeft" fmla="*/ 0 w 35640"/>
                      <a:gd name="textAreaRight" fmla="*/ 36000 w 35640"/>
                      <a:gd name="textAreaTop" fmla="*/ 0 h 21240"/>
                      <a:gd name="textAreaBottom" fmla="*/ 21600 h 21240"/>
                    </a:gdLst>
                    <a:ahLst/>
                    <a:rect l="textAreaLeft" t="textAreaTop" r="textAreaRight" b="textAreaBottom"/>
                    <a:pathLst>
                      <a:path w="60" h="36">
                        <a:moveTo>
                          <a:pt x="27" y="34"/>
                        </a:moveTo>
                        <a:cubicBezTo>
                          <a:pt x="13" y="33"/>
                          <a:pt x="0" y="22"/>
                          <a:pt x="9" y="20"/>
                        </a:cubicBezTo>
                        <a:cubicBezTo>
                          <a:pt x="15" y="19"/>
                          <a:pt x="12" y="13"/>
                          <a:pt x="14" y="11"/>
                        </a:cubicBezTo>
                        <a:cubicBezTo>
                          <a:pt x="17" y="8"/>
                          <a:pt x="48" y="0"/>
                          <a:pt x="48" y="14"/>
                        </a:cubicBezTo>
                        <a:cubicBezTo>
                          <a:pt x="48" y="18"/>
                          <a:pt x="43" y="22"/>
                          <a:pt x="51" y="26"/>
                        </a:cubicBezTo>
                        <a:cubicBezTo>
                          <a:pt x="60" y="29"/>
                          <a:pt x="41" y="36"/>
                          <a:pt x="27" y="34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Freeform 537"/>
                  <p:cNvSpPr/>
                  <p:nvPr/>
                </p:nvSpPr>
                <p:spPr>
                  <a:xfrm>
                    <a:off x="7467480" y="4514040"/>
                    <a:ext cx="54000" cy="14580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145800"/>
                      <a:gd name="textAreaBottom" fmla="*/ 146160 h 145800"/>
                    </a:gdLst>
                    <a:ahLst/>
                    <a:rect l="textAreaLeft" t="textAreaTop" r="textAreaRight" b="textAreaBottom"/>
                    <a:pathLst>
                      <a:path w="90" h="245">
                        <a:moveTo>
                          <a:pt x="89" y="156"/>
                        </a:moveTo>
                        <a:cubicBezTo>
                          <a:pt x="89" y="141"/>
                          <a:pt x="90" y="47"/>
                          <a:pt x="89" y="7"/>
                        </a:cubicBezTo>
                        <a:cubicBezTo>
                          <a:pt x="89" y="6"/>
                          <a:pt x="89" y="6"/>
                          <a:pt x="89" y="5"/>
                        </a:cubicBezTo>
                        <a:cubicBezTo>
                          <a:pt x="87" y="16"/>
                          <a:pt x="71" y="22"/>
                          <a:pt x="63" y="20"/>
                        </a:cubicBezTo>
                        <a:cubicBezTo>
                          <a:pt x="55" y="20"/>
                          <a:pt x="24" y="13"/>
                          <a:pt x="12" y="10"/>
                        </a:cubicBezTo>
                        <a:cubicBezTo>
                          <a:pt x="6" y="10"/>
                          <a:pt x="4" y="5"/>
                          <a:pt x="2" y="0"/>
                        </a:cubicBezTo>
                        <a:cubicBezTo>
                          <a:pt x="2" y="18"/>
                          <a:pt x="3" y="32"/>
                          <a:pt x="3" y="36"/>
                        </a:cubicBezTo>
                        <a:cubicBezTo>
                          <a:pt x="3" y="49"/>
                          <a:pt x="0" y="181"/>
                          <a:pt x="2" y="205"/>
                        </a:cubicBezTo>
                        <a:cubicBezTo>
                          <a:pt x="3" y="228"/>
                          <a:pt x="43" y="225"/>
                          <a:pt x="43" y="205"/>
                        </a:cubicBezTo>
                        <a:cubicBezTo>
                          <a:pt x="43" y="171"/>
                          <a:pt x="46" y="55"/>
                          <a:pt x="45" y="51"/>
                        </a:cubicBezTo>
                        <a:cubicBezTo>
                          <a:pt x="45" y="47"/>
                          <a:pt x="36" y="47"/>
                          <a:pt x="36" y="40"/>
                        </a:cubicBezTo>
                        <a:cubicBezTo>
                          <a:pt x="36" y="47"/>
                          <a:pt x="45" y="47"/>
                          <a:pt x="45" y="51"/>
                        </a:cubicBezTo>
                        <a:cubicBezTo>
                          <a:pt x="46" y="55"/>
                          <a:pt x="43" y="171"/>
                          <a:pt x="43" y="205"/>
                        </a:cubicBezTo>
                        <a:cubicBezTo>
                          <a:pt x="43" y="207"/>
                          <a:pt x="44" y="211"/>
                          <a:pt x="44" y="211"/>
                        </a:cubicBezTo>
                        <a:cubicBezTo>
                          <a:pt x="46" y="245"/>
                          <a:pt x="87" y="235"/>
                          <a:pt x="88" y="218"/>
                        </a:cubicBezTo>
                        <a:cubicBezTo>
                          <a:pt x="90" y="201"/>
                          <a:pt x="88" y="171"/>
                          <a:pt x="89" y="15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3582c"/>
                      </a:gs>
                      <a:gs pos="50000">
                        <a:srgbClr val="996633"/>
                      </a:gs>
                      <a:gs pos="100000">
                        <a:srgbClr val="83582c"/>
                      </a:gs>
                    </a:gsLst>
                    <a:lin ang="108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Oval 538"/>
                  <p:cNvSpPr/>
                  <p:nvPr/>
                </p:nvSpPr>
                <p:spPr>
                  <a:xfrm flipH="1">
                    <a:off x="7471080" y="4379760"/>
                    <a:ext cx="47160" cy="47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0" name=""/>
                <p:cNvGrpSpPr/>
                <p:nvPr/>
              </p:nvGrpSpPr>
              <p:grpSpPr>
                <a:xfrm>
                  <a:off x="7471080" y="4379400"/>
                  <a:ext cx="57600" cy="30600"/>
                  <a:chOff x="7471080" y="4379400"/>
                  <a:chExt cx="57600" cy="30600"/>
                </a:xfrm>
              </p:grpSpPr>
              <p:sp>
                <p:nvSpPr>
                  <p:cNvPr id="751" name="Freeform 540"/>
                  <p:cNvSpPr/>
                  <p:nvPr/>
                </p:nvSpPr>
                <p:spPr>
                  <a:xfrm>
                    <a:off x="7511400" y="4383000"/>
                    <a:ext cx="17280" cy="13680"/>
                  </a:xfrm>
                  <a:custGeom>
                    <a:avLst/>
                    <a:gdLst>
                      <a:gd name="textAreaLeft" fmla="*/ 0 w 17280"/>
                      <a:gd name="textAreaRight" fmla="*/ 17640 w 17280"/>
                      <a:gd name="textAreaTop" fmla="*/ 0 h 13680"/>
                      <a:gd name="textAreaBottom" fmla="*/ 14040 h 13680"/>
                    </a:gdLst>
                    <a:ahLst/>
                    <a:rect l="textAreaLeft" t="textAreaTop" r="textAreaRight" b="textAreaBottom"/>
                    <a:pathLst>
                      <a:path w="28" h="22">
                        <a:moveTo>
                          <a:pt x="12" y="22"/>
                        </a:moveTo>
                        <a:cubicBezTo>
                          <a:pt x="12" y="22"/>
                          <a:pt x="12" y="22"/>
                          <a:pt x="12" y="22"/>
                        </a:cubicBezTo>
                        <a:cubicBezTo>
                          <a:pt x="17" y="21"/>
                          <a:pt x="28" y="13"/>
                          <a:pt x="21" y="5"/>
                        </a:cubicBezTo>
                        <a:cubicBezTo>
                          <a:pt x="15" y="0"/>
                          <a:pt x="4" y="3"/>
                          <a:pt x="0" y="4"/>
                        </a:cubicBezTo>
                        <a:cubicBezTo>
                          <a:pt x="0" y="4"/>
                          <a:pt x="10" y="15"/>
                          <a:pt x="12" y="2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3582c"/>
                      </a:gs>
                      <a:gs pos="50000">
                        <a:srgbClr val="996633"/>
                      </a:gs>
                      <a:gs pos="100000">
                        <a:srgbClr val="83582c"/>
                      </a:gs>
                    </a:gsLst>
                    <a:lin ang="108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Freeform 541"/>
                  <p:cNvSpPr/>
                  <p:nvPr/>
                </p:nvSpPr>
                <p:spPr>
                  <a:xfrm>
                    <a:off x="7471080" y="4379400"/>
                    <a:ext cx="47880" cy="30600"/>
                  </a:xfrm>
                  <a:custGeom>
                    <a:avLst/>
                    <a:gdLst>
                      <a:gd name="textAreaLeft" fmla="*/ 0 w 47880"/>
                      <a:gd name="textAreaRight" fmla="*/ 48240 w 4788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77" h="49">
                        <a:moveTo>
                          <a:pt x="77" y="28"/>
                        </a:moveTo>
                        <a:cubicBezTo>
                          <a:pt x="75" y="21"/>
                          <a:pt x="71" y="15"/>
                          <a:pt x="66" y="11"/>
                        </a:cubicBezTo>
                        <a:cubicBezTo>
                          <a:pt x="58" y="4"/>
                          <a:pt x="49" y="0"/>
                          <a:pt x="38" y="1"/>
                        </a:cubicBezTo>
                        <a:cubicBezTo>
                          <a:pt x="17" y="2"/>
                          <a:pt x="1" y="18"/>
                          <a:pt x="0" y="38"/>
                        </a:cubicBezTo>
                        <a:cubicBezTo>
                          <a:pt x="0" y="38"/>
                          <a:pt x="0" y="38"/>
                          <a:pt x="0" y="38"/>
                        </a:cubicBezTo>
                        <a:cubicBezTo>
                          <a:pt x="6" y="49"/>
                          <a:pt x="70" y="44"/>
                          <a:pt x="77" y="28"/>
                        </a:cubicBezTo>
                        <a:cubicBezTo>
                          <a:pt x="77" y="28"/>
                          <a:pt x="77" y="28"/>
                          <a:pt x="77" y="28"/>
                        </a:cubicBezTo>
                        <a:cubicBezTo>
                          <a:pt x="77" y="28"/>
                          <a:pt x="77" y="28"/>
                          <a:pt x="77" y="2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3582c"/>
                      </a:gs>
                      <a:gs pos="50000">
                        <a:srgbClr val="996633"/>
                      </a:gs>
                      <a:gs pos="100000">
                        <a:srgbClr val="83582c"/>
                      </a:gs>
                    </a:gsLst>
                    <a:lin ang="108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3" name=""/>
              <p:cNvGrpSpPr/>
              <p:nvPr/>
            </p:nvGrpSpPr>
            <p:grpSpPr>
              <a:xfrm>
                <a:off x="7737480" y="4146480"/>
                <a:ext cx="671040" cy="442080"/>
                <a:chOff x="7737480" y="4146480"/>
                <a:chExt cx="671040" cy="442080"/>
              </a:xfrm>
            </p:grpSpPr>
            <p:sp>
              <p:nvSpPr>
                <p:cNvPr id="754" name="Freeform 543"/>
                <p:cNvSpPr/>
                <p:nvPr/>
              </p:nvSpPr>
              <p:spPr>
                <a:xfrm flipH="1">
                  <a:off x="8326080" y="4386960"/>
                  <a:ext cx="68040" cy="72720"/>
                </a:xfrm>
                <a:custGeom>
                  <a:avLst/>
                  <a:gdLst>
                    <a:gd name="textAreaLeft" fmla="*/ -360 w 68040"/>
                    <a:gd name="textAreaRight" fmla="*/ 68040 w 680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420" h="449">
                      <a:moveTo>
                        <a:pt x="146" y="449"/>
                      </a:moveTo>
                      <a:lnTo>
                        <a:pt x="0" y="296"/>
                      </a:lnTo>
                      <a:lnTo>
                        <a:pt x="420" y="0"/>
                      </a:lnTo>
                      <a:lnTo>
                        <a:pt x="340" y="397"/>
                      </a:lnTo>
                      <a:lnTo>
                        <a:pt x="146" y="44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544"/>
                <p:cNvSpPr/>
                <p:nvPr/>
              </p:nvSpPr>
              <p:spPr>
                <a:xfrm flipH="1">
                  <a:off x="8033040" y="4465440"/>
                  <a:ext cx="67680" cy="72720"/>
                </a:xfrm>
                <a:custGeom>
                  <a:avLst/>
                  <a:gdLst>
                    <a:gd name="textAreaLeft" fmla="*/ 360 w 67680"/>
                    <a:gd name="textAreaRight" fmla="*/ 68400 w 6768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418" h="449">
                      <a:moveTo>
                        <a:pt x="146" y="449"/>
                      </a:moveTo>
                      <a:lnTo>
                        <a:pt x="0" y="296"/>
                      </a:lnTo>
                      <a:lnTo>
                        <a:pt x="418" y="0"/>
                      </a:lnTo>
                      <a:lnTo>
                        <a:pt x="340" y="397"/>
                      </a:lnTo>
                      <a:lnTo>
                        <a:pt x="146" y="44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45"/>
                <p:cNvSpPr/>
                <p:nvPr/>
              </p:nvSpPr>
              <p:spPr>
                <a:xfrm flipH="1">
                  <a:off x="8250480" y="4311000"/>
                  <a:ext cx="146880" cy="39240"/>
                </a:xfrm>
                <a:custGeom>
                  <a:avLst/>
                  <a:gdLst>
                    <a:gd name="textAreaLeft" fmla="*/ 360 w 146880"/>
                    <a:gd name="textAreaRight" fmla="*/ 147600 w 1468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905" h="243">
                      <a:moveTo>
                        <a:pt x="0" y="123"/>
                      </a:moveTo>
                      <a:lnTo>
                        <a:pt x="453" y="0"/>
                      </a:lnTo>
                      <a:lnTo>
                        <a:pt x="905" y="123"/>
                      </a:lnTo>
                      <a:lnTo>
                        <a:pt x="453" y="243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546"/>
                <p:cNvSpPr/>
                <p:nvPr/>
              </p:nvSpPr>
              <p:spPr>
                <a:xfrm flipH="1">
                  <a:off x="7737480" y="4146480"/>
                  <a:ext cx="560880" cy="150840"/>
                </a:xfrm>
                <a:custGeom>
                  <a:avLst/>
                  <a:gdLst>
                    <a:gd name="textAreaLeft" fmla="*/ 360 w 560880"/>
                    <a:gd name="textAreaRight" fmla="*/ 561600 w 56088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3449" h="929">
                      <a:moveTo>
                        <a:pt x="1352" y="0"/>
                      </a:moveTo>
                      <a:lnTo>
                        <a:pt x="0" y="366"/>
                      </a:lnTo>
                      <a:lnTo>
                        <a:pt x="2105" y="929"/>
                      </a:lnTo>
                      <a:lnTo>
                        <a:pt x="3449" y="565"/>
                      </a:lnTo>
                      <a:lnTo>
                        <a:pt x="135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47"/>
                <p:cNvSpPr/>
                <p:nvPr/>
              </p:nvSpPr>
              <p:spPr>
                <a:xfrm flipH="1">
                  <a:off x="8271360" y="4414680"/>
                  <a:ext cx="81000" cy="88560"/>
                </a:xfrm>
                <a:custGeom>
                  <a:avLst/>
                  <a:gdLst>
                    <a:gd name="textAreaLeft" fmla="*/ -360 w 81000"/>
                    <a:gd name="textAreaRight" fmla="*/ 81000 w 81000"/>
                    <a:gd name="textAreaTop" fmla="*/ 0 h 88560"/>
                    <a:gd name="textAreaBottom" fmla="*/ 88920 h 88560"/>
                  </a:gdLst>
                  <a:ahLst/>
                  <a:rect l="textAreaLeft" t="textAreaTop" r="textAreaRight" b="textAreaBottom"/>
                  <a:pathLst>
                    <a:path w="211" h="231">
                      <a:moveTo>
                        <a:pt x="168" y="67"/>
                      </a:moveTo>
                      <a:cubicBezTo>
                        <a:pt x="133" y="21"/>
                        <a:pt x="82" y="0"/>
                        <a:pt x="46" y="14"/>
                      </a:cubicBezTo>
                      <a:cubicBezTo>
                        <a:pt x="46" y="14"/>
                        <a:pt x="46" y="14"/>
                        <a:pt x="46" y="14"/>
                      </a:cubicBezTo>
                      <a:cubicBezTo>
                        <a:pt x="12" y="23"/>
                        <a:pt x="12" y="23"/>
                        <a:pt x="12" y="23"/>
                      </a:cubicBezTo>
                      <a:cubicBezTo>
                        <a:pt x="19" y="38"/>
                        <a:pt x="19" y="38"/>
                        <a:pt x="19" y="38"/>
                      </a:cubicBezTo>
                      <a:cubicBezTo>
                        <a:pt x="0" y="69"/>
                        <a:pt x="8" y="121"/>
                        <a:pt x="41" y="164"/>
                      </a:cubicBezTo>
                      <a:cubicBezTo>
                        <a:pt x="58" y="186"/>
                        <a:pt x="79" y="203"/>
                        <a:pt x="100" y="212"/>
                      </a:cubicBezTo>
                      <a:cubicBezTo>
                        <a:pt x="109" y="231"/>
                        <a:pt x="109" y="231"/>
                        <a:pt x="109" y="231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62" y="217"/>
                        <a:pt x="169" y="214"/>
                        <a:pt x="176" y="209"/>
                      </a:cubicBezTo>
                      <a:cubicBezTo>
                        <a:pt x="211" y="182"/>
                        <a:pt x="208" y="118"/>
                        <a:pt x="168" y="6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548"/>
                <p:cNvSpPr/>
                <p:nvPr/>
              </p:nvSpPr>
              <p:spPr>
                <a:xfrm flipH="1">
                  <a:off x="8288640" y="4417560"/>
                  <a:ext cx="81720" cy="92160"/>
                </a:xfrm>
                <a:custGeom>
                  <a:avLst/>
                  <a:gdLst>
                    <a:gd name="textAreaLeft" fmla="*/ 0 w 81720"/>
                    <a:gd name="textAreaRight" fmla="*/ 81720 w 8172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213" h="241">
                      <a:moveTo>
                        <a:pt x="177" y="214"/>
                      </a:moveTo>
                      <a:cubicBezTo>
                        <a:pt x="142" y="241"/>
                        <a:pt x="82" y="220"/>
                        <a:pt x="42" y="169"/>
                      </a:cubicBezTo>
                      <a:cubicBezTo>
                        <a:pt x="3" y="117"/>
                        <a:pt x="0" y="53"/>
                        <a:pt x="35" y="26"/>
                      </a:cubicBezTo>
                      <a:cubicBezTo>
                        <a:pt x="70" y="0"/>
                        <a:pt x="131" y="20"/>
                        <a:pt x="170" y="72"/>
                      </a:cubicBezTo>
                      <a:cubicBezTo>
                        <a:pt x="209" y="123"/>
                        <a:pt x="213" y="187"/>
                        <a:pt x="177" y="21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549"/>
                <p:cNvSpPr/>
                <p:nvPr/>
              </p:nvSpPr>
              <p:spPr>
                <a:xfrm flipH="1">
                  <a:off x="8305200" y="4435560"/>
                  <a:ext cx="49680" cy="55800"/>
                </a:xfrm>
                <a:custGeom>
                  <a:avLst/>
                  <a:gdLst>
                    <a:gd name="textAreaLeft" fmla="*/ 360 w 49680"/>
                    <a:gd name="textAreaRight" fmla="*/ 50400 w 4968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30" h="146">
                      <a:moveTo>
                        <a:pt x="109" y="130"/>
                      </a:moveTo>
                      <a:cubicBezTo>
                        <a:pt x="87" y="146"/>
                        <a:pt x="50" y="134"/>
                        <a:pt x="26" y="103"/>
                      </a:cubicBezTo>
                      <a:cubicBezTo>
                        <a:pt x="2" y="71"/>
                        <a:pt x="0" y="32"/>
                        <a:pt x="22" y="16"/>
                      </a:cubicBezTo>
                      <a:cubicBezTo>
                        <a:pt x="43" y="0"/>
                        <a:pt x="80" y="12"/>
                        <a:pt x="104" y="44"/>
                      </a:cubicBezTo>
                      <a:cubicBezTo>
                        <a:pt x="128" y="75"/>
                        <a:pt x="130" y="114"/>
                        <a:pt x="109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550"/>
                <p:cNvSpPr/>
                <p:nvPr/>
              </p:nvSpPr>
              <p:spPr>
                <a:xfrm flipH="1">
                  <a:off x="7978320" y="4493880"/>
                  <a:ext cx="80640" cy="88560"/>
                </a:xfrm>
                <a:custGeom>
                  <a:avLst/>
                  <a:gdLst>
                    <a:gd name="textAreaLeft" fmla="*/ 360 w 80640"/>
                    <a:gd name="textAreaRight" fmla="*/ 81360 w 80640"/>
                    <a:gd name="textAreaTop" fmla="*/ 0 h 88560"/>
                    <a:gd name="textAreaBottom" fmla="*/ 88920 h 88560"/>
                  </a:gdLst>
                  <a:ahLst/>
                  <a:rect l="textAreaLeft" t="textAreaTop" r="textAreaRight" b="textAreaBottom"/>
                  <a:pathLst>
                    <a:path w="210" h="231">
                      <a:moveTo>
                        <a:pt x="168" y="67"/>
                      </a:moveTo>
                      <a:cubicBezTo>
                        <a:pt x="133" y="21"/>
                        <a:pt x="81" y="0"/>
                        <a:pt x="46" y="14"/>
                      </a:cubicBezTo>
                      <a:cubicBezTo>
                        <a:pt x="46" y="14"/>
                        <a:pt x="46" y="14"/>
                        <a:pt x="46" y="14"/>
                      </a:cubicBezTo>
                      <a:cubicBezTo>
                        <a:pt x="11" y="23"/>
                        <a:pt x="11" y="23"/>
                        <a:pt x="11" y="23"/>
                      </a:cubicBezTo>
                      <a:cubicBezTo>
                        <a:pt x="18" y="38"/>
                        <a:pt x="18" y="38"/>
                        <a:pt x="18" y="38"/>
                      </a:cubicBezTo>
                      <a:cubicBezTo>
                        <a:pt x="0" y="69"/>
                        <a:pt x="7" y="120"/>
                        <a:pt x="40" y="164"/>
                      </a:cubicBezTo>
                      <a:cubicBezTo>
                        <a:pt x="57" y="186"/>
                        <a:pt x="78" y="202"/>
                        <a:pt x="99" y="212"/>
                      </a:cubicBezTo>
                      <a:cubicBezTo>
                        <a:pt x="108" y="231"/>
                        <a:pt x="108" y="231"/>
                        <a:pt x="108" y="231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54" y="219"/>
                        <a:pt x="154" y="219"/>
                        <a:pt x="154" y="219"/>
                      </a:cubicBezTo>
                      <a:cubicBezTo>
                        <a:pt x="161" y="217"/>
                        <a:pt x="169" y="214"/>
                        <a:pt x="175" y="209"/>
                      </a:cubicBezTo>
                      <a:cubicBezTo>
                        <a:pt x="210" y="182"/>
                        <a:pt x="207" y="118"/>
                        <a:pt x="168" y="67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551"/>
                <p:cNvSpPr/>
                <p:nvPr/>
              </p:nvSpPr>
              <p:spPr>
                <a:xfrm flipH="1">
                  <a:off x="7994880" y="4496040"/>
                  <a:ext cx="81720" cy="92520"/>
                </a:xfrm>
                <a:custGeom>
                  <a:avLst/>
                  <a:gdLst>
                    <a:gd name="textAreaLeft" fmla="*/ 0 w 81720"/>
                    <a:gd name="textAreaRight" fmla="*/ 81720 w 81720"/>
                    <a:gd name="textAreaTop" fmla="*/ 0 h 92520"/>
                    <a:gd name="textAreaBottom" fmla="*/ 92880 h 92520"/>
                  </a:gdLst>
                  <a:ahLst/>
                  <a:rect l="textAreaLeft" t="textAreaTop" r="textAreaRight" b="textAreaBottom"/>
                  <a:pathLst>
                    <a:path w="213" h="241">
                      <a:moveTo>
                        <a:pt x="178" y="215"/>
                      </a:moveTo>
                      <a:cubicBezTo>
                        <a:pt x="143" y="241"/>
                        <a:pt x="82" y="221"/>
                        <a:pt x="43" y="169"/>
                      </a:cubicBezTo>
                      <a:cubicBezTo>
                        <a:pt x="3" y="118"/>
                        <a:pt x="0" y="54"/>
                        <a:pt x="35" y="27"/>
                      </a:cubicBezTo>
                      <a:cubicBezTo>
                        <a:pt x="71" y="0"/>
                        <a:pt x="131" y="21"/>
                        <a:pt x="170" y="72"/>
                      </a:cubicBezTo>
                      <a:cubicBezTo>
                        <a:pt x="210" y="124"/>
                        <a:pt x="213" y="188"/>
                        <a:pt x="178" y="21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552"/>
                <p:cNvSpPr/>
                <p:nvPr/>
              </p:nvSpPr>
              <p:spPr>
                <a:xfrm flipH="1">
                  <a:off x="8011080" y="4514760"/>
                  <a:ext cx="49320" cy="55800"/>
                </a:xfrm>
                <a:custGeom>
                  <a:avLst/>
                  <a:gdLst>
                    <a:gd name="textAreaLeft" fmla="*/ -360 w 49320"/>
                    <a:gd name="textAreaRight" fmla="*/ 49320 w 493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129" h="146">
                      <a:moveTo>
                        <a:pt x="108" y="130"/>
                      </a:moveTo>
                      <a:cubicBezTo>
                        <a:pt x="86" y="146"/>
                        <a:pt x="50" y="134"/>
                        <a:pt x="26" y="102"/>
                      </a:cubicBezTo>
                      <a:cubicBezTo>
                        <a:pt x="2" y="71"/>
                        <a:pt x="0" y="32"/>
                        <a:pt x="21" y="16"/>
                      </a:cubicBezTo>
                      <a:cubicBezTo>
                        <a:pt x="43" y="0"/>
                        <a:pt x="79" y="12"/>
                        <a:pt x="103" y="43"/>
                      </a:cubicBezTo>
                      <a:cubicBezTo>
                        <a:pt x="127" y="75"/>
                        <a:pt x="129" y="114"/>
                        <a:pt x="108" y="1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553"/>
                <p:cNvSpPr/>
                <p:nvPr/>
              </p:nvSpPr>
              <p:spPr>
                <a:xfrm flipH="1">
                  <a:off x="7956000" y="4201200"/>
                  <a:ext cx="451440" cy="369360"/>
                </a:xfrm>
                <a:custGeom>
                  <a:avLst/>
                  <a:gdLst>
                    <a:gd name="textAreaLeft" fmla="*/ 360 w 451440"/>
                    <a:gd name="textAreaRight" fmla="*/ 452160 w 451440"/>
                    <a:gd name="textAreaTop" fmla="*/ 0 h 369360"/>
                    <a:gd name="textAreaBottom" fmla="*/ 369720 h 369360"/>
                  </a:gdLst>
                  <a:ahLst/>
                  <a:rect l="textAreaLeft" t="textAreaTop" r="textAreaRight" b="textAreaBottom"/>
                  <a:pathLst>
                    <a:path w="1175" h="962">
                      <a:moveTo>
                        <a:pt x="301" y="14"/>
                      </a:moveTo>
                      <a:cubicBezTo>
                        <a:pt x="242" y="0"/>
                        <a:pt x="218" y="72"/>
                        <a:pt x="218" y="72"/>
                      </a:cubicBezTo>
                      <a:cubicBezTo>
                        <a:pt x="128" y="365"/>
                        <a:pt x="128" y="365"/>
                        <a:pt x="128" y="365"/>
                      </a:cubicBezTo>
                      <a:cubicBezTo>
                        <a:pt x="128" y="365"/>
                        <a:pt x="52" y="326"/>
                        <a:pt x="26" y="338"/>
                      </a:cubicBezTo>
                      <a:cubicBezTo>
                        <a:pt x="0" y="350"/>
                        <a:pt x="26" y="656"/>
                        <a:pt x="26" y="656"/>
                      </a:cubicBezTo>
                      <a:cubicBezTo>
                        <a:pt x="96" y="674"/>
                        <a:pt x="96" y="674"/>
                        <a:pt x="96" y="674"/>
                      </a:cubicBezTo>
                      <a:cubicBezTo>
                        <a:pt x="85" y="633"/>
                        <a:pt x="93" y="595"/>
                        <a:pt x="120" y="574"/>
                      </a:cubicBezTo>
                      <a:cubicBezTo>
                        <a:pt x="160" y="543"/>
                        <a:pt x="231" y="567"/>
                        <a:pt x="276" y="627"/>
                      </a:cubicBezTo>
                      <a:cubicBezTo>
                        <a:pt x="302" y="661"/>
                        <a:pt x="314" y="700"/>
                        <a:pt x="313" y="732"/>
                      </a:cubicBezTo>
                      <a:cubicBezTo>
                        <a:pt x="860" y="878"/>
                        <a:pt x="860" y="878"/>
                        <a:pt x="860" y="878"/>
                      </a:cubicBezTo>
                      <a:cubicBezTo>
                        <a:pt x="850" y="838"/>
                        <a:pt x="857" y="800"/>
                        <a:pt x="884" y="780"/>
                      </a:cubicBezTo>
                      <a:cubicBezTo>
                        <a:pt x="925" y="749"/>
                        <a:pt x="995" y="772"/>
                        <a:pt x="1041" y="833"/>
                      </a:cubicBezTo>
                      <a:cubicBezTo>
                        <a:pt x="1066" y="866"/>
                        <a:pt x="1079" y="904"/>
                        <a:pt x="1078" y="936"/>
                      </a:cubicBezTo>
                      <a:cubicBezTo>
                        <a:pt x="1175" y="962"/>
                        <a:pt x="1175" y="962"/>
                        <a:pt x="1175" y="962"/>
                      </a:cubicBezTo>
                      <a:cubicBezTo>
                        <a:pt x="1175" y="250"/>
                        <a:pt x="1175" y="250"/>
                        <a:pt x="1175" y="250"/>
                      </a:cubicBezTo>
                      <a:lnTo>
                        <a:pt x="301" y="1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554"/>
                <p:cNvSpPr/>
                <p:nvPr/>
              </p:nvSpPr>
              <p:spPr>
                <a:xfrm flipH="1">
                  <a:off x="8322840" y="4249800"/>
                  <a:ext cx="26640" cy="100440"/>
                </a:xfrm>
                <a:custGeom>
                  <a:avLst/>
                  <a:gdLst>
                    <a:gd name="textAreaLeft" fmla="*/ 360 w 26640"/>
                    <a:gd name="textAreaRight" fmla="*/ 27360 w 26640"/>
                    <a:gd name="textAreaTop" fmla="*/ 0 h 100440"/>
                    <a:gd name="textAreaBottom" fmla="*/ 100800 h 100440"/>
                  </a:gdLst>
                  <a:ahLst/>
                  <a:rect l="textAreaLeft" t="textAreaTop" r="textAreaRight" b="textAreaBottom"/>
                  <a:pathLst>
                    <a:path w="165" h="619">
                      <a:moveTo>
                        <a:pt x="0" y="581"/>
                      </a:moveTo>
                      <a:lnTo>
                        <a:pt x="165" y="619"/>
                      </a:lnTo>
                      <a:lnTo>
                        <a:pt x="165" y="0"/>
                      </a:lnTo>
                      <a:lnTo>
                        <a:pt x="0" y="58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5e2ff"/>
                    </a:gs>
                    <a:gs pos="100000">
                      <a:srgbClr val="3399ff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555"/>
                <p:cNvSpPr/>
                <p:nvPr/>
              </p:nvSpPr>
              <p:spPr>
                <a:xfrm flipV="1">
                  <a:off x="7910280" y="4193280"/>
                  <a:ext cx="342720" cy="91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56"/>
                <p:cNvSpPr/>
                <p:nvPr/>
              </p:nvSpPr>
              <p:spPr>
                <a:xfrm flipV="1">
                  <a:off x="7866720" y="4181400"/>
                  <a:ext cx="342720" cy="91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557"/>
                <p:cNvSpPr/>
                <p:nvPr/>
              </p:nvSpPr>
              <p:spPr>
                <a:xfrm flipV="1">
                  <a:off x="7823520" y="4170240"/>
                  <a:ext cx="342720" cy="90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58"/>
                <p:cNvSpPr/>
                <p:nvPr/>
              </p:nvSpPr>
              <p:spPr>
                <a:xfrm flipV="1">
                  <a:off x="7779600" y="4158000"/>
                  <a:ext cx="342720" cy="91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59"/>
                <p:cNvSpPr/>
                <p:nvPr/>
              </p:nvSpPr>
              <p:spPr>
                <a:xfrm flipH="1">
                  <a:off x="7737120" y="4238280"/>
                  <a:ext cx="218520" cy="332280"/>
                </a:xfrm>
                <a:custGeom>
                  <a:avLst/>
                  <a:gdLst>
                    <a:gd name="textAreaLeft" fmla="*/ -360 w 218520"/>
                    <a:gd name="textAreaRight" fmla="*/ 218520 w 218520"/>
                    <a:gd name="textAreaTop" fmla="*/ 0 h 332280"/>
                    <a:gd name="textAreaBottom" fmla="*/ 332640 h 332280"/>
                  </a:gdLst>
                  <a:ahLst/>
                  <a:rect l="textAreaLeft" t="textAreaTop" r="textAreaRight" b="textAreaBottom"/>
                  <a:pathLst>
                    <a:path w="1344" h="2046">
                      <a:moveTo>
                        <a:pt x="0" y="364"/>
                      </a:moveTo>
                      <a:lnTo>
                        <a:pt x="1344" y="0"/>
                      </a:lnTo>
                      <a:lnTo>
                        <a:pt x="1344" y="1682"/>
                      </a:lnTo>
                      <a:lnTo>
                        <a:pt x="0" y="2046"/>
                      </a:lnTo>
                      <a:lnTo>
                        <a:pt x="0" y="36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560"/>
                <p:cNvSpPr/>
                <p:nvPr/>
              </p:nvSpPr>
              <p:spPr>
                <a:xfrm flipH="1">
                  <a:off x="7973640" y="4264200"/>
                  <a:ext cx="234720" cy="179640"/>
                </a:xfrm>
                <a:custGeom>
                  <a:avLst/>
                  <a:gdLst>
                    <a:gd name="textAreaLeft" fmla="*/ 360 w 234720"/>
                    <a:gd name="textAreaRight" fmla="*/ 235440 w 234720"/>
                    <a:gd name="textAreaTop" fmla="*/ 0 h 179640"/>
                    <a:gd name="textAreaBottom" fmla="*/ 180000 h 179640"/>
                  </a:gdLst>
                  <a:ahLst/>
                  <a:rect l="textAreaLeft" t="textAreaTop" r="textAreaRight" b="textAreaBottom"/>
                  <a:pathLst>
                    <a:path w="1444" h="1107">
                      <a:moveTo>
                        <a:pt x="0" y="0"/>
                      </a:moveTo>
                      <a:lnTo>
                        <a:pt x="0" y="722"/>
                      </a:lnTo>
                      <a:lnTo>
                        <a:pt x="1444" y="1107"/>
                      </a:lnTo>
                      <a:lnTo>
                        <a:pt x="1444" y="38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561"/>
                <p:cNvSpPr/>
                <p:nvPr/>
              </p:nvSpPr>
              <p:spPr>
                <a:xfrm flipH="1">
                  <a:off x="8219880" y="4235400"/>
                  <a:ext cx="96120" cy="264600"/>
                </a:xfrm>
                <a:custGeom>
                  <a:avLst/>
                  <a:gdLst>
                    <a:gd name="textAreaLeft" fmla="*/ -360 w 96120"/>
                    <a:gd name="textAreaRight" fmla="*/ 96120 w 96120"/>
                    <a:gd name="textAreaTop" fmla="*/ 0 h 264600"/>
                    <a:gd name="textAreaBottom" fmla="*/ 264960 h 264600"/>
                  </a:gdLst>
                  <a:ahLst/>
                  <a:rect l="textAreaLeft" t="textAreaTop" r="textAreaRight" b="textAreaBottom"/>
                  <a:pathLst>
                    <a:path w="593" h="1630">
                      <a:moveTo>
                        <a:pt x="0" y="0"/>
                      </a:moveTo>
                      <a:lnTo>
                        <a:pt x="593" y="161"/>
                      </a:lnTo>
                      <a:lnTo>
                        <a:pt x="593" y="1630"/>
                      </a:lnTo>
                      <a:lnTo>
                        <a:pt x="279" y="1545"/>
                      </a:lnTo>
                      <a:lnTo>
                        <a:pt x="0" y="96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562"/>
                <p:cNvSpPr/>
                <p:nvPr/>
              </p:nvSpPr>
              <p:spPr>
                <a:xfrm flipH="1">
                  <a:off x="8231040" y="4254120"/>
                  <a:ext cx="73440" cy="121320"/>
                </a:xfrm>
                <a:custGeom>
                  <a:avLst/>
                  <a:gdLst>
                    <a:gd name="textAreaLeft" fmla="*/ 360 w 73440"/>
                    <a:gd name="textAreaRight" fmla="*/ 74160 w 73440"/>
                    <a:gd name="textAreaTop" fmla="*/ 0 h 121320"/>
                    <a:gd name="textAreaBottom" fmla="*/ 121680 h 121320"/>
                  </a:gdLst>
                  <a:ahLst/>
                  <a:rect l="textAreaLeft" t="textAreaTop" r="textAreaRight" b="textAreaBottom"/>
                  <a:pathLst>
                    <a:path w="452" h="747">
                      <a:moveTo>
                        <a:pt x="0" y="0"/>
                      </a:moveTo>
                      <a:lnTo>
                        <a:pt x="0" y="626"/>
                      </a:lnTo>
                      <a:lnTo>
                        <a:pt x="452" y="747"/>
                      </a:lnTo>
                      <a:lnTo>
                        <a:pt x="452" y="1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5e2ff"/>
                    </a:gs>
                    <a:gs pos="100000">
                      <a:srgbClr val="3399ff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563"/>
                <p:cNvSpPr/>
                <p:nvPr/>
              </p:nvSpPr>
              <p:spPr>
                <a:xfrm flipH="1">
                  <a:off x="8327880" y="4268160"/>
                  <a:ext cx="27000" cy="78840"/>
                </a:xfrm>
                <a:custGeom>
                  <a:avLst/>
                  <a:gdLst>
                    <a:gd name="textAreaLeft" fmla="*/ -360 w 27000"/>
                    <a:gd name="textAreaRight" fmla="*/ 27000 w 2700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67" h="487">
                      <a:moveTo>
                        <a:pt x="0" y="487"/>
                      </a:moveTo>
                      <a:lnTo>
                        <a:pt x="0" y="45"/>
                      </a:lnTo>
                      <a:lnTo>
                        <a:pt x="167" y="0"/>
                      </a:lnTo>
                      <a:lnTo>
                        <a:pt x="167" y="442"/>
                      </a:lnTo>
                      <a:lnTo>
                        <a:pt x="0" y="48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5e2ff"/>
                    </a:gs>
                    <a:gs pos="100000">
                      <a:srgbClr val="3399ff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564"/>
                <p:cNvSpPr/>
                <p:nvPr/>
              </p:nvSpPr>
              <p:spPr>
                <a:xfrm flipH="1">
                  <a:off x="8355240" y="4274280"/>
                  <a:ext cx="5040" cy="72720"/>
                </a:xfrm>
                <a:custGeom>
                  <a:avLst/>
                  <a:gdLst>
                    <a:gd name="textAreaLeft" fmla="*/ 360 w 5040"/>
                    <a:gd name="textAreaRight" fmla="*/ 5760 w 5040"/>
                    <a:gd name="textAreaTop" fmla="*/ 0 h 72720"/>
                    <a:gd name="textAreaBottom" fmla="*/ 73080 h 72720"/>
                  </a:gdLst>
                  <a:ahLst/>
                  <a:rect l="textAreaLeft" t="textAreaTop" r="textAreaRight" b="textAreaBottom"/>
                  <a:pathLst>
                    <a:path w="31" h="449">
                      <a:moveTo>
                        <a:pt x="31" y="7"/>
                      </a:moveTo>
                      <a:lnTo>
                        <a:pt x="0" y="0"/>
                      </a:lnTo>
                      <a:lnTo>
                        <a:pt x="0" y="439"/>
                      </a:lnTo>
                      <a:lnTo>
                        <a:pt x="31" y="449"/>
                      </a:lnTo>
                      <a:lnTo>
                        <a:pt x="31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565"/>
                <p:cNvSpPr/>
                <p:nvPr/>
              </p:nvSpPr>
              <p:spPr>
                <a:xfrm flipH="1">
                  <a:off x="8327880" y="4266720"/>
                  <a:ext cx="32040" cy="8280"/>
                </a:xfrm>
                <a:custGeom>
                  <a:avLst/>
                  <a:gdLst>
                    <a:gd name="textAreaLeft" fmla="*/ -360 w 32040"/>
                    <a:gd name="textAreaRight" fmla="*/ 32040 w 32040"/>
                    <a:gd name="textAreaTop" fmla="*/ 0 h 8280"/>
                    <a:gd name="textAreaBottom" fmla="*/ 8640 h 8280"/>
                  </a:gdLst>
                  <a:ahLst/>
                  <a:rect l="textAreaLeft" t="textAreaTop" r="textAreaRight" b="textAreaBottom"/>
                  <a:pathLst>
                    <a:path w="198" h="52">
                      <a:moveTo>
                        <a:pt x="198" y="7"/>
                      </a:moveTo>
                      <a:lnTo>
                        <a:pt x="165" y="0"/>
                      </a:lnTo>
                      <a:lnTo>
                        <a:pt x="0" y="45"/>
                      </a:lnTo>
                      <a:lnTo>
                        <a:pt x="31" y="52"/>
                      </a:lnTo>
                      <a:lnTo>
                        <a:pt x="198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566"/>
                <p:cNvSpPr/>
                <p:nvPr/>
              </p:nvSpPr>
              <p:spPr>
                <a:xfrm flipH="1">
                  <a:off x="8319600" y="4352400"/>
                  <a:ext cx="3960" cy="4680"/>
                </a:xfrm>
                <a:custGeom>
                  <a:avLst/>
                  <a:gdLst>
                    <a:gd name="textAreaLeft" fmla="*/ -360 w 3960"/>
                    <a:gd name="textAreaRight" fmla="*/ 3960 w 3960"/>
                    <a:gd name="textAreaTop" fmla="*/ 0 h 4680"/>
                    <a:gd name="textAreaBottom" fmla="*/ 5040 h 468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9" y="11"/>
                      </a:moveTo>
                      <a:cubicBezTo>
                        <a:pt x="8" y="13"/>
                        <a:pt x="4" y="11"/>
                        <a:pt x="2" y="9"/>
                      </a:cubicBezTo>
                      <a:cubicBezTo>
                        <a:pt x="0" y="6"/>
                        <a:pt x="0" y="3"/>
                        <a:pt x="2" y="1"/>
                      </a:cubicBezTo>
                      <a:cubicBezTo>
                        <a:pt x="4" y="0"/>
                        <a:pt x="7" y="1"/>
                        <a:pt x="9" y="4"/>
                      </a:cubicBezTo>
                      <a:cubicBezTo>
                        <a:pt x="11" y="6"/>
                        <a:pt x="11" y="10"/>
                        <a:pt x="9" y="1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567"/>
                <p:cNvSpPr/>
                <p:nvPr/>
              </p:nvSpPr>
              <p:spPr>
                <a:xfrm flipH="1">
                  <a:off x="8319600" y="4241520"/>
                  <a:ext cx="3960" cy="5040"/>
                </a:xfrm>
                <a:custGeom>
                  <a:avLst/>
                  <a:gdLst>
                    <a:gd name="textAreaLeft" fmla="*/ -360 w 3960"/>
                    <a:gd name="textAreaRight" fmla="*/ 3960 w 3960"/>
                    <a:gd name="textAreaTop" fmla="*/ 0 h 5040"/>
                    <a:gd name="textAreaBottom" fmla="*/ 5040 h 5040"/>
                  </a:gdLst>
                  <a:ahLst/>
                  <a:rect l="textAreaLeft" t="textAreaTop" r="textAreaRight" b="textAreaBottom"/>
                  <a:pathLst>
                    <a:path w="11" h="13">
                      <a:moveTo>
                        <a:pt x="9" y="12"/>
                      </a:moveTo>
                      <a:cubicBezTo>
                        <a:pt x="8" y="13"/>
                        <a:pt x="4" y="12"/>
                        <a:pt x="2" y="9"/>
                      </a:cubicBezTo>
                      <a:cubicBezTo>
                        <a:pt x="0" y="7"/>
                        <a:pt x="0" y="3"/>
                        <a:pt x="2" y="2"/>
                      </a:cubicBezTo>
                      <a:cubicBezTo>
                        <a:pt x="4" y="0"/>
                        <a:pt x="7" y="1"/>
                        <a:pt x="9" y="4"/>
                      </a:cubicBezTo>
                      <a:cubicBezTo>
                        <a:pt x="11" y="7"/>
                        <a:pt x="11" y="10"/>
                        <a:pt x="9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568"/>
                <p:cNvSpPr/>
                <p:nvPr/>
              </p:nvSpPr>
              <p:spPr>
                <a:xfrm flipH="1">
                  <a:off x="8320680" y="4242600"/>
                  <a:ext cx="35640" cy="122760"/>
                </a:xfrm>
                <a:custGeom>
                  <a:avLst/>
                  <a:gdLst>
                    <a:gd name="textAreaLeft" fmla="*/ -360 w 35640"/>
                    <a:gd name="textAreaRight" fmla="*/ 35640 w 35640"/>
                    <a:gd name="textAreaTop" fmla="*/ 0 h 122760"/>
                    <a:gd name="textAreaBottom" fmla="*/ 123120 h 122760"/>
                  </a:gdLst>
                  <a:ahLst/>
                  <a:rect l="textAreaLeft" t="textAreaTop" r="textAreaRight" b="textAreaBottom"/>
                  <a:pathLst>
                    <a:path w="93" h="320">
                      <a:moveTo>
                        <a:pt x="0" y="24"/>
                      </a:moveTo>
                      <a:cubicBezTo>
                        <a:pt x="0" y="320"/>
                        <a:pt x="0" y="320"/>
                        <a:pt x="0" y="320"/>
                      </a:cubicBezTo>
                      <a:cubicBezTo>
                        <a:pt x="93" y="295"/>
                        <a:pt x="93" y="295"/>
                        <a:pt x="93" y="295"/>
                      </a:cubicBezTo>
                      <a:cubicBezTo>
                        <a:pt x="91" y="287"/>
                        <a:pt x="91" y="287"/>
                        <a:pt x="91" y="287"/>
                      </a:cubicBezTo>
                      <a:cubicBezTo>
                        <a:pt x="91" y="287"/>
                        <a:pt x="17" y="307"/>
                        <a:pt x="8" y="310"/>
                      </a:cubicBezTo>
                      <a:cubicBezTo>
                        <a:pt x="8" y="300"/>
                        <a:pt x="8" y="36"/>
                        <a:pt x="8" y="30"/>
                      </a:cubicBezTo>
                      <a:cubicBezTo>
                        <a:pt x="14" y="29"/>
                        <a:pt x="93" y="8"/>
                        <a:pt x="93" y="8"/>
                      </a:cubicBezTo>
                      <a:cubicBezTo>
                        <a:pt x="91" y="0"/>
                        <a:pt x="91" y="0"/>
                        <a:pt x="91" y="0"/>
                      </a:cubicBez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569"/>
                <p:cNvSpPr/>
                <p:nvPr/>
              </p:nvSpPr>
              <p:spPr>
                <a:xfrm flipH="1">
                  <a:off x="7846200" y="4285080"/>
                  <a:ext cx="94680" cy="243360"/>
                </a:xfrm>
                <a:custGeom>
                  <a:avLst/>
                  <a:gdLst>
                    <a:gd name="textAreaLeft" fmla="*/ -360 w 94680"/>
                    <a:gd name="textAreaRight" fmla="*/ 94680 w 94680"/>
                    <a:gd name="textAreaTop" fmla="*/ 0 h 243360"/>
                    <a:gd name="textAreaBottom" fmla="*/ 243720 h 243360"/>
                  </a:gdLst>
                  <a:ahLst/>
                  <a:rect l="textAreaLeft" t="textAreaTop" r="textAreaRight" b="textAreaBottom"/>
                  <a:pathLst>
                    <a:path w="584" h="1498">
                      <a:moveTo>
                        <a:pt x="0" y="159"/>
                      </a:moveTo>
                      <a:lnTo>
                        <a:pt x="0" y="1498"/>
                      </a:lnTo>
                      <a:lnTo>
                        <a:pt x="584" y="1342"/>
                      </a:lnTo>
                      <a:lnTo>
                        <a:pt x="584" y="0"/>
                      </a:lnTo>
                      <a:lnTo>
                        <a:pt x="0" y="15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570"/>
                <p:cNvSpPr/>
                <p:nvPr/>
              </p:nvSpPr>
              <p:spPr>
                <a:xfrm flipH="1">
                  <a:off x="7751160" y="4260240"/>
                  <a:ext cx="94680" cy="243000"/>
                </a:xfrm>
                <a:custGeom>
                  <a:avLst/>
                  <a:gdLst>
                    <a:gd name="textAreaLeft" fmla="*/ -360 w 94680"/>
                    <a:gd name="textAreaRight" fmla="*/ 94680 w 94680"/>
                    <a:gd name="textAreaTop" fmla="*/ 0 h 243000"/>
                    <a:gd name="textAreaBottom" fmla="*/ 243360 h 243000"/>
                  </a:gdLst>
                  <a:ahLst/>
                  <a:rect l="textAreaLeft" t="textAreaTop" r="textAreaRight" b="textAreaBottom"/>
                  <a:pathLst>
                    <a:path w="583" h="1497">
                      <a:moveTo>
                        <a:pt x="583" y="0"/>
                      </a:moveTo>
                      <a:lnTo>
                        <a:pt x="0" y="155"/>
                      </a:lnTo>
                      <a:lnTo>
                        <a:pt x="0" y="1497"/>
                      </a:lnTo>
                      <a:lnTo>
                        <a:pt x="583" y="1339"/>
                      </a:lnTo>
                      <a:lnTo>
                        <a:pt x="58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571"/>
                <p:cNvSpPr/>
                <p:nvPr/>
              </p:nvSpPr>
              <p:spPr>
                <a:xfrm flipH="1">
                  <a:off x="7740720" y="4496040"/>
                  <a:ext cx="12960" cy="147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4" h="39">
                      <a:moveTo>
                        <a:pt x="6" y="34"/>
                      </a:moveTo>
                      <a:cubicBezTo>
                        <a:pt x="11" y="39"/>
                        <a:pt x="21" y="36"/>
                        <a:pt x="27" y="27"/>
                      </a:cubicBezTo>
                      <a:cubicBezTo>
                        <a:pt x="34" y="19"/>
                        <a:pt x="34" y="9"/>
                        <a:pt x="29" y="5"/>
                      </a:cubicBezTo>
                      <a:cubicBezTo>
                        <a:pt x="23" y="0"/>
                        <a:pt x="13" y="4"/>
                        <a:pt x="7" y="12"/>
                      </a:cubicBezTo>
                      <a:cubicBezTo>
                        <a:pt x="1" y="20"/>
                        <a:pt x="0" y="30"/>
                        <a:pt x="6" y="3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40505"/>
                    </a:gs>
                    <a:gs pos="100000">
                      <a:srgbClr val="dddddd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572"/>
                <p:cNvSpPr/>
                <p:nvPr/>
              </p:nvSpPr>
              <p:spPr>
                <a:xfrm flipH="1">
                  <a:off x="7937640" y="4550040"/>
                  <a:ext cx="12960" cy="14760"/>
                </a:xfrm>
                <a:custGeom>
                  <a:avLst/>
                  <a:gdLst>
                    <a:gd name="textAreaLeft" fmla="*/ 360 w 12960"/>
                    <a:gd name="textAreaRight" fmla="*/ 13680 w 12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4" h="39">
                      <a:moveTo>
                        <a:pt x="6" y="34"/>
                      </a:moveTo>
                      <a:cubicBezTo>
                        <a:pt x="12" y="39"/>
                        <a:pt x="21" y="36"/>
                        <a:pt x="27" y="27"/>
                      </a:cubicBezTo>
                      <a:cubicBezTo>
                        <a:pt x="34" y="19"/>
                        <a:pt x="34" y="9"/>
                        <a:pt x="29" y="5"/>
                      </a:cubicBezTo>
                      <a:cubicBezTo>
                        <a:pt x="23" y="0"/>
                        <a:pt x="13" y="4"/>
                        <a:pt x="7" y="12"/>
                      </a:cubicBezTo>
                      <a:cubicBezTo>
                        <a:pt x="1" y="20"/>
                        <a:pt x="0" y="30"/>
                        <a:pt x="6" y="3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c40505"/>
                    </a:gs>
                    <a:gs pos="100000">
                      <a:srgbClr val="dddddd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573"/>
                <p:cNvSpPr/>
                <p:nvPr/>
              </p:nvSpPr>
              <p:spPr>
                <a:xfrm flipH="1">
                  <a:off x="7938720" y="4537080"/>
                  <a:ext cx="10800" cy="12240"/>
                </a:xfrm>
                <a:custGeom>
                  <a:avLst/>
                  <a:gdLst>
                    <a:gd name="textAreaLeft" fmla="*/ 360 w 10800"/>
                    <a:gd name="textAreaRight" fmla="*/ 11520 w 1080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5"/>
                        <a:pt x="28" y="7"/>
                        <a:pt x="24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6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269"/>
                    </a:gs>
                    <a:gs pos="100000">
                      <a:srgbClr val="dddddd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574"/>
                <p:cNvSpPr/>
                <p:nvPr/>
              </p:nvSpPr>
              <p:spPr>
                <a:xfrm flipH="1">
                  <a:off x="7741800" y="4483080"/>
                  <a:ext cx="10440" cy="1224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5"/>
                        <a:pt x="28" y="7"/>
                        <a:pt x="23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6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269"/>
                    </a:gs>
                    <a:gs pos="100000">
                      <a:srgbClr val="dddddd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75"/>
                <p:cNvSpPr/>
                <p:nvPr/>
              </p:nvSpPr>
              <p:spPr>
                <a:xfrm flipH="1">
                  <a:off x="7938720" y="4297320"/>
                  <a:ext cx="10800" cy="11880"/>
                </a:xfrm>
                <a:custGeom>
                  <a:avLst/>
                  <a:gdLst>
                    <a:gd name="textAreaLeft" fmla="*/ 360 w 10800"/>
                    <a:gd name="textAreaRight" fmla="*/ 11520 w 1080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6"/>
                        <a:pt x="28" y="7"/>
                        <a:pt x="24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7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269"/>
                    </a:gs>
                    <a:gs pos="100000">
                      <a:srgbClr val="dddddd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576"/>
                <p:cNvSpPr/>
                <p:nvPr/>
              </p:nvSpPr>
              <p:spPr>
                <a:xfrm flipH="1">
                  <a:off x="7741800" y="4243320"/>
                  <a:ext cx="10440" cy="11880"/>
                </a:xfrm>
                <a:custGeom>
                  <a:avLst/>
                  <a:gdLst>
                    <a:gd name="textAreaLeft" fmla="*/ -360 w 10440"/>
                    <a:gd name="textAreaRight" fmla="*/ 10440 w 10440"/>
                    <a:gd name="textAreaTop" fmla="*/ 0 h 11880"/>
                    <a:gd name="textAreaBottom" fmla="*/ 12240 h 11880"/>
                  </a:gdLst>
                  <a:ahLst/>
                  <a:rect l="textAreaLeft" t="textAreaTop" r="textAreaRight" b="textAreaBottom"/>
                  <a:pathLst>
                    <a:path w="28" h="32">
                      <a:moveTo>
                        <a:pt x="5" y="28"/>
                      </a:moveTo>
                      <a:cubicBezTo>
                        <a:pt x="10" y="32"/>
                        <a:pt x="17" y="29"/>
                        <a:pt x="23" y="22"/>
                      </a:cubicBezTo>
                      <a:cubicBezTo>
                        <a:pt x="28" y="16"/>
                        <a:pt x="28" y="7"/>
                        <a:pt x="23" y="4"/>
                      </a:cubicBezTo>
                      <a:cubicBezTo>
                        <a:pt x="19" y="0"/>
                        <a:pt x="11" y="3"/>
                        <a:pt x="6" y="10"/>
                      </a:cubicBezTo>
                      <a:cubicBezTo>
                        <a:pt x="1" y="17"/>
                        <a:pt x="0" y="25"/>
                        <a:pt x="5" y="2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c269"/>
                    </a:gs>
                    <a:gs pos="100000">
                      <a:srgbClr val="dddddd"/>
                    </a:gs>
                  </a:gsLst>
                  <a:lin ang="81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577"/>
                <p:cNvSpPr/>
                <p:nvPr/>
              </p:nvSpPr>
              <p:spPr>
                <a:xfrm flipH="1">
                  <a:off x="7852680" y="4391640"/>
                  <a:ext cx="11520" cy="2952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71" h="182">
                      <a:moveTo>
                        <a:pt x="0" y="19"/>
                      </a:moveTo>
                      <a:lnTo>
                        <a:pt x="0" y="182"/>
                      </a:lnTo>
                      <a:lnTo>
                        <a:pt x="71" y="163"/>
                      </a:lnTo>
                      <a:lnTo>
                        <a:pt x="71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578"/>
                <p:cNvSpPr/>
                <p:nvPr/>
              </p:nvSpPr>
              <p:spPr>
                <a:xfrm flipH="1">
                  <a:off x="7830000" y="4386600"/>
                  <a:ext cx="11520" cy="29520"/>
                </a:xfrm>
                <a:custGeom>
                  <a:avLst/>
                  <a:gdLst>
                    <a:gd name="textAreaLeft" fmla="*/ 360 w 11520"/>
                    <a:gd name="textAreaRight" fmla="*/ 12240 w 1152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71" h="182">
                      <a:moveTo>
                        <a:pt x="0" y="19"/>
                      </a:moveTo>
                      <a:lnTo>
                        <a:pt x="0" y="182"/>
                      </a:lnTo>
                      <a:lnTo>
                        <a:pt x="71" y="163"/>
                      </a:lnTo>
                      <a:lnTo>
                        <a:pt x="71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eaeaea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579"/>
                <p:cNvSpPr/>
                <p:nvPr/>
              </p:nvSpPr>
              <p:spPr>
                <a:xfrm flipH="1">
                  <a:off x="8383320" y="4434120"/>
                  <a:ext cx="25200" cy="25920"/>
                </a:xfrm>
                <a:custGeom>
                  <a:avLst/>
                  <a:gdLst>
                    <a:gd name="textAreaLeft" fmla="*/ 360 w 25200"/>
                    <a:gd name="textAreaRight" fmla="*/ 25920 w 2520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66" h="68">
                      <a:moveTo>
                        <a:pt x="66" y="68"/>
                      </a:moveTo>
                      <a:cubicBezTo>
                        <a:pt x="6" y="58"/>
                        <a:pt x="13" y="56"/>
                        <a:pt x="13" y="43"/>
                      </a:cubicBezTo>
                      <a:cubicBezTo>
                        <a:pt x="13" y="31"/>
                        <a:pt x="0" y="0"/>
                        <a:pt x="13" y="0"/>
                      </a:cubicBezTo>
                      <a:cubicBezTo>
                        <a:pt x="26" y="0"/>
                        <a:pt x="54" y="12"/>
                        <a:pt x="66" y="12"/>
                      </a:cubicBezTo>
                      <a:lnTo>
                        <a:pt x="66" y="6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c0c0c0"/>
                    </a:gs>
                  </a:gsLst>
                  <a:lin ang="108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1" name=""/>
            <p:cNvGrpSpPr/>
            <p:nvPr/>
          </p:nvGrpSpPr>
          <p:grpSpPr>
            <a:xfrm>
              <a:off x="1683360" y="4820760"/>
              <a:ext cx="242640" cy="317160"/>
              <a:chOff x="1683360" y="4820760"/>
              <a:chExt cx="242640" cy="317160"/>
            </a:xfrm>
          </p:grpSpPr>
          <p:sp>
            <p:nvSpPr>
              <p:cNvPr id="792" name="Freeform 679"/>
              <p:cNvSpPr/>
              <p:nvPr/>
            </p:nvSpPr>
            <p:spPr>
              <a:xfrm>
                <a:off x="1683360" y="4820760"/>
                <a:ext cx="242640" cy="31716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319" h="416">
                    <a:moveTo>
                      <a:pt x="0" y="416"/>
                    </a:moveTo>
                    <a:lnTo>
                      <a:pt x="0" y="88"/>
                    </a:lnTo>
                    <a:lnTo>
                      <a:pt x="319" y="0"/>
                    </a:lnTo>
                    <a:lnTo>
                      <a:pt x="319" y="331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1b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680"/>
              <p:cNvSpPr/>
              <p:nvPr/>
            </p:nvSpPr>
            <p:spPr>
              <a:xfrm>
                <a:off x="1733400" y="4893120"/>
                <a:ext cx="139680" cy="1731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78" h="96">
                    <a:moveTo>
                      <a:pt x="60" y="16"/>
                    </a:moveTo>
                    <a:cubicBezTo>
                      <a:pt x="53" y="60"/>
                      <a:pt x="53" y="60"/>
                      <a:pt x="53" y="60"/>
                    </a:cubicBezTo>
                    <a:cubicBezTo>
                      <a:pt x="53" y="61"/>
                      <a:pt x="53" y="61"/>
                      <a:pt x="53" y="62"/>
                    </a:cubicBezTo>
                    <a:cubicBezTo>
                      <a:pt x="53" y="62"/>
                      <a:pt x="53" y="63"/>
                      <a:pt x="53" y="63"/>
                    </a:cubicBezTo>
                    <a:cubicBezTo>
                      <a:pt x="54" y="63"/>
                      <a:pt x="54" y="63"/>
                      <a:pt x="55" y="63"/>
                    </a:cubicBezTo>
                    <a:cubicBezTo>
                      <a:pt x="57" y="63"/>
                      <a:pt x="58" y="61"/>
                      <a:pt x="60" y="59"/>
                    </a:cubicBezTo>
                    <a:cubicBezTo>
                      <a:pt x="63" y="56"/>
                      <a:pt x="66" y="53"/>
                      <a:pt x="68" y="48"/>
                    </a:cubicBezTo>
                    <a:cubicBezTo>
                      <a:pt x="69" y="44"/>
                      <a:pt x="70" y="39"/>
                      <a:pt x="70" y="33"/>
                    </a:cubicBezTo>
                    <a:cubicBezTo>
                      <a:pt x="70" y="24"/>
                      <a:pt x="68" y="17"/>
                      <a:pt x="63" y="13"/>
                    </a:cubicBezTo>
                    <a:cubicBezTo>
                      <a:pt x="57" y="9"/>
                      <a:pt x="51" y="8"/>
                      <a:pt x="42" y="10"/>
                    </a:cubicBezTo>
                    <a:cubicBezTo>
                      <a:pt x="36" y="12"/>
                      <a:pt x="30" y="15"/>
                      <a:pt x="24" y="20"/>
                    </a:cubicBezTo>
                    <a:cubicBezTo>
                      <a:pt x="19" y="24"/>
                      <a:pt x="15" y="30"/>
                      <a:pt x="12" y="37"/>
                    </a:cubicBezTo>
                    <a:cubicBezTo>
                      <a:pt x="10" y="44"/>
                      <a:pt x="8" y="51"/>
                      <a:pt x="8" y="58"/>
                    </a:cubicBezTo>
                    <a:cubicBezTo>
                      <a:pt x="8" y="69"/>
                      <a:pt x="11" y="78"/>
                      <a:pt x="17" y="83"/>
                    </a:cubicBezTo>
                    <a:cubicBezTo>
                      <a:pt x="24" y="88"/>
                      <a:pt x="31" y="89"/>
                      <a:pt x="41" y="86"/>
                    </a:cubicBezTo>
                    <a:cubicBezTo>
                      <a:pt x="46" y="85"/>
                      <a:pt x="51" y="83"/>
                      <a:pt x="55" y="80"/>
                    </a:cubicBezTo>
                    <a:cubicBezTo>
                      <a:pt x="59" y="77"/>
                      <a:pt x="64" y="74"/>
                      <a:pt x="68" y="69"/>
                    </a:cubicBezTo>
                    <a:cubicBezTo>
                      <a:pt x="78" y="67"/>
                      <a:pt x="78" y="67"/>
                      <a:pt x="78" y="67"/>
                    </a:cubicBezTo>
                    <a:cubicBezTo>
                      <a:pt x="75" y="71"/>
                      <a:pt x="73" y="74"/>
                      <a:pt x="70" y="77"/>
                    </a:cubicBezTo>
                    <a:cubicBezTo>
                      <a:pt x="66" y="80"/>
                      <a:pt x="62" y="84"/>
                      <a:pt x="57" y="87"/>
                    </a:cubicBezTo>
                    <a:cubicBezTo>
                      <a:pt x="52" y="90"/>
                      <a:pt x="47" y="93"/>
                      <a:pt x="41" y="94"/>
                    </a:cubicBezTo>
                    <a:cubicBezTo>
                      <a:pt x="34" y="96"/>
                      <a:pt x="27" y="96"/>
                      <a:pt x="20" y="94"/>
                    </a:cubicBezTo>
                    <a:cubicBezTo>
                      <a:pt x="14" y="92"/>
                      <a:pt x="9" y="88"/>
                      <a:pt x="6" y="82"/>
                    </a:cubicBezTo>
                    <a:cubicBezTo>
                      <a:pt x="2" y="76"/>
                      <a:pt x="0" y="69"/>
                      <a:pt x="0" y="60"/>
                    </a:cubicBezTo>
                    <a:cubicBezTo>
                      <a:pt x="0" y="51"/>
                      <a:pt x="2" y="43"/>
                      <a:pt x="6" y="35"/>
                    </a:cubicBezTo>
                    <a:cubicBezTo>
                      <a:pt x="9" y="26"/>
                      <a:pt x="14" y="20"/>
                      <a:pt x="20" y="14"/>
                    </a:cubicBezTo>
                    <a:cubicBezTo>
                      <a:pt x="26" y="9"/>
                      <a:pt x="34" y="5"/>
                      <a:pt x="42" y="3"/>
                    </a:cubicBezTo>
                    <a:cubicBezTo>
                      <a:pt x="53" y="0"/>
                      <a:pt x="61" y="1"/>
                      <a:pt x="68" y="6"/>
                    </a:cubicBezTo>
                    <a:cubicBezTo>
                      <a:pt x="75" y="11"/>
                      <a:pt x="78" y="20"/>
                      <a:pt x="78" y="31"/>
                    </a:cubicBezTo>
                    <a:cubicBezTo>
                      <a:pt x="78" y="37"/>
                      <a:pt x="77" y="44"/>
                      <a:pt x="74" y="50"/>
                    </a:cubicBezTo>
                    <a:cubicBezTo>
                      <a:pt x="72" y="56"/>
                      <a:pt x="68" y="62"/>
                      <a:pt x="63" y="66"/>
                    </a:cubicBezTo>
                    <a:cubicBezTo>
                      <a:pt x="59" y="70"/>
                      <a:pt x="55" y="72"/>
                      <a:pt x="52" y="73"/>
                    </a:cubicBezTo>
                    <a:cubicBezTo>
                      <a:pt x="50" y="73"/>
                      <a:pt x="48" y="73"/>
                      <a:pt x="47" y="73"/>
                    </a:cubicBezTo>
                    <a:cubicBezTo>
                      <a:pt x="45" y="72"/>
                      <a:pt x="44" y="71"/>
                      <a:pt x="44" y="69"/>
                    </a:cubicBezTo>
                    <a:cubicBezTo>
                      <a:pt x="41" y="72"/>
                      <a:pt x="39" y="74"/>
                      <a:pt x="38" y="75"/>
                    </a:cubicBezTo>
                    <a:cubicBezTo>
                      <a:pt x="36" y="77"/>
                      <a:pt x="34" y="78"/>
                      <a:pt x="31" y="78"/>
                    </a:cubicBezTo>
                    <a:cubicBezTo>
                      <a:pt x="27" y="80"/>
                      <a:pt x="23" y="79"/>
                      <a:pt x="20" y="76"/>
                    </a:cubicBezTo>
                    <a:cubicBezTo>
                      <a:pt x="17" y="73"/>
                      <a:pt x="15" y="67"/>
                      <a:pt x="15" y="60"/>
                    </a:cubicBezTo>
                    <a:cubicBezTo>
                      <a:pt x="15" y="51"/>
                      <a:pt x="17" y="43"/>
                      <a:pt x="21" y="35"/>
                    </a:cubicBezTo>
                    <a:cubicBezTo>
                      <a:pt x="25" y="27"/>
                      <a:pt x="31" y="22"/>
                      <a:pt x="37" y="20"/>
                    </a:cubicBezTo>
                    <a:cubicBezTo>
                      <a:pt x="39" y="20"/>
                      <a:pt x="41" y="20"/>
                      <a:pt x="43" y="20"/>
                    </a:cubicBezTo>
                    <a:cubicBezTo>
                      <a:pt x="45" y="21"/>
                      <a:pt x="47" y="23"/>
                      <a:pt x="49" y="25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60" y="16"/>
                      <a:pt x="60" y="16"/>
                      <a:pt x="60" y="16"/>
                    </a:cubicBezTo>
                    <a:close/>
                    <a:moveTo>
                      <a:pt x="26" y="60"/>
                    </a:moveTo>
                    <a:cubicBezTo>
                      <a:pt x="26" y="64"/>
                      <a:pt x="27" y="67"/>
                      <a:pt x="28" y="69"/>
                    </a:cubicBezTo>
                    <a:cubicBezTo>
                      <a:pt x="30" y="70"/>
                      <a:pt x="31" y="71"/>
                      <a:pt x="33" y="70"/>
                    </a:cubicBezTo>
                    <a:cubicBezTo>
                      <a:pt x="35" y="70"/>
                      <a:pt x="37" y="68"/>
                      <a:pt x="39" y="66"/>
                    </a:cubicBezTo>
                    <a:cubicBezTo>
                      <a:pt x="41" y="63"/>
                      <a:pt x="42" y="59"/>
                      <a:pt x="44" y="53"/>
                    </a:cubicBezTo>
                    <a:cubicBezTo>
                      <a:pt x="45" y="47"/>
                      <a:pt x="46" y="42"/>
                      <a:pt x="46" y="37"/>
                    </a:cubicBezTo>
                    <a:cubicBezTo>
                      <a:pt x="46" y="33"/>
                      <a:pt x="45" y="31"/>
                      <a:pt x="44" y="30"/>
                    </a:cubicBezTo>
                    <a:cubicBezTo>
                      <a:pt x="42" y="28"/>
                      <a:pt x="40" y="28"/>
                      <a:pt x="38" y="28"/>
                    </a:cubicBezTo>
                    <a:cubicBezTo>
                      <a:pt x="36" y="29"/>
                      <a:pt x="34" y="30"/>
                      <a:pt x="33" y="33"/>
                    </a:cubicBezTo>
                    <a:cubicBezTo>
                      <a:pt x="30" y="36"/>
                      <a:pt x="29" y="40"/>
                      <a:pt x="27" y="45"/>
                    </a:cubicBezTo>
                    <a:cubicBezTo>
                      <a:pt x="26" y="51"/>
                      <a:pt x="26" y="56"/>
                      <a:pt x="26" y="6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1186920" y="4949640"/>
              <a:ext cx="242640" cy="314640"/>
              <a:chOff x="1186920" y="4949640"/>
              <a:chExt cx="242640" cy="314640"/>
            </a:xfrm>
          </p:grpSpPr>
          <p:sp>
            <p:nvSpPr>
              <p:cNvPr id="795" name="Freeform 682"/>
              <p:cNvSpPr/>
              <p:nvPr/>
            </p:nvSpPr>
            <p:spPr>
              <a:xfrm>
                <a:off x="1186920" y="4949640"/>
                <a:ext cx="242640" cy="31464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319" h="414">
                    <a:moveTo>
                      <a:pt x="0" y="414"/>
                    </a:moveTo>
                    <a:lnTo>
                      <a:pt x="0" y="85"/>
                    </a:lnTo>
                    <a:lnTo>
                      <a:pt x="319" y="0"/>
                    </a:lnTo>
                    <a:lnTo>
                      <a:pt x="319" y="329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1b171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683"/>
              <p:cNvSpPr/>
              <p:nvPr/>
            </p:nvSpPr>
            <p:spPr>
              <a:xfrm>
                <a:off x="1245960" y="5010840"/>
                <a:ext cx="138240" cy="20448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204480"/>
                  <a:gd name="textAreaBottom" fmla="*/ 204840 h 204480"/>
                </a:gdLst>
                <a:ahLst/>
                <a:rect l="textAreaLeft" t="textAreaTop" r="textAreaRight" b="textAreaBottom"/>
                <a:pathLst>
                  <a:path w="77" h="114">
                    <a:moveTo>
                      <a:pt x="28" y="112"/>
                    </a:moveTo>
                    <a:cubicBezTo>
                      <a:pt x="24" y="110"/>
                      <a:pt x="20" y="108"/>
                      <a:pt x="19" y="104"/>
                    </a:cubicBezTo>
                    <a:cubicBezTo>
                      <a:pt x="18" y="102"/>
                      <a:pt x="19" y="98"/>
                      <a:pt x="23" y="93"/>
                    </a:cubicBezTo>
                    <a:cubicBezTo>
                      <a:pt x="25" y="92"/>
                      <a:pt x="30" y="87"/>
                      <a:pt x="37" y="86"/>
                    </a:cubicBezTo>
                    <a:cubicBezTo>
                      <a:pt x="41" y="86"/>
                      <a:pt x="45" y="88"/>
                      <a:pt x="48" y="89"/>
                    </a:cubicBezTo>
                    <a:cubicBezTo>
                      <a:pt x="51" y="91"/>
                      <a:pt x="56" y="92"/>
                      <a:pt x="62" y="91"/>
                    </a:cubicBezTo>
                    <a:cubicBezTo>
                      <a:pt x="68" y="90"/>
                      <a:pt x="74" y="85"/>
                      <a:pt x="76" y="81"/>
                    </a:cubicBezTo>
                    <a:cubicBezTo>
                      <a:pt x="77" y="78"/>
                      <a:pt x="75" y="74"/>
                      <a:pt x="72" y="72"/>
                    </a:cubicBezTo>
                    <a:cubicBezTo>
                      <a:pt x="70" y="70"/>
                      <a:pt x="67" y="68"/>
                      <a:pt x="63" y="67"/>
                    </a:cubicBezTo>
                    <a:cubicBezTo>
                      <a:pt x="62" y="66"/>
                      <a:pt x="62" y="66"/>
                      <a:pt x="62" y="66"/>
                    </a:cubicBezTo>
                    <a:cubicBezTo>
                      <a:pt x="55" y="63"/>
                      <a:pt x="50" y="59"/>
                      <a:pt x="45" y="54"/>
                    </a:cubicBezTo>
                    <a:cubicBezTo>
                      <a:pt x="44" y="54"/>
                      <a:pt x="44" y="53"/>
                      <a:pt x="43" y="53"/>
                    </a:cubicBezTo>
                    <a:cubicBezTo>
                      <a:pt x="42" y="52"/>
                      <a:pt x="41" y="54"/>
                      <a:pt x="39" y="54"/>
                    </a:cubicBezTo>
                    <a:cubicBezTo>
                      <a:pt x="35" y="55"/>
                      <a:pt x="33" y="51"/>
                      <a:pt x="31" y="50"/>
                    </a:cubicBezTo>
                    <a:cubicBezTo>
                      <a:pt x="27" y="46"/>
                      <a:pt x="24" y="42"/>
                      <a:pt x="21" y="37"/>
                    </a:cubicBezTo>
                    <a:cubicBezTo>
                      <a:pt x="20" y="35"/>
                      <a:pt x="18" y="32"/>
                      <a:pt x="19" y="30"/>
                    </a:cubicBezTo>
                    <a:cubicBezTo>
                      <a:pt x="19" y="28"/>
                      <a:pt x="20" y="27"/>
                      <a:pt x="22" y="26"/>
                    </a:cubicBezTo>
                    <a:cubicBezTo>
                      <a:pt x="23" y="25"/>
                      <a:pt x="23" y="25"/>
                      <a:pt x="22" y="25"/>
                    </a:cubicBezTo>
                    <a:cubicBezTo>
                      <a:pt x="20" y="19"/>
                      <a:pt x="17" y="12"/>
                      <a:pt x="16" y="5"/>
                    </a:cubicBezTo>
                    <a:cubicBezTo>
                      <a:pt x="9" y="8"/>
                      <a:pt x="3" y="14"/>
                      <a:pt x="2" y="19"/>
                    </a:cubicBezTo>
                    <a:cubicBezTo>
                      <a:pt x="0" y="27"/>
                      <a:pt x="2" y="36"/>
                      <a:pt x="5" y="43"/>
                    </a:cubicBezTo>
                    <a:cubicBezTo>
                      <a:pt x="9" y="52"/>
                      <a:pt x="15" y="59"/>
                      <a:pt x="24" y="64"/>
                    </a:cubicBezTo>
                    <a:cubicBezTo>
                      <a:pt x="28" y="66"/>
                      <a:pt x="32" y="68"/>
                      <a:pt x="36" y="70"/>
                    </a:cubicBezTo>
                    <a:cubicBezTo>
                      <a:pt x="40" y="71"/>
                      <a:pt x="44" y="72"/>
                      <a:pt x="49" y="71"/>
                    </a:cubicBezTo>
                    <a:cubicBezTo>
                      <a:pt x="52" y="71"/>
                      <a:pt x="56" y="69"/>
                      <a:pt x="59" y="68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61" y="69"/>
                      <a:pt x="61" y="69"/>
                      <a:pt x="61" y="69"/>
                    </a:cubicBezTo>
                    <a:cubicBezTo>
                      <a:pt x="64" y="70"/>
                      <a:pt x="67" y="72"/>
                      <a:pt x="70" y="74"/>
                    </a:cubicBezTo>
                    <a:cubicBezTo>
                      <a:pt x="72" y="75"/>
                      <a:pt x="74" y="79"/>
                      <a:pt x="73" y="81"/>
                    </a:cubicBezTo>
                    <a:cubicBezTo>
                      <a:pt x="71" y="85"/>
                      <a:pt x="67" y="88"/>
                      <a:pt x="63" y="89"/>
                    </a:cubicBezTo>
                    <a:cubicBezTo>
                      <a:pt x="57" y="90"/>
                      <a:pt x="53" y="88"/>
                      <a:pt x="50" y="87"/>
                    </a:cubicBezTo>
                    <a:cubicBezTo>
                      <a:pt x="47" y="85"/>
                      <a:pt x="43" y="83"/>
                      <a:pt x="37" y="84"/>
                    </a:cubicBezTo>
                    <a:cubicBezTo>
                      <a:pt x="32" y="84"/>
                      <a:pt x="26" y="88"/>
                      <a:pt x="21" y="93"/>
                    </a:cubicBezTo>
                    <a:cubicBezTo>
                      <a:pt x="16" y="98"/>
                      <a:pt x="14" y="102"/>
                      <a:pt x="16" y="106"/>
                    </a:cubicBezTo>
                    <a:cubicBezTo>
                      <a:pt x="18" y="109"/>
                      <a:pt x="22" y="112"/>
                      <a:pt x="26" y="114"/>
                    </a:cubicBezTo>
                    <a:cubicBezTo>
                      <a:pt x="28" y="112"/>
                      <a:pt x="28" y="112"/>
                      <a:pt x="28" y="112"/>
                    </a:cubicBezTo>
                    <a:close/>
                    <a:moveTo>
                      <a:pt x="61" y="61"/>
                    </a:moveTo>
                    <a:cubicBezTo>
                      <a:pt x="62" y="62"/>
                      <a:pt x="64" y="63"/>
                      <a:pt x="66" y="63"/>
                    </a:cubicBezTo>
                    <a:cubicBezTo>
                      <a:pt x="69" y="61"/>
                      <a:pt x="73" y="57"/>
                      <a:pt x="71" y="55"/>
                    </a:cubicBezTo>
                    <a:cubicBezTo>
                      <a:pt x="68" y="54"/>
                      <a:pt x="66" y="52"/>
                      <a:pt x="64" y="50"/>
                    </a:cubicBezTo>
                    <a:cubicBezTo>
                      <a:pt x="62" y="49"/>
                      <a:pt x="59" y="46"/>
                      <a:pt x="56" y="46"/>
                    </a:cubicBezTo>
                    <a:cubicBezTo>
                      <a:pt x="53" y="45"/>
                      <a:pt x="50" y="48"/>
                      <a:pt x="47" y="50"/>
                    </a:cubicBezTo>
                    <a:cubicBezTo>
                      <a:pt x="51" y="54"/>
                      <a:pt x="55" y="58"/>
                      <a:pt x="61" y="61"/>
                    </a:cubicBezTo>
                    <a:close/>
                    <a:moveTo>
                      <a:pt x="28" y="24"/>
                    </a:moveTo>
                    <a:cubicBezTo>
                      <a:pt x="31" y="22"/>
                      <a:pt x="35" y="21"/>
                      <a:pt x="36" y="18"/>
                    </a:cubicBezTo>
                    <a:cubicBezTo>
                      <a:pt x="37" y="16"/>
                      <a:pt x="35" y="13"/>
                      <a:pt x="34" y="10"/>
                    </a:cubicBezTo>
                    <a:cubicBezTo>
                      <a:pt x="33" y="8"/>
                      <a:pt x="33" y="5"/>
                      <a:pt x="32" y="3"/>
                    </a:cubicBezTo>
                    <a:cubicBezTo>
                      <a:pt x="31" y="0"/>
                      <a:pt x="25" y="2"/>
                      <a:pt x="21" y="3"/>
                    </a:cubicBezTo>
                    <a:cubicBezTo>
                      <a:pt x="21" y="5"/>
                      <a:pt x="21" y="7"/>
                      <a:pt x="22" y="8"/>
                    </a:cubicBezTo>
                    <a:cubicBezTo>
                      <a:pt x="23" y="14"/>
                      <a:pt x="25" y="19"/>
                      <a:pt x="28" y="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2358720" y="5146200"/>
              <a:ext cx="505800" cy="151560"/>
              <a:chOff x="2358720" y="5146200"/>
              <a:chExt cx="505800" cy="151560"/>
            </a:xfrm>
          </p:grpSpPr>
          <p:sp>
            <p:nvSpPr>
              <p:cNvPr id="798" name="Freeform 715"/>
              <p:cNvSpPr/>
              <p:nvPr/>
            </p:nvSpPr>
            <p:spPr>
              <a:xfrm>
                <a:off x="2503440" y="5146200"/>
                <a:ext cx="71640" cy="3492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6" h="217">
                    <a:moveTo>
                      <a:pt x="0" y="0"/>
                    </a:moveTo>
                    <a:lnTo>
                      <a:pt x="0" y="97"/>
                    </a:lnTo>
                    <a:lnTo>
                      <a:pt x="446" y="217"/>
                    </a:lnTo>
                    <a:lnTo>
                      <a:pt x="446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716"/>
              <p:cNvSpPr/>
              <p:nvPr/>
            </p:nvSpPr>
            <p:spPr>
              <a:xfrm>
                <a:off x="2358720" y="5146200"/>
                <a:ext cx="505800" cy="136080"/>
              </a:xfrm>
              <a:custGeom>
                <a:avLst/>
                <a:gdLst>
                  <a:gd name="textAreaLeft" fmla="*/ 0 w 505800"/>
                  <a:gd name="textAreaRight" fmla="*/ 506160 w 5058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3137" h="843">
                    <a:moveTo>
                      <a:pt x="2887" y="54"/>
                    </a:moveTo>
                    <a:lnTo>
                      <a:pt x="898" y="0"/>
                    </a:lnTo>
                    <a:lnTo>
                      <a:pt x="1344" y="120"/>
                    </a:lnTo>
                    <a:lnTo>
                      <a:pt x="0" y="482"/>
                    </a:lnTo>
                    <a:lnTo>
                      <a:pt x="1344" y="843"/>
                    </a:lnTo>
                    <a:lnTo>
                      <a:pt x="2688" y="482"/>
                    </a:lnTo>
                    <a:lnTo>
                      <a:pt x="3137" y="602"/>
                    </a:lnTo>
                    <a:lnTo>
                      <a:pt x="2887" y="54"/>
                    </a:lnTo>
                    <a:close/>
                  </a:path>
                </a:pathLst>
              </a:custGeom>
              <a:solidFill>
                <a:srgbClr val="333333"/>
              </a:soli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717"/>
              <p:cNvSpPr/>
              <p:nvPr/>
            </p:nvSpPr>
            <p:spPr>
              <a:xfrm>
                <a:off x="2358720" y="5223960"/>
                <a:ext cx="216720" cy="73800"/>
              </a:xfrm>
              <a:custGeom>
                <a:avLst/>
                <a:gdLst>
                  <a:gd name="textAreaLeft" fmla="*/ 0 w 216720"/>
                  <a:gd name="textAreaRight" fmla="*/ 217080 w 21672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1344" h="458">
                    <a:moveTo>
                      <a:pt x="0" y="0"/>
                    </a:moveTo>
                    <a:lnTo>
                      <a:pt x="0" y="97"/>
                    </a:lnTo>
                    <a:lnTo>
                      <a:pt x="1344" y="458"/>
                    </a:lnTo>
                    <a:lnTo>
                      <a:pt x="1344" y="3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718"/>
              <p:cNvSpPr/>
              <p:nvPr/>
            </p:nvSpPr>
            <p:spPr>
              <a:xfrm>
                <a:off x="2792160" y="5223960"/>
                <a:ext cx="72360" cy="3492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449" h="217">
                    <a:moveTo>
                      <a:pt x="0" y="0"/>
                    </a:moveTo>
                    <a:lnTo>
                      <a:pt x="0" y="97"/>
                    </a:lnTo>
                    <a:lnTo>
                      <a:pt x="449" y="217"/>
                    </a:lnTo>
                    <a:lnTo>
                      <a:pt x="449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719"/>
              <p:cNvSpPr/>
              <p:nvPr/>
            </p:nvSpPr>
            <p:spPr>
              <a:xfrm>
                <a:off x="2575440" y="5223960"/>
                <a:ext cx="216720" cy="73800"/>
              </a:xfrm>
              <a:custGeom>
                <a:avLst/>
                <a:gdLst>
                  <a:gd name="textAreaLeft" fmla="*/ 0 w 216720"/>
                  <a:gd name="textAreaRight" fmla="*/ 217080 w 21672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1344" h="458">
                    <a:moveTo>
                      <a:pt x="0" y="458"/>
                    </a:moveTo>
                    <a:lnTo>
                      <a:pt x="0" y="361"/>
                    </a:lnTo>
                    <a:lnTo>
                      <a:pt x="1344" y="0"/>
                    </a:lnTo>
                    <a:lnTo>
                      <a:pt x="1344" y="97"/>
                    </a:lnTo>
                    <a:lnTo>
                      <a:pt x="0" y="458"/>
                    </a:lnTo>
                    <a:close/>
                  </a:path>
                </a:pathLst>
              </a:custGeom>
              <a:solidFill>
                <a:srgbClr val="333333"/>
              </a:soli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5096880" y="4447440"/>
              <a:ext cx="405000" cy="112320"/>
              <a:chOff x="5096880" y="4447440"/>
              <a:chExt cx="405000" cy="112320"/>
            </a:xfrm>
          </p:grpSpPr>
          <p:sp>
            <p:nvSpPr>
              <p:cNvPr id="804" name="Freeform 796"/>
              <p:cNvSpPr/>
              <p:nvPr/>
            </p:nvSpPr>
            <p:spPr>
              <a:xfrm>
                <a:off x="5263200" y="4447440"/>
                <a:ext cx="238680" cy="6480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1344" h="361">
                    <a:moveTo>
                      <a:pt x="0" y="120"/>
                    </a:moveTo>
                    <a:lnTo>
                      <a:pt x="1344" y="0"/>
                    </a:lnTo>
                    <a:lnTo>
                      <a:pt x="898" y="361"/>
                    </a:lnTo>
                    <a:lnTo>
                      <a:pt x="0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79c979"/>
                  </a:gs>
                </a:gsLst>
                <a:lin ang="5400000"/>
              </a:gra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797"/>
              <p:cNvSpPr/>
              <p:nvPr/>
            </p:nvSpPr>
            <p:spPr>
              <a:xfrm flipH="1">
                <a:off x="5096880" y="4505760"/>
                <a:ext cx="195120" cy="54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60" h="43">
                    <a:moveTo>
                      <a:pt x="0" y="21"/>
                    </a:moveTo>
                    <a:lnTo>
                      <a:pt x="80" y="0"/>
                    </a:lnTo>
                    <a:lnTo>
                      <a:pt x="160" y="21"/>
                    </a:lnTo>
                    <a:lnTo>
                      <a:pt x="80" y="43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79c979"/>
                  </a:gs>
                </a:gsLst>
                <a:lin ang="5400000"/>
              </a:gra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3327120" y="4070520"/>
              <a:ext cx="979920" cy="488520"/>
              <a:chOff x="3327120" y="4070520"/>
              <a:chExt cx="979920" cy="488520"/>
            </a:xfrm>
          </p:grpSpPr>
          <p:grpSp>
            <p:nvGrpSpPr>
              <p:cNvPr id="807" name=""/>
              <p:cNvGrpSpPr/>
              <p:nvPr/>
            </p:nvGrpSpPr>
            <p:grpSpPr>
              <a:xfrm>
                <a:off x="3327120" y="4132800"/>
                <a:ext cx="979920" cy="426240"/>
                <a:chOff x="3327120" y="4132800"/>
                <a:chExt cx="979920" cy="426240"/>
              </a:xfrm>
            </p:grpSpPr>
            <p:grpSp>
              <p:nvGrpSpPr>
                <p:cNvPr id="808" name=""/>
                <p:cNvGrpSpPr/>
                <p:nvPr/>
              </p:nvGrpSpPr>
              <p:grpSpPr>
                <a:xfrm>
                  <a:off x="3327120" y="4295160"/>
                  <a:ext cx="979920" cy="263880"/>
                  <a:chOff x="3327120" y="4295160"/>
                  <a:chExt cx="979920" cy="263880"/>
                </a:xfrm>
              </p:grpSpPr>
              <p:sp>
                <p:nvSpPr>
                  <p:cNvPr id="809" name="Freeform 801"/>
                  <p:cNvSpPr/>
                  <p:nvPr/>
                </p:nvSpPr>
                <p:spPr>
                  <a:xfrm>
                    <a:off x="4111920" y="4505040"/>
                    <a:ext cx="195120" cy="54000"/>
                  </a:xfrm>
                  <a:custGeom>
                    <a:avLst/>
                    <a:gdLst>
                      <a:gd name="textAreaLeft" fmla="*/ 0 w 195120"/>
                      <a:gd name="textAreaRight" fmla="*/ 195480 w 19512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Freeform 802"/>
                  <p:cNvSpPr/>
                  <p:nvPr/>
                </p:nvSpPr>
                <p:spPr>
                  <a:xfrm>
                    <a:off x="3915360" y="4452480"/>
                    <a:ext cx="196200" cy="52560"/>
                  </a:xfrm>
                  <a:custGeom>
                    <a:avLst/>
                    <a:gdLst>
                      <a:gd name="textAreaLeft" fmla="*/ 0 w 196200"/>
                      <a:gd name="textAreaRight" fmla="*/ 19656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Freeform 803"/>
                  <p:cNvSpPr/>
                  <p:nvPr/>
                </p:nvSpPr>
                <p:spPr>
                  <a:xfrm>
                    <a:off x="3718800" y="4399560"/>
                    <a:ext cx="196560" cy="52560"/>
                  </a:xfrm>
                  <a:custGeom>
                    <a:avLst/>
                    <a:gdLst>
                      <a:gd name="textAreaLeft" fmla="*/ 0 w 196560"/>
                      <a:gd name="textAreaRight" fmla="*/ 196920 w 19656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Freeform 804"/>
                  <p:cNvSpPr/>
                  <p:nvPr/>
                </p:nvSpPr>
                <p:spPr>
                  <a:xfrm>
                    <a:off x="3523320" y="4347720"/>
                    <a:ext cx="195120" cy="51480"/>
                  </a:xfrm>
                  <a:custGeom>
                    <a:avLst/>
                    <a:gdLst>
                      <a:gd name="textAreaLeft" fmla="*/ 0 w 195120"/>
                      <a:gd name="textAreaRight" fmla="*/ 195480 w 195120"/>
                      <a:gd name="textAreaTop" fmla="*/ 0 h 51480"/>
                      <a:gd name="textAreaBottom" fmla="*/ 51840 h 5148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Freeform 805"/>
                  <p:cNvSpPr/>
                  <p:nvPr/>
                </p:nvSpPr>
                <p:spPr>
                  <a:xfrm>
                    <a:off x="3327120" y="4295160"/>
                    <a:ext cx="196200" cy="52560"/>
                  </a:xfrm>
                  <a:custGeom>
                    <a:avLst/>
                    <a:gdLst>
                      <a:gd name="textAreaLeft" fmla="*/ 0 w 196200"/>
                      <a:gd name="textAreaRight" fmla="*/ 19656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1" h="43">
                        <a:moveTo>
                          <a:pt x="0" y="21"/>
                        </a:moveTo>
                        <a:lnTo>
                          <a:pt x="81" y="0"/>
                        </a:lnTo>
                        <a:lnTo>
                          <a:pt x="161" y="21"/>
                        </a:lnTo>
                        <a:lnTo>
                          <a:pt x="81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4" name=""/>
                <p:cNvGrpSpPr/>
                <p:nvPr/>
              </p:nvGrpSpPr>
              <p:grpSpPr>
                <a:xfrm>
                  <a:off x="3329640" y="4132800"/>
                  <a:ext cx="587880" cy="159480"/>
                  <a:chOff x="3329640" y="4132800"/>
                  <a:chExt cx="587880" cy="159480"/>
                </a:xfrm>
              </p:grpSpPr>
              <p:sp>
                <p:nvSpPr>
                  <p:cNvPr id="815" name="Freeform 807"/>
                  <p:cNvSpPr/>
                  <p:nvPr/>
                </p:nvSpPr>
                <p:spPr>
                  <a:xfrm flipH="1">
                    <a:off x="3329640" y="4238280"/>
                    <a:ext cx="195120" cy="54000"/>
                  </a:xfrm>
                  <a:custGeom>
                    <a:avLst/>
                    <a:gdLst>
                      <a:gd name="textAreaLeft" fmla="*/ 360 w 195120"/>
                      <a:gd name="textAreaRight" fmla="*/ 195840 w 19512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Freeform 808"/>
                  <p:cNvSpPr/>
                  <p:nvPr/>
                </p:nvSpPr>
                <p:spPr>
                  <a:xfrm flipH="1">
                    <a:off x="3524040" y="4185360"/>
                    <a:ext cx="196200" cy="52560"/>
                  </a:xfrm>
                  <a:custGeom>
                    <a:avLst/>
                    <a:gdLst>
                      <a:gd name="textAreaLeft" fmla="*/ -360 w 196200"/>
                      <a:gd name="textAreaRight" fmla="*/ 19620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Freeform 809"/>
                  <p:cNvSpPr/>
                  <p:nvPr/>
                </p:nvSpPr>
                <p:spPr>
                  <a:xfrm flipH="1">
                    <a:off x="3720960" y="4132800"/>
                    <a:ext cx="196560" cy="52560"/>
                  </a:xfrm>
                  <a:custGeom>
                    <a:avLst/>
                    <a:gdLst>
                      <a:gd name="textAreaLeft" fmla="*/ 360 w 196560"/>
                      <a:gd name="textAreaRight" fmla="*/ 197280 w 19656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18" name="Freeform 810"/>
              <p:cNvSpPr/>
              <p:nvPr/>
            </p:nvSpPr>
            <p:spPr>
              <a:xfrm>
                <a:off x="3880080" y="4070520"/>
                <a:ext cx="238320" cy="6516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5160"/>
                  <a:gd name="textAreaBottom" fmla="*/ 65160 h 65160"/>
                </a:gdLst>
                <a:ahLst/>
                <a:rect l="textAreaLeft" t="textAreaTop" r="textAreaRight" b="textAreaBottom"/>
                <a:pathLst>
                  <a:path w="1344" h="361">
                    <a:moveTo>
                      <a:pt x="0" y="120"/>
                    </a:moveTo>
                    <a:lnTo>
                      <a:pt x="1344" y="0"/>
                    </a:lnTo>
                    <a:lnTo>
                      <a:pt x="898" y="361"/>
                    </a:lnTo>
                    <a:lnTo>
                      <a:pt x="0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79c979"/>
                  </a:gs>
                </a:gsLst>
                <a:lin ang="5400000"/>
              </a:gra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5101200" y="4766400"/>
              <a:ext cx="1766520" cy="263880"/>
              <a:chOff x="5101200" y="4766400"/>
              <a:chExt cx="1766520" cy="263880"/>
            </a:xfrm>
          </p:grpSpPr>
          <p:grpSp>
            <p:nvGrpSpPr>
              <p:cNvPr id="820" name=""/>
              <p:cNvGrpSpPr/>
              <p:nvPr/>
            </p:nvGrpSpPr>
            <p:grpSpPr>
              <a:xfrm>
                <a:off x="5101200" y="4766400"/>
                <a:ext cx="1551600" cy="263880"/>
                <a:chOff x="5101200" y="4766400"/>
                <a:chExt cx="1551600" cy="263880"/>
              </a:xfrm>
            </p:grpSpPr>
            <p:grpSp>
              <p:nvGrpSpPr>
                <p:cNvPr id="821" name=""/>
                <p:cNvGrpSpPr/>
                <p:nvPr/>
              </p:nvGrpSpPr>
              <p:grpSpPr>
                <a:xfrm>
                  <a:off x="5101200" y="4766400"/>
                  <a:ext cx="979560" cy="263880"/>
                  <a:chOff x="5101200" y="4766400"/>
                  <a:chExt cx="979560" cy="263880"/>
                </a:xfrm>
              </p:grpSpPr>
              <p:sp>
                <p:nvSpPr>
                  <p:cNvPr id="822" name="Freeform 814"/>
                  <p:cNvSpPr/>
                  <p:nvPr/>
                </p:nvSpPr>
                <p:spPr>
                  <a:xfrm>
                    <a:off x="5885640" y="4976280"/>
                    <a:ext cx="195120" cy="54000"/>
                  </a:xfrm>
                  <a:custGeom>
                    <a:avLst/>
                    <a:gdLst>
                      <a:gd name="textAreaLeft" fmla="*/ 0 w 195120"/>
                      <a:gd name="textAreaRight" fmla="*/ 195480 w 19512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Freeform 815"/>
                  <p:cNvSpPr/>
                  <p:nvPr/>
                </p:nvSpPr>
                <p:spPr>
                  <a:xfrm>
                    <a:off x="5689440" y="4923720"/>
                    <a:ext cx="196200" cy="52560"/>
                  </a:xfrm>
                  <a:custGeom>
                    <a:avLst/>
                    <a:gdLst>
                      <a:gd name="textAreaLeft" fmla="*/ 0 w 196200"/>
                      <a:gd name="textAreaRight" fmla="*/ 19656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Freeform 816"/>
                  <p:cNvSpPr/>
                  <p:nvPr/>
                </p:nvSpPr>
                <p:spPr>
                  <a:xfrm>
                    <a:off x="5492520" y="4870800"/>
                    <a:ext cx="196560" cy="52560"/>
                  </a:xfrm>
                  <a:custGeom>
                    <a:avLst/>
                    <a:gdLst>
                      <a:gd name="textAreaLeft" fmla="*/ 0 w 196560"/>
                      <a:gd name="textAreaRight" fmla="*/ 196920 w 19656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Freeform 817"/>
                  <p:cNvSpPr/>
                  <p:nvPr/>
                </p:nvSpPr>
                <p:spPr>
                  <a:xfrm>
                    <a:off x="5297400" y="4818960"/>
                    <a:ext cx="195120" cy="51480"/>
                  </a:xfrm>
                  <a:custGeom>
                    <a:avLst/>
                    <a:gdLst>
                      <a:gd name="textAreaLeft" fmla="*/ 0 w 195120"/>
                      <a:gd name="textAreaRight" fmla="*/ 195480 w 195120"/>
                      <a:gd name="textAreaTop" fmla="*/ 0 h 51480"/>
                      <a:gd name="textAreaBottom" fmla="*/ 51840 h 5148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Freeform 818"/>
                  <p:cNvSpPr/>
                  <p:nvPr/>
                </p:nvSpPr>
                <p:spPr>
                  <a:xfrm>
                    <a:off x="5101200" y="4766400"/>
                    <a:ext cx="196200" cy="52560"/>
                  </a:xfrm>
                  <a:custGeom>
                    <a:avLst/>
                    <a:gdLst>
                      <a:gd name="textAreaLeft" fmla="*/ 0 w 196200"/>
                      <a:gd name="textAreaRight" fmla="*/ 19656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1" h="43">
                        <a:moveTo>
                          <a:pt x="0" y="21"/>
                        </a:moveTo>
                        <a:lnTo>
                          <a:pt x="81" y="0"/>
                        </a:lnTo>
                        <a:lnTo>
                          <a:pt x="161" y="21"/>
                        </a:lnTo>
                        <a:lnTo>
                          <a:pt x="81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7" name=""/>
                <p:cNvGrpSpPr/>
                <p:nvPr/>
              </p:nvGrpSpPr>
              <p:grpSpPr>
                <a:xfrm>
                  <a:off x="6064920" y="4867920"/>
                  <a:ext cx="587880" cy="159120"/>
                  <a:chOff x="6064920" y="4867920"/>
                  <a:chExt cx="587880" cy="159120"/>
                </a:xfrm>
              </p:grpSpPr>
              <p:sp>
                <p:nvSpPr>
                  <p:cNvPr id="828" name="Freeform 820"/>
                  <p:cNvSpPr/>
                  <p:nvPr/>
                </p:nvSpPr>
                <p:spPr>
                  <a:xfrm flipH="1">
                    <a:off x="6064920" y="4973400"/>
                    <a:ext cx="195120" cy="53640"/>
                  </a:xfrm>
                  <a:custGeom>
                    <a:avLst/>
                    <a:gdLst>
                      <a:gd name="textAreaLeft" fmla="*/ 360 w 195120"/>
                      <a:gd name="textAreaRight" fmla="*/ 195840 w 19512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Freeform 821"/>
                  <p:cNvSpPr/>
                  <p:nvPr/>
                </p:nvSpPr>
                <p:spPr>
                  <a:xfrm flipH="1">
                    <a:off x="6259320" y="4920480"/>
                    <a:ext cx="196200" cy="52560"/>
                  </a:xfrm>
                  <a:custGeom>
                    <a:avLst/>
                    <a:gdLst>
                      <a:gd name="textAreaLeft" fmla="*/ -360 w 196200"/>
                      <a:gd name="textAreaRight" fmla="*/ 196200 w 1962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Freeform 822"/>
                  <p:cNvSpPr/>
                  <p:nvPr/>
                </p:nvSpPr>
                <p:spPr>
                  <a:xfrm flipH="1">
                    <a:off x="6456240" y="4867920"/>
                    <a:ext cx="196560" cy="52560"/>
                  </a:xfrm>
                  <a:custGeom>
                    <a:avLst/>
                    <a:gdLst>
                      <a:gd name="textAreaLeft" fmla="*/ 360 w 196560"/>
                      <a:gd name="textAreaRight" fmla="*/ 197280 w 19656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160" h="43">
                        <a:moveTo>
                          <a:pt x="0" y="21"/>
                        </a:moveTo>
                        <a:lnTo>
                          <a:pt x="80" y="0"/>
                        </a:lnTo>
                        <a:lnTo>
                          <a:pt x="160" y="21"/>
                        </a:lnTo>
                        <a:lnTo>
                          <a:pt x="80" y="4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79c979"/>
                      </a:gs>
                    </a:gsLst>
                    <a:lin ang="5400000"/>
                  </a:gradFill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1" name="Freeform 823"/>
              <p:cNvSpPr/>
              <p:nvPr/>
            </p:nvSpPr>
            <p:spPr>
              <a:xfrm>
                <a:off x="6629400" y="4809600"/>
                <a:ext cx="238320" cy="648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1344" h="361">
                    <a:moveTo>
                      <a:pt x="0" y="120"/>
                    </a:moveTo>
                    <a:lnTo>
                      <a:pt x="1344" y="0"/>
                    </a:lnTo>
                    <a:lnTo>
                      <a:pt x="898" y="361"/>
                    </a:lnTo>
                    <a:lnTo>
                      <a:pt x="0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79c979"/>
                  </a:gs>
                </a:gsLst>
                <a:lin ang="5400000"/>
              </a:gra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矩形 1"/>
          <p:cNvSpPr/>
          <p:nvPr/>
        </p:nvSpPr>
        <p:spPr>
          <a:xfrm>
            <a:off x="395280" y="1220760"/>
            <a:ext cx="82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矩形 4"/>
          <p:cNvSpPr/>
          <p:nvPr/>
        </p:nvSpPr>
        <p:spPr>
          <a:xfrm>
            <a:off x="4751280" y="38210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矩形 8"/>
          <p:cNvSpPr/>
          <p:nvPr/>
        </p:nvSpPr>
        <p:spPr>
          <a:xfrm>
            <a:off x="4549680" y="250200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矩形 9"/>
          <p:cNvSpPr/>
          <p:nvPr/>
        </p:nvSpPr>
        <p:spPr>
          <a:xfrm>
            <a:off x="4714920" y="31622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矩形 10"/>
          <p:cNvSpPr/>
          <p:nvPr/>
        </p:nvSpPr>
        <p:spPr>
          <a:xfrm>
            <a:off x="4363920" y="4479840"/>
            <a:ext cx="28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左大括号 11"/>
          <p:cNvSpPr/>
          <p:nvPr/>
        </p:nvSpPr>
        <p:spPr>
          <a:xfrm>
            <a:off x="4135320" y="2682720"/>
            <a:ext cx="443160" cy="2200320"/>
          </a:xfrm>
          <a:custGeom>
            <a:avLst/>
            <a:gdLst>
              <a:gd name="textAreaLeft" fmla="*/ 283320 w 443160"/>
              <a:gd name="textAreaRight" fmla="*/ 443520 w 443160"/>
              <a:gd name="textAreaTop" fmla="*/ 89640 h 2200320"/>
              <a:gd name="textAreaBottom" fmla="*/ 2110680 h 220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08"/>
                  <a:pt x="10800" y="2816"/>
                </a:cubicBezTo>
                <a:lnTo>
                  <a:pt x="10800" y="7984"/>
                </a:lnTo>
                <a:cubicBezTo>
                  <a:pt x="10800" y="9392"/>
                  <a:pt x="5400" y="10800"/>
                  <a:pt x="0" y="10800"/>
                </a:cubicBezTo>
                <a:cubicBezTo>
                  <a:pt x="5400" y="10800"/>
                  <a:pt x="10800" y="12208"/>
                  <a:pt x="10800" y="13616"/>
                </a:cubicBezTo>
                <a:lnTo>
                  <a:pt x="10800" y="18784"/>
                </a:lnTo>
                <a:cubicBezTo>
                  <a:pt x="10800" y="201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2840040" y="1054080"/>
            <a:ext cx="353880" cy="793800"/>
            <a:chOff x="2840040" y="1054080"/>
            <a:chExt cx="353880" cy="793800"/>
          </a:xfrm>
        </p:grpSpPr>
        <p:pic>
          <p:nvPicPr>
            <p:cNvPr id="839" name="新月形 17" descr=""/>
            <p:cNvPicPr/>
            <p:nvPr/>
          </p:nvPicPr>
          <p:blipFill>
            <a:blip r:embed="rId2"/>
            <a:stretch/>
          </p:blipFill>
          <p:spPr>
            <a:xfrm>
              <a:off x="2840040" y="1054080"/>
              <a:ext cx="35388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 rot="10800000">
              <a:off x="2930040" y="1190160"/>
              <a:ext cx="21276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5931000" y="1054080"/>
            <a:ext cx="323640" cy="793800"/>
            <a:chOff x="5931000" y="1054080"/>
            <a:chExt cx="323640" cy="793800"/>
          </a:xfrm>
        </p:grpSpPr>
        <p:pic>
          <p:nvPicPr>
            <p:cNvPr id="842" name="新月形 18" descr=""/>
            <p:cNvPicPr/>
            <p:nvPr/>
          </p:nvPicPr>
          <p:blipFill>
            <a:blip r:embed="rId3"/>
            <a:stretch/>
          </p:blipFill>
          <p:spPr>
            <a:xfrm>
              <a:off x="5931000" y="1054080"/>
              <a:ext cx="32364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 rot="10800000">
              <a:off x="5978160" y="1190160"/>
              <a:ext cx="1886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圆角矩形 1"/>
          <p:cNvSpPr/>
          <p:nvPr/>
        </p:nvSpPr>
        <p:spPr>
          <a:xfrm>
            <a:off x="0" y="1693800"/>
            <a:ext cx="914400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7f7f7f">
                  <a:alpha val="32156"/>
                </a:srgbClr>
              </a:gs>
            </a:gsLst>
            <a:lin ang="54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7" descr="anniu副本"/>
          <p:cNvPicPr/>
          <p:nvPr/>
        </p:nvPicPr>
        <p:blipFill>
          <a:blip r:embed="rId2"/>
          <a:stretch/>
        </p:blipFill>
        <p:spPr>
          <a:xfrm>
            <a:off x="628560" y="-1554120"/>
            <a:ext cx="8713800" cy="1577880"/>
          </a:xfrm>
          <a:prstGeom prst="rect">
            <a:avLst/>
          </a:prstGeom>
          <a:ln w="0">
            <a:noFill/>
          </a:ln>
        </p:spPr>
      </p:pic>
      <p:sp>
        <p:nvSpPr>
          <p:cNvPr id="846" name="Text Box 5"/>
          <p:cNvSpPr/>
          <p:nvPr/>
        </p:nvSpPr>
        <p:spPr>
          <a:xfrm>
            <a:off x="1152360" y="198900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0" y="1633680"/>
            <a:ext cx="1177920" cy="117792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6" descr="dn"/>
          <p:cNvPicPr/>
          <p:nvPr/>
        </p:nvPicPr>
        <p:blipFill>
          <a:blip r:embed="rId4"/>
          <a:stretch/>
        </p:blipFill>
        <p:spPr>
          <a:xfrm>
            <a:off x="2224080" y="2786040"/>
            <a:ext cx="46958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4:51:05Z</dcterms:created>
  <dc:creator/>
  <dc:description/>
  <dc:language>en-US</dc:language>
  <cp:lastModifiedBy>GZB</cp:lastModifiedBy>
  <dcterms:modified xsi:type="dcterms:W3CDTF">2015-01-07T09:17:26Z</dcterms:modified>
  <cp:revision>59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