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B3C-4254-49A0-BC75-2D2123C7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49A-69C5-45D3-9566-5672A06A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785-BF84-4176-BFD6-F08D2F58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D65-BE2E-4A4B-88B7-95464004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11B-CB7C-4843-94FE-2952F3E9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5D1-2A4E-422B-A4D1-D70C6E70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79A-5891-4193-998F-B27F2597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B2E-9673-4C7A-9147-8A50EAC9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ECB-1C70-4A94-B827-BC4D4903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E89-31AF-4A18-866A-86BD973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513-2BDC-4C11-B3A4-C980C006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381-20E2-41A6-898D-F86704F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A64-DA88-4B7E-8110-E87FD8CC00D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3286080"/>
            <a:ext cx="54579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绿色商务</a:t>
            </a: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6591240"/>
            <a:ext cx="865080" cy="21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548560" y="6454800"/>
            <a:ext cx="5590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6112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9:23:04Z</dcterms:created>
  <dc:creator>Éric Vadeboncoeur</dc:creator>
  <dc:description/>
  <dc:language>en-US</dc:language>
  <cp:lastModifiedBy>Éric Vadeboncoeur</cp:lastModifiedBy>
  <dcterms:modified xsi:type="dcterms:W3CDTF">2015-01-08T12:56:01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