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86F-2DBB-4AED-9900-FB1657BC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549-6B57-485C-B662-B90E0C6D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CF4-2365-44D5-99BC-72E3BAB6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D70-6250-44B9-B4A7-EE43F92C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B84-6FBE-48E3-BFA2-CBF6AE46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0B6-AB3E-4513-AF35-58569A80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D1F-B1AF-4EB9-9988-697111FF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1F7-4183-4ACE-AAEA-4CCCDFE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70C-C4E4-4C90-85C3-5E047D59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54F-6CDB-4694-9564-AA97569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9D1-723D-4BD8-AD5E-C6561D7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0BB-41D3-4639-9C53-EE86E0F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"/>
          <p:cNvSpPr/>
          <p:nvPr/>
        </p:nvSpPr>
        <p:spPr>
          <a:xfrm flipH="1" flipV="1">
            <a:off x="0" y="5760"/>
            <a:ext cx="9142560" cy="126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12"/>
          <p:cNvSpPr/>
          <p:nvPr/>
        </p:nvSpPr>
        <p:spPr>
          <a:xfrm flipH="1" flipV="1">
            <a:off x="0" y="5760"/>
            <a:ext cx="9142560" cy="352440"/>
          </a:xfrm>
          <a:prstGeom prst="rect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3"/>
          <p:cNvSpPr/>
          <p:nvPr/>
        </p:nvSpPr>
        <p:spPr>
          <a:xfrm flipH="1" flipV="1">
            <a:off x="0" y="720"/>
            <a:ext cx="9142560" cy="181080"/>
          </a:xfrm>
          <a:prstGeom prst="rect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0" y="6608880"/>
            <a:ext cx="9144000" cy="82440"/>
          </a:xfrm>
          <a:prstGeom prst="rect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0" y="6691320"/>
            <a:ext cx="9144000" cy="166680"/>
          </a:xfrm>
          <a:prstGeom prst="rect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f75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f75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f75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f75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3f75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1C64-DD21-4BFC-9863-9A62722E6679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C9C-1BCF-4D5E-AE2F-F9DE47F917F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直角三角形 15"/>
          <p:cNvSpPr/>
          <p:nvPr/>
        </p:nvSpPr>
        <p:spPr>
          <a:xfrm flipV="1">
            <a:off x="0" y="333000"/>
            <a:ext cx="4572000" cy="1511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3"/>
          <p:cNvSpPr/>
          <p:nvPr/>
        </p:nvSpPr>
        <p:spPr>
          <a:xfrm flipH="1" flipV="1">
            <a:off x="0" y="4313160"/>
            <a:ext cx="9144000" cy="1276560"/>
          </a:xfrm>
          <a:prstGeom prst="rtTriangl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直角三角形 4"/>
          <p:cNvSpPr/>
          <p:nvPr/>
        </p:nvSpPr>
        <p:spPr>
          <a:xfrm flipH="1" flipV="1">
            <a:off x="0" y="4312440"/>
            <a:ext cx="9144000" cy="987480"/>
          </a:xfrm>
          <a:prstGeom prst="rtTriangle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直角三角形 5"/>
          <p:cNvSpPr/>
          <p:nvPr/>
        </p:nvSpPr>
        <p:spPr>
          <a:xfrm flipH="1" flipV="1">
            <a:off x="0" y="4308480"/>
            <a:ext cx="9144000" cy="704880"/>
          </a:xfrm>
          <a:prstGeom prst="rtTriangle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 flipH="1" rot="10800000">
            <a:off x="0" y="0"/>
            <a:ext cx="9144000" cy="430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直角三角形 7"/>
          <p:cNvSpPr/>
          <p:nvPr/>
        </p:nvSpPr>
        <p:spPr>
          <a:xfrm flipH="1" flipV="1">
            <a:off x="0" y="4307760"/>
            <a:ext cx="9144000" cy="360360"/>
          </a:xfrm>
          <a:prstGeom prst="rtTriangle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直角三角形 8"/>
          <p:cNvSpPr/>
          <p:nvPr/>
        </p:nvSpPr>
        <p:spPr>
          <a:xfrm flipH="1" flipV="1">
            <a:off x="0" y="4279320"/>
            <a:ext cx="9144000" cy="207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6605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蓝色通用</a:t>
            </a: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2120" y="5780160"/>
            <a:ext cx="64008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5" name=""/>
          <p:cNvSpPr/>
          <p:nvPr/>
        </p:nvSpPr>
        <p:spPr>
          <a:xfrm>
            <a:off x="6381000" y="636444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f75"/>
              </a:buClr>
              <a:buFont typeface="Wingdings" charset="2"/>
              <a:buChar char=""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5:45:00Z</dcterms:created>
  <dc:creator>果因PPT工作室</dc:creator>
  <dc:description/>
  <cp:keywords>XS-普屏 4：3;SC-深蓝色;BG-浅色;DH-静态</cp:keywords>
  <dc:language>en-US</dc:language>
  <cp:lastModifiedBy>田士庆</cp:lastModifiedBy>
  <dcterms:modified xsi:type="dcterms:W3CDTF">2015-01-07T09:16:11Z</dcterms:modified>
  <cp:revision>2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