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561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561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7960" y="390168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60000" y="131400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6720" y="131400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60000" y="390168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6720" y="390168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561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561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561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7960" y="390168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561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561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561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77960" y="390168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60000" y="131400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6720" y="131400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60000" y="390168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16720" y="3901680"/>
            <a:ext cx="2434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561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7960" y="390168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314000"/>
            <a:ext cx="3689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561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314000"/>
            <a:ext cx="7561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958080" y="6583320"/>
            <a:ext cx="21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197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 rot="16248600">
            <a:off x="4393080" y="-3526560"/>
            <a:ext cx="358560" cy="913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568" y="275"/>
                  <a:pt x="1535" y="5080"/>
                  <a:pt x="1535" y="10800"/>
                </a:cubicBezTo>
                <a:cubicBezTo>
                  <a:pt x="1535" y="16520"/>
                  <a:pt x="11568" y="213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727272"/>
              </a:gs>
            </a:gsLst>
            <a:lin ang="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33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52000" y="219240"/>
            <a:ext cx="63000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H="1" rot="2065800">
            <a:off x="2382840" y="-2422440"/>
            <a:ext cx="5116680" cy="1021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2065800">
            <a:off x="2642400" y="-2935440"/>
            <a:ext cx="5389560" cy="1102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81" y="29"/>
                  <a:pt x="161" y="5080"/>
                  <a:pt x="161" y="10800"/>
                </a:cubicBezTo>
                <a:cubicBezTo>
                  <a:pt x="161" y="16520"/>
                  <a:pt x="10881" y="215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2065800">
            <a:off x="2739240" y="-3403080"/>
            <a:ext cx="5837400" cy="1173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7" y="35"/>
                  <a:pt x="193" y="5080"/>
                  <a:pt x="193" y="10800"/>
                </a:cubicBezTo>
                <a:cubicBezTo>
                  <a:pt x="193" y="16520"/>
                  <a:pt x="10897" y="215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14940000">
            <a:off x="509400" y="-575640"/>
            <a:ext cx="1922400" cy="354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14940000">
            <a:off x="542880" y="-498240"/>
            <a:ext cx="1927440" cy="354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rot="14940000">
            <a:off x="577080" y="-419040"/>
            <a:ext cx="1926720" cy="354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000" y="4508640"/>
            <a:ext cx="3825720" cy="166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蓝色旋风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模板下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-118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561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75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58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感谢您的关注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16856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7:14:14Z</dcterms:created>
  <dc:creator/>
  <dc:description/>
  <dc:language>en-US</dc:language>
  <cp:lastModifiedBy/>
  <dcterms:modified xsi:type="dcterms:W3CDTF">2015-01-07T09:14:0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