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E60-F4EA-4366-AD10-86DC789F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E1E-FDA9-40D1-B23A-943D4F7C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4E6-9166-4F56-AA4A-B561EE30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DE8-EACC-4229-9F2F-6B7F3C34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2D65-C8F6-4502-8966-2A443F9F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68DA-36F0-4110-B45C-FD3A6C6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DB2E-B91F-464D-B420-3AE3AF64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3B0D-F836-41B8-A4E7-D94D0E23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00EF-6767-43C2-9EE0-E5A16BB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F9AA-A711-4F6F-99D7-922526A5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F758-2132-4CCF-813D-F861A31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525-6CA1-4C3C-AB36-A7F0CE2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F012-E460-4357-9B65-8901B28B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7A9-8554-4D16-BABD-036AC14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28FC-27A6-49DD-AF57-0708CB3C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24A0-E734-4180-B5CD-A5DB625A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BBBE-C88A-48E9-9E61-3CDE35B0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CD9-79D4-4BB4-B242-DD67796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4E0-EA50-4AB0-8C53-54FB2B61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A33-50CB-4BCC-8BB2-2305D70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2F9-B626-4FB0-8215-3BB4ACE1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6A0-5C38-4399-9E02-7B4F3CF7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89B-D2C3-4FFB-AD36-5BBE67DD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6CE-B5F9-4435-95D8-9E52C63A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E0CC-A9E4-43A8-80AE-3C7BC43609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7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鱼不愚\桌面\图片1.png"/>
          <p:cNvPicPr/>
          <p:nvPr/>
        </p:nvPicPr>
        <p:blipFill>
          <a:blip r:embed="rId4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E231-1D2A-4BED-BED3-8768AE24B7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469800" y="415116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Calibri"/>
                <a:ea typeface="Calibri"/>
              </a:rPr>
              <a:t>蓝色旋律</a:t>
            </a:r>
            <a:r>
              <a:rPr b="1" lang="en-US" sz="2500" spc="-1" strike="noStrike">
                <a:solidFill>
                  <a:srgbClr val="002060"/>
                </a:solidFill>
                <a:latin typeface="Calibri"/>
                <a:ea typeface="Calibri"/>
              </a:rPr>
              <a:t>ppt</a:t>
            </a:r>
            <a:r>
              <a:rPr b="1" lang="zh-CN" sz="2500" spc="-1" strike="noStrike">
                <a:solidFill>
                  <a:srgbClr val="002060"/>
                </a:solidFill>
                <a:latin typeface="Calibri"/>
                <a:ea typeface="Calibri"/>
              </a:rPr>
              <a:t>模板在线下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357120" y="3341520"/>
            <a:ext cx="5000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2060"/>
                </a:solidFill>
                <a:latin typeface="Arial"/>
                <a:ea typeface="Arial"/>
              </a:rPr>
              <a:t>感谢聆听</a:t>
            </a:r>
            <a:r>
              <a:rPr b="0" i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anks for you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360" y="630864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375e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6:57:20Z</dcterms:created>
  <dc:creator>rachel</dc:creator>
  <dc:description/>
  <dc:language>en-US</dc:language>
  <cp:lastModifiedBy>微软中国</cp:lastModifiedBy>
  <dcterms:modified xsi:type="dcterms:W3CDTF">2015-01-07T09:04:00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