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FD8B-F0BB-463A-8F55-2F8FC664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894-98B2-409E-874D-09462EB3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CDE-6548-40FE-98DE-EF6A32D2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48C-983E-4A70-B03E-A9097753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E5A7-6279-4CE8-84B3-74D02D73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7330-597E-43BB-895A-725D40EC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C6DD-FF7C-41A5-A286-47CEAF14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5F58-D8CA-49C7-AB8E-42AC4FC8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9A87-9938-435C-AEF2-1A0811B0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0385-0AB6-4681-97DE-6F803FFD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DDD5-3D22-47A5-881C-ADDB4D24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4CE-1207-400B-9D94-F0ED7C3B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34B4-BE54-4581-B5BD-EB6314F3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36AB-38A2-4176-B709-BFCC2DAB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2260-5E7F-46E5-A496-6C318791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DFF0-ED36-41DD-9585-4C22A898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86AC-F839-4AF4-9F57-1AC2B0AF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150-BA25-4919-80E5-EA1DCDC8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CE0-7043-4CD0-AC10-0150E253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A47-22C3-44CB-93F8-FF6B9457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7DC-70C5-49F6-9F33-EBCDD963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8AA-AAD4-47FA-9F2E-1054BB84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EF3-ADF6-43C9-89BE-07F7E755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220-8E2B-44D9-8F0B-8D725C1E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01520" y="-93600"/>
            <a:ext cx="9769320" cy="7048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816C-5D20-407D-9B38-EEEDA88A1ABF}" type="slidenum"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5560" y="-376200"/>
            <a:ext cx="9350640" cy="7431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5FF3-6B12-4644-8618-2705FA982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68320" y="3911040"/>
            <a:ext cx="851040" cy="539280"/>
            <a:chOff x="868320" y="3911040"/>
            <a:chExt cx="851040" cy="53928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 rot="4525200">
              <a:off x="1116360" y="3790080"/>
              <a:ext cx="349920" cy="78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未知"/>
            <p:cNvSpPr/>
            <p:nvPr/>
          </p:nvSpPr>
          <p:spPr>
            <a:xfrm rot="4510800">
              <a:off x="1122480" y="3786480"/>
              <a:ext cx="346680" cy="784800"/>
            </a:xfrm>
            <a:custGeom>
              <a:avLst/>
              <a:gdLst/>
              <a:ahLst/>
              <a:rect l="l" t="t" r="r" b="b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92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338720" y="5457600"/>
            <a:ext cx="536040" cy="321480"/>
            <a:chOff x="4338720" y="5457600"/>
            <a:chExt cx="536040" cy="321480"/>
          </a:xfrm>
        </p:grpSpPr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 rot="4525200">
              <a:off x="4505040" y="5369760"/>
              <a:ext cx="200160" cy="4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未知"/>
            <p:cNvSpPr/>
            <p:nvPr/>
          </p:nvSpPr>
          <p:spPr>
            <a:xfrm rot="4510800">
              <a:off x="4508280" y="5367240"/>
              <a:ext cx="198360" cy="500040"/>
            </a:xfrm>
            <a:custGeom>
              <a:avLst/>
              <a:gdLst/>
              <a:ahLst/>
              <a:rect l="l" t="t" r="r" b="b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92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53960" y="5697000"/>
            <a:ext cx="676440" cy="651600"/>
            <a:chOff x="453960" y="5697000"/>
            <a:chExt cx="676440" cy="651600"/>
          </a:xfrm>
        </p:grpSpPr>
        <p:pic>
          <p:nvPicPr>
            <p:cNvPr id="54" name="" descr=""/>
            <p:cNvPicPr/>
            <p:nvPr/>
          </p:nvPicPr>
          <p:blipFill>
            <a:blip r:embed="rId5"/>
            <a:stretch/>
          </p:blipFill>
          <p:spPr>
            <a:xfrm flipH="1" rot="7906800">
              <a:off x="646920" y="5696640"/>
              <a:ext cx="29016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未知"/>
            <p:cNvSpPr/>
            <p:nvPr/>
          </p:nvSpPr>
          <p:spPr>
            <a:xfrm flipV="1" rot="18721200">
              <a:off x="649440" y="5700600"/>
              <a:ext cx="287280" cy="648360"/>
            </a:xfrm>
            <a:custGeom>
              <a:avLst/>
              <a:gdLst/>
              <a:ahLst/>
              <a:rect l="l" t="t" r="r" b="b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45098"/>
                  </a:srgbClr>
                </a:gs>
                <a:gs pos="100000">
                  <a:srgbClr val="99cc00">
                    <a:alpha val="45098"/>
                  </a:srgbClr>
                </a:gs>
              </a:gsLst>
              <a:lin ang="92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029760" y="4771080"/>
            <a:ext cx="645120" cy="476280"/>
            <a:chOff x="3029760" y="4771080"/>
            <a:chExt cx="645120" cy="476280"/>
          </a:xfrm>
        </p:grpSpPr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 flipH="1" rot="6706200">
              <a:off x="3212280" y="4717080"/>
              <a:ext cx="277560" cy="5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未知"/>
            <p:cNvSpPr/>
            <p:nvPr/>
          </p:nvSpPr>
          <p:spPr>
            <a:xfrm flipV="1" rot="17521200">
              <a:off x="3216240" y="4719600"/>
              <a:ext cx="274680" cy="582120"/>
            </a:xfrm>
            <a:custGeom>
              <a:avLst/>
              <a:gdLst/>
              <a:ahLst/>
              <a:rect l="l" t="t" r="r" b="b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45098"/>
                  </a:srgbClr>
                </a:gs>
                <a:gs pos="100000">
                  <a:srgbClr val="99cc00">
                    <a:alpha val="45098"/>
                  </a:srgbClr>
                </a:gs>
              </a:gsLst>
              <a:lin ang="92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 rot="4625400">
            <a:off x="2315160" y="6269760"/>
            <a:ext cx="222120" cy="496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绿色叶子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模板下载</a:t>
            </a:r>
            <a:endParaRPr b="1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03280" y="4076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66690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67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48360" y="3860640"/>
            <a:ext cx="1800360" cy="259416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594160"/>
              <a:gd name="textAreaBottom" fmla="*/ 2506320 h 2594160"/>
            </a:gdLst>
            <a:ahLst/>
            <a:rect l="textAreaLeft" t="textAreaTop" r="textAreaRight" b="textAreaBottom"/>
            <a:pathLst>
              <a:path w="21600" h="31122">
                <a:moveTo>
                  <a:pt x="3600" y="0"/>
                </a:moveTo>
                <a:arcTo wR="3600" hR="3600" stAng="16200000" swAng="-5400000"/>
                <a:lnTo>
                  <a:pt x="0" y="27522"/>
                </a:lnTo>
                <a:arcTo wR="3600" hR="3600" stAng="10800000" swAng="-5400000"/>
                <a:lnTo>
                  <a:pt x="18000" y="311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ffff">
                  <a:alpha val="86274"/>
                </a:srgbClr>
              </a:gs>
              <a:gs pos="100000">
                <a:srgbClr val="bbe0e3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3933720"/>
            <a:ext cx="1730520" cy="2448000"/>
          </a:xfrm>
          <a:custGeom>
            <a:avLst/>
            <a:gdLst>
              <a:gd name="textAreaLeft" fmla="*/ 84240 w 1730520"/>
              <a:gd name="textAreaRight" fmla="*/ 1646280 w 1730520"/>
              <a:gd name="textAreaTop" fmla="*/ 84240 h 2448000"/>
              <a:gd name="textAreaBottom" fmla="*/ 2363760 h 2448000"/>
            </a:gdLst>
            <a:ahLst/>
            <a:rect l="textAreaLeft" t="textAreaTop" r="textAreaRight" b="textAreaBottom"/>
            <a:pathLst>
              <a:path w="21600" h="30554">
                <a:moveTo>
                  <a:pt x="3600" y="0"/>
                </a:moveTo>
                <a:arcTo wR="3600" hR="3600" stAng="16200000" swAng="-5400000"/>
                <a:lnTo>
                  <a:pt x="0" y="26954"/>
                </a:lnTo>
                <a:arcTo wR="3600" hR="3600" stAng="10800000" swAng="-5400000"/>
                <a:lnTo>
                  <a:pt x="18000" y="30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00">
                  <a:alpha val="45098"/>
                </a:srgbClr>
              </a:gs>
              <a:gs pos="100000">
                <a:srgbClr val="99ff33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48360" y="3860640"/>
            <a:ext cx="1729080" cy="2449800"/>
          </a:xfrm>
          <a:custGeom>
            <a:avLst/>
            <a:gdLst>
              <a:gd name="textAreaLeft" fmla="*/ 84240 w 1729080"/>
              <a:gd name="textAreaRight" fmla="*/ 1644840 w 1729080"/>
              <a:gd name="textAreaTop" fmla="*/ 84240 h 2449800"/>
              <a:gd name="textAreaBottom" fmla="*/ 2365560 h 2449800"/>
            </a:gdLst>
            <a:ahLst/>
            <a:rect l="textAreaLeft" t="textAreaTop" r="textAreaRight" b="textAreaBottom"/>
            <a:pathLst>
              <a:path w="21600" h="30601">
                <a:moveTo>
                  <a:pt x="3600" y="0"/>
                </a:moveTo>
                <a:arcTo wR="3600" hR="3600" stAng="16200000" swAng="-5400000"/>
                <a:lnTo>
                  <a:pt x="0" y="27001"/>
                </a:lnTo>
                <a:arcTo wR="3600" hR="3600" stAng="10800000" swAng="-5400000"/>
                <a:lnTo>
                  <a:pt x="18000" y="306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ffff">
                  <a:alpha val="86274"/>
                </a:srgbClr>
              </a:gs>
              <a:gs pos="100000">
                <a:srgbClr val="bbe0e3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48360" y="3860640"/>
            <a:ext cx="1729080" cy="2378160"/>
          </a:xfrm>
          <a:custGeom>
            <a:avLst/>
            <a:gdLst>
              <a:gd name="textAreaLeft" fmla="*/ 84240 w 1729080"/>
              <a:gd name="textAreaRight" fmla="*/ 1644840 w 1729080"/>
              <a:gd name="textAreaTop" fmla="*/ 84240 h 2378160"/>
              <a:gd name="textAreaBottom" fmla="*/ 2293920 h 2378160"/>
            </a:gdLst>
            <a:ahLst/>
            <a:rect l="textAreaLeft" t="textAreaTop" r="textAreaRight" b="textAreaBottom"/>
            <a:pathLst>
              <a:path w="21600" h="29707">
                <a:moveTo>
                  <a:pt x="3600" y="0"/>
                </a:moveTo>
                <a:arcTo wR="3600" hR="3600" stAng="16200000" swAng="-5400000"/>
                <a:lnTo>
                  <a:pt x="0" y="26107"/>
                </a:lnTo>
                <a:arcTo wR="3600" hR="3600" stAng="10800000" swAng="-5400000"/>
                <a:lnTo>
                  <a:pt x="18000" y="297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00">
                  <a:alpha val="45098"/>
                </a:srgbClr>
              </a:gs>
              <a:gs pos="100000">
                <a:srgbClr val="99ff33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22 0.031574 L -0.704792 -0.2625 E">
                                      <p:cBhvr>
                                        <p:cTn id="1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96181 -0.220463 E">
                                      <p:cBhvr>
                                        <p:cTn id="1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99236 -0.168056 E">
                                      <p:cBhvr>
                                        <p:cTn id="2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8125 -0.099722 E">
                                      <p:cBhvr>
                                        <p:cTn id="3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96840" y="-15840"/>
            <a:ext cx="9380520" cy="745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987640" y="3789360"/>
            <a:ext cx="3979800" cy="12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微软雅黑"/>
              </a:rPr>
              <a:t>THE END</a:t>
            </a:r>
            <a:endParaRPr b="0" lang="en-US" sz="4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微软雅黑"/>
              <a:ea typeface="微软雅黑"/>
            </a:endParaRPr>
          </a:p>
        </p:txBody>
      </p:sp>
      <p:sp>
        <p:nvSpPr>
          <p:cNvPr id="109" name=""/>
          <p:cNvSpPr/>
          <p:nvPr/>
        </p:nvSpPr>
        <p:spPr>
          <a:xfrm>
            <a:off x="2464200" y="61657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-0.092 0.25 -0.16667 L 0.25 -0.33333 E">
                                      <p:cBhvr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9:44:37Z</dcterms:created>
  <dc:creator>Administrator</dc:creator>
  <dc:description/>
  <dc:language>en-US</dc:language>
  <cp:lastModifiedBy/>
  <dcterms:modified xsi:type="dcterms:W3CDTF">2015-01-08T12:49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