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89B-F7BA-4236-95CF-BB3BEB2C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237-04DA-4573-9491-57820DB9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E21-B08B-4ABF-A214-37CCC026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D18-2961-43E2-970B-16C401D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51A-5AD8-42B8-A4A9-3072C3E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46E-AC1C-48FB-8E05-15A620A0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8A7-36FC-40F6-A2A5-1D22F55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D75-F9A2-4FB6-B752-4C4511F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88A-20DB-4711-9303-0368C10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DFF-194B-41CB-AC2E-ADCB516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C0C-6709-4D29-8C9B-EB777FC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3BD-1576-4AE0-8F11-D1A35C1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8154-5C1F-4F62-9563-9FC4540652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蓝色炫丽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2607c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50444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7:14:25Z</dcterms:created>
  <dc:creator/>
  <dc:description/>
  <dc:language>en-US</dc:language>
  <cp:lastModifiedBy>king</cp:lastModifiedBy>
  <dcterms:modified xsi:type="dcterms:W3CDTF">2015-01-07T17:15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