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4A7-82D1-46C5-A6AC-273B353C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CD8C-DE66-4A34-9020-8923DBA0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9B6-A02E-49D4-8EFB-880EF25E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4B5-A234-4557-BB3A-8417BD21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AB6C-7046-401B-86AC-B577E520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4014-3601-469E-9328-3C39E4DC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1CDD-7DEE-46F6-8CF8-AE1E58FB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B63A-E2F2-4A9C-BC00-252A433A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F6C7-01FF-41BA-B24B-6C816849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BDCA-0A10-4EF8-AE06-076E1165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89A6-3827-456A-8C37-A8509CE6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F96-CB4C-4A3C-A087-163048EE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81AD-CB69-4320-878C-99DCBDA9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8904-8509-4E88-89BE-887F19F3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C148-15D2-435C-ACA6-8FCC3433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0D38-E600-483E-A772-C2D3B597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263E-602D-4395-9C2C-8A5E0311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FAA5-6443-4F80-96E8-04C0DC3F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4EDD-F892-4EE4-AF13-6E503E50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851-6C39-4C8A-B505-42744603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1088-C952-4493-A3EC-3C3C1FEB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BD46-91AE-4CB5-9B58-7382D0CD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F6A5-9474-4F68-993E-3EAE53B0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9BA8-36A3-4201-B5DB-CB5F0780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ea25"/>
            </a:gs>
            <a:gs pos="100000">
              <a:srgbClr val="eafa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20100526_929db17f5fe4521f9b6eWR1HpzB3FhVH.jpg"/>
          <p:cNvPicPr/>
          <p:nvPr/>
        </p:nvPicPr>
        <p:blipFill>
          <a:blip r:embed="rId2"/>
          <a:stretch/>
        </p:blipFill>
        <p:spPr>
          <a:xfrm>
            <a:off x="0" y="450864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" name="矩形 7"/>
          <p:cNvSpPr/>
          <p:nvPr/>
        </p:nvSpPr>
        <p:spPr>
          <a:xfrm>
            <a:off x="0" y="4354560"/>
            <a:ext cx="9144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8507-DF0D-4141-BCF3-2AB51ABA59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ea25"/>
            </a:gs>
            <a:gs pos="100000">
              <a:srgbClr val="eafa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7"/>
          <p:cNvSpPr/>
          <p:nvPr/>
        </p:nvSpPr>
        <p:spPr>
          <a:xfrm>
            <a:off x="0" y="1440"/>
            <a:ext cx="9144000" cy="1197000"/>
          </a:xfrm>
          <a:prstGeom prst="rect">
            <a:avLst/>
          </a:prstGeom>
          <a:gradFill rotWithShape="0">
            <a:gsLst>
              <a:gs pos="0">
                <a:srgbClr val="ecf8de"/>
              </a:gs>
              <a:gs pos="100000">
                <a:srgbClr val="dfff82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0" y="1197000"/>
            <a:ext cx="914076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F72A-6FD3-41FA-97E5-9395DC6084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ea25"/>
            </a:gs>
            <a:gs pos="100000">
              <a:srgbClr val="eafa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绿色枝条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7238160" y="640224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ea25"/>
            </a:gs>
            <a:gs pos="100000">
              <a:srgbClr val="eafa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e682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e682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e682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4:55:00Z</dcterms:created>
  <dc:creator/>
  <dc:description/>
  <dc:language>en-US</dc:language>
  <cp:lastModifiedBy>zouendong</cp:lastModifiedBy>
  <dcterms:modified xsi:type="dcterms:W3CDTF">2015-01-09T04:05:3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