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232EA-7310-4782-9D51-8AB9B83C0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183920"/>
            <a:ext cx="82296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0DC21-FCE6-47D9-98AF-D38F5DAC7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40158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2060280"/>
            <a:ext cx="40158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183920"/>
            <a:ext cx="40158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183920"/>
            <a:ext cx="40158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DD9C5-F105-48EA-9946-C2E83E927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26496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2060280"/>
            <a:ext cx="26496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2060280"/>
            <a:ext cx="26496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183920"/>
            <a:ext cx="26496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4183920"/>
            <a:ext cx="26496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4183920"/>
            <a:ext cx="26496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42CA5-BADC-4480-9494-F5997DDEA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C9082-0E28-4CC5-B7AB-BEC6CC6D7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90994-256A-4DE6-B13C-79B7AFD07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39790-3D5D-4D6F-A6F7-B2557EEBC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40158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2060280"/>
            <a:ext cx="40158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70F97-4644-4ACD-A462-5D8955428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A7A53-9E27-4C6A-9949-D6FC08389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FAD19-F8EC-43CE-8A50-B9B14E720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40158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060280"/>
            <a:ext cx="40158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4183920"/>
            <a:ext cx="40158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D0E7B-2E59-4639-A28C-5564C8B0C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FAA04-1F39-4EE0-9A03-E4DBFEF12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40158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2060280"/>
            <a:ext cx="40158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4183920"/>
            <a:ext cx="40158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D917B-3F60-4BB2-8A5C-B0E1FD1FC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40158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2060280"/>
            <a:ext cx="40158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183920"/>
            <a:ext cx="82296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CB964-78D4-4BDA-817E-25738877B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4183920"/>
            <a:ext cx="82296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C26F9-A996-400F-B755-475546362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40158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2060280"/>
            <a:ext cx="40158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183920"/>
            <a:ext cx="40158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4183920"/>
            <a:ext cx="40158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027AD-BF11-4B7F-BBEE-C9261936D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26496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2060280"/>
            <a:ext cx="26496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2060280"/>
            <a:ext cx="26496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4183920"/>
            <a:ext cx="26496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4183920"/>
            <a:ext cx="26496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4183920"/>
            <a:ext cx="26496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53539-93C3-4131-90F9-3C316B81F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952ED-7AD9-461A-BBC2-987FFB71F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40158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2060280"/>
            <a:ext cx="40158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EB699-7E29-4FBB-B615-5D5E2B976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54ADA-5F08-4523-91CC-6E80EC815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5ECB7-D386-47AB-8F57-C72A8F807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40158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2060280"/>
            <a:ext cx="40158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183920"/>
            <a:ext cx="40158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9C556-AEA9-4810-AC36-27A2ED086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40158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2060280"/>
            <a:ext cx="40158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183920"/>
            <a:ext cx="40158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3C15E-7BF2-40CD-ABC3-EF8028B63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40158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2060280"/>
            <a:ext cx="40158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183920"/>
            <a:ext cx="82296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78CD7-F153-4E24-99FC-27A9DF9EB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D19C4-7C61-43BA-92C5-2A30F980AB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B811A-B396-4F9E-BC9B-7B4C4AFB7F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绿色植物</a:t>
            </a: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模板下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单位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032280" y="3246480"/>
            <a:ext cx="309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008120" y="638172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题目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内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91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2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7T17:22:13Z</dcterms:created>
  <dc:creator>启文小学孙毅</dc:creator>
  <dc:description/>
  <dc:language>en-US</dc:language>
  <cp:lastModifiedBy>微软用户</cp:lastModifiedBy>
  <dcterms:modified xsi:type="dcterms:W3CDTF">2015-01-08T08:25:08Z</dcterms:modified>
  <cp:revision>2</cp:revision>
  <dc:subject/>
  <dc:title>精品模版:SY制作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