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533-E680-439E-BA60-9CC30CD3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3418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3A4-8A60-48D8-9990-8F08086B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3418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3418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700A-F1F2-4542-80B9-F1BC0AB7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05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05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3418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3418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3418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927-2644-42DD-90A4-D6212B12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744E-4F7A-401B-98C0-6F047837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114F-AA7A-4C72-B0D0-973F346C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8DC2-FD49-4B2F-834F-BF7FDF0D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6C2B-0159-448E-BCB5-50AEE847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24AF-7B9F-4E0E-978F-D81286DD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78E2-A3D5-4867-9C7A-40B73B21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3418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9E34-C019-4F9A-8A19-5E0917D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C79-A61A-410F-9C1D-6C849140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3418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203E-B615-4B85-8E34-36491E79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3418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9320-D2A4-4CA8-A3CC-02F005E2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3418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8F92-EB14-4780-9A6C-B5B72CD3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3418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3418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A575-CE22-49DD-9249-15D23641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05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054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3418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3418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3418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266F-0E0A-41E4-AEB3-2BC8B116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C97-F265-4DE3-A7AB-E0D60D41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D0B-D8E7-4425-9EC3-6033850F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45C-C65E-4A09-ABA6-52ECE678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B68-E43A-4AB2-ADDC-2C636389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3418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000-4763-4B20-9585-9F176E5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3418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53C-6125-4BAD-87AF-D374727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054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3418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8CD-23E4-4EE7-A5A9-1F5BE18B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05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EE62-00B6-4189-BF88-D2D60364D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9C56-DE64-464C-AF9D-38B958CB0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65520" y="3409920"/>
            <a:ext cx="0" cy="1136520"/>
          </a:xfrm>
          <a:prstGeom prst="line">
            <a:avLst/>
          </a:prstGeom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57880" y="3209760"/>
            <a:ext cx="469800" cy="1070280"/>
          </a:xfrm>
          <a:prstGeom prst="line">
            <a:avLst/>
          </a:prstGeom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252600" y="3209760"/>
            <a:ext cx="471240" cy="1070280"/>
          </a:xfrm>
          <a:prstGeom prst="line">
            <a:avLst/>
          </a:prstGeom>
          <a:ln w="19080">
            <a:solidFill>
              <a:srgbClr val="5f5f5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627360" y="2409840"/>
            <a:ext cx="1919520" cy="1218960"/>
            <a:chOff x="3627360" y="2409840"/>
            <a:chExt cx="1919520" cy="1218960"/>
          </a:xfrm>
        </p:grpSpPr>
        <p:sp>
          <p:nvSpPr>
            <p:cNvPr id="90" name="未知"/>
            <p:cNvSpPr/>
            <p:nvPr/>
          </p:nvSpPr>
          <p:spPr>
            <a:xfrm>
              <a:off x="3627360" y="2689560"/>
              <a:ext cx="1919520" cy="939240"/>
            </a:xfrm>
            <a:custGeom>
              <a:avLst/>
              <a:gdLst/>
              <a:ahLst/>
              <a:rect l="l" t="t" r="r" b="b"/>
              <a:pathLst>
                <a:path w="96" h="47">
                  <a:moveTo>
                    <a:pt x="48" y="0"/>
                  </a:moveTo>
                  <a:cubicBezTo>
                    <a:pt x="62" y="0"/>
                    <a:pt x="75" y="3"/>
                    <a:pt x="84" y="8"/>
                  </a:cubicBezTo>
                  <a:lnTo>
                    <a:pt x="90" y="8"/>
                  </a:lnTo>
                  <a:cubicBezTo>
                    <a:pt x="93" y="8"/>
                    <a:pt x="96" y="10"/>
                    <a:pt x="96" y="12"/>
                  </a:cubicBezTo>
                  <a:lnTo>
                    <a:pt x="96" y="23"/>
                  </a:lnTo>
                  <a:lnTo>
                    <a:pt x="96" y="24"/>
                  </a:lnTo>
                  <a:cubicBezTo>
                    <a:pt x="96" y="24"/>
                    <a:pt x="96" y="24"/>
                    <a:pt x="96" y="24"/>
                  </a:cubicBezTo>
                  <a:cubicBezTo>
                    <a:pt x="94" y="37"/>
                    <a:pt x="73" y="47"/>
                    <a:pt x="48" y="47"/>
                  </a:cubicBezTo>
                  <a:cubicBezTo>
                    <a:pt x="23" y="47"/>
                    <a:pt x="2" y="37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lnTo>
                    <a:pt x="0" y="23"/>
                  </a:lnTo>
                  <a:lnTo>
                    <a:pt x="0" y="12"/>
                  </a:lnTo>
                  <a:cubicBezTo>
                    <a:pt x="0" y="10"/>
                    <a:pt x="3" y="8"/>
                    <a:pt x="6" y="8"/>
                  </a:cubicBezTo>
                  <a:lnTo>
                    <a:pt x="12" y="8"/>
                  </a:lnTo>
                  <a:cubicBezTo>
                    <a:pt x="21" y="3"/>
                    <a:pt x="34" y="0"/>
                    <a:pt x="48" y="0"/>
                  </a:cubicBezTo>
                </a:path>
              </a:pathLst>
            </a:custGeom>
            <a:gradFill rotWithShape="0">
              <a:gsLst>
                <a:gs pos="0">
                  <a:srgbClr val="373737"/>
                </a:gs>
                <a:gs pos="100000">
                  <a:srgbClr val="c3c3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627360" y="2409840"/>
              <a:ext cx="1919520" cy="91908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e1e1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3627360" y="2850120"/>
              <a:ext cx="1919520" cy="478440"/>
            </a:xfrm>
            <a:custGeom>
              <a:avLst/>
              <a:gdLst/>
              <a:ahLst/>
              <a:rect l="l" t="t" r="r" b="b"/>
              <a:pathLst>
                <a:path w="96" h="24">
                  <a:moveTo>
                    <a:pt x="96" y="0"/>
                  </a:moveTo>
                  <a:cubicBezTo>
                    <a:pt x="96" y="1"/>
                    <a:pt x="96" y="1"/>
                    <a:pt x="96" y="1"/>
                  </a:cubicBezTo>
                  <a:cubicBezTo>
                    <a:pt x="96" y="14"/>
                    <a:pt x="74" y="24"/>
                    <a:pt x="48" y="24"/>
                  </a:cubicBezTo>
                  <a:cubicBezTo>
                    <a:pt x="22" y="24"/>
                    <a:pt x="0" y="14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13"/>
                    <a:pt x="22" y="23"/>
                    <a:pt x="48" y="23"/>
                  </a:cubicBezTo>
                  <a:cubicBezTo>
                    <a:pt x="74" y="23"/>
                    <a:pt x="95" y="13"/>
                    <a:pt x="96" y="0"/>
                  </a:cubicBezTo>
                </a:path>
              </a:pathLst>
            </a:custGeom>
            <a:gradFill rotWithShape="0">
              <a:gsLst>
                <a:gs pos="0">
                  <a:srgbClr val="e0e0e0"/>
                </a:gs>
                <a:gs pos="50000">
                  <a:srgbClr val="ffffff"/>
                </a:gs>
                <a:gs pos="100000">
                  <a:srgbClr val="e0e0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未知"/>
          <p:cNvSpPr/>
          <p:nvPr/>
        </p:nvSpPr>
        <p:spPr>
          <a:xfrm>
            <a:off x="4486320" y="2451240"/>
            <a:ext cx="779400" cy="279360"/>
          </a:xfrm>
          <a:custGeom>
            <a:avLst/>
            <a:gdLst/>
            <a:ahLst/>
            <a:rect l="l" t="t" r="r" b="b"/>
            <a:pathLst>
              <a:path w="39" h="14">
                <a:moveTo>
                  <a:pt x="39" y="0"/>
                </a:moveTo>
                <a:lnTo>
                  <a:pt x="13" y="14"/>
                </a:lnTo>
                <a:lnTo>
                  <a:pt x="0" y="14"/>
                </a:lnTo>
                <a:lnTo>
                  <a:pt x="20" y="3"/>
                </a:lnTo>
                <a:cubicBezTo>
                  <a:pt x="15" y="4"/>
                  <a:pt x="12" y="4"/>
                  <a:pt x="9" y="4"/>
                </a:cubicBezTo>
                <a:lnTo>
                  <a:pt x="12" y="2"/>
                </a:lnTo>
                <a:cubicBezTo>
                  <a:pt x="19" y="2"/>
                  <a:pt x="25" y="1"/>
                  <a:pt x="31" y="0"/>
                </a:cubicBezTo>
                <a:lnTo>
                  <a:pt x="39" y="0"/>
                </a:lnTo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7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未知"/>
          <p:cNvSpPr/>
          <p:nvPr/>
        </p:nvSpPr>
        <p:spPr>
          <a:xfrm>
            <a:off x="4425840" y="1889280"/>
            <a:ext cx="60480" cy="841320"/>
          </a:xfrm>
          <a:custGeom>
            <a:avLst/>
            <a:gdLst/>
            <a:ahLst/>
            <a:rect l="l" t="t" r="r" b="b"/>
            <a:pathLst>
              <a:path w="3" h="42">
                <a:moveTo>
                  <a:pt x="3" y="42"/>
                </a:moveTo>
                <a:lnTo>
                  <a:pt x="0" y="37"/>
                </a:lnTo>
                <a:lnTo>
                  <a:pt x="0" y="0"/>
                </a:lnTo>
                <a:lnTo>
                  <a:pt x="3" y="3"/>
                </a:lnTo>
                <a:lnTo>
                  <a:pt x="3" y="42"/>
                </a:lnTo>
              </a:path>
            </a:pathLst>
          </a:custGeom>
          <a:solidFill>
            <a:srgbClr val="004d9a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未知"/>
          <p:cNvSpPr/>
          <p:nvPr/>
        </p:nvSpPr>
        <p:spPr>
          <a:xfrm>
            <a:off x="4246560" y="1809720"/>
            <a:ext cx="60480" cy="200160"/>
          </a:xfrm>
          <a:custGeom>
            <a:avLst/>
            <a:gdLst/>
            <a:ahLst/>
            <a:rect l="l" t="t" r="r" b="b"/>
            <a:pathLst>
              <a:path w="3" h="10">
                <a:moveTo>
                  <a:pt x="3" y="10"/>
                </a:moveTo>
                <a:lnTo>
                  <a:pt x="0" y="7"/>
                </a:lnTo>
                <a:lnTo>
                  <a:pt x="0" y="0"/>
                </a:lnTo>
                <a:lnTo>
                  <a:pt x="3" y="3"/>
                </a:lnTo>
                <a:lnTo>
                  <a:pt x="3" y="10"/>
                </a:lnTo>
              </a:path>
            </a:pathLst>
          </a:custGeom>
          <a:solidFill>
            <a:srgbClr val="004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未知"/>
          <p:cNvSpPr/>
          <p:nvPr/>
        </p:nvSpPr>
        <p:spPr>
          <a:xfrm>
            <a:off x="4525920" y="1631880"/>
            <a:ext cx="220680" cy="60480"/>
          </a:xfrm>
          <a:custGeom>
            <a:avLst/>
            <a:gdLst/>
            <a:ahLst/>
            <a:rect l="l" t="t" r="r" b="b"/>
            <a:pathLst>
              <a:path w="11" h="3">
                <a:moveTo>
                  <a:pt x="3" y="3"/>
                </a:moveTo>
                <a:lnTo>
                  <a:pt x="0" y="0"/>
                </a:lnTo>
                <a:lnTo>
                  <a:pt x="7" y="0"/>
                </a:lnTo>
                <a:lnTo>
                  <a:pt x="11" y="3"/>
                </a:lnTo>
                <a:lnTo>
                  <a:pt x="3" y="3"/>
                </a:lnTo>
              </a:path>
            </a:pathLst>
          </a:custGeom>
          <a:solidFill>
            <a:srgbClr val="89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未知"/>
          <p:cNvSpPr/>
          <p:nvPr/>
        </p:nvSpPr>
        <p:spPr>
          <a:xfrm>
            <a:off x="4307040" y="1692360"/>
            <a:ext cx="439560" cy="1038240"/>
          </a:xfrm>
          <a:custGeom>
            <a:avLst/>
            <a:gdLst/>
            <a:ahLst/>
            <a:rect l="l" t="t" r="r" b="b"/>
            <a:pathLst>
              <a:path w="22" h="52">
                <a:moveTo>
                  <a:pt x="22" y="0"/>
                </a:moveTo>
                <a:lnTo>
                  <a:pt x="22" y="52"/>
                </a:lnTo>
                <a:lnTo>
                  <a:pt x="9" y="52"/>
                </a:lnTo>
                <a:lnTo>
                  <a:pt x="9" y="13"/>
                </a:lnTo>
                <a:cubicBezTo>
                  <a:pt x="6" y="15"/>
                  <a:pt x="2" y="16"/>
                  <a:pt x="0" y="16"/>
                </a:cubicBezTo>
                <a:lnTo>
                  <a:pt x="0" y="9"/>
                </a:lnTo>
                <a:cubicBezTo>
                  <a:pt x="6" y="8"/>
                  <a:pt x="11" y="5"/>
                  <a:pt x="14" y="0"/>
                </a:cubicBezTo>
                <a:lnTo>
                  <a:pt x="22" y="0"/>
                </a:lnTo>
              </a:path>
            </a:pathLst>
          </a:custGeom>
          <a:gradFill rotWithShape="0">
            <a:gsLst>
              <a:gs pos="0">
                <a:srgbClr val="4fa6ff"/>
              </a:gs>
              <a:gs pos="100000">
                <a:srgbClr val="c5e1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4307040" y="1692360"/>
            <a:ext cx="439560" cy="396720"/>
          </a:xfrm>
          <a:custGeom>
            <a:avLst/>
            <a:gdLst/>
            <a:ahLst/>
            <a:rect l="l" t="t" r="r" b="b"/>
            <a:pathLst>
              <a:path w="22" h="20">
                <a:moveTo>
                  <a:pt x="22" y="0"/>
                </a:moveTo>
                <a:lnTo>
                  <a:pt x="22" y="10"/>
                </a:lnTo>
                <a:cubicBezTo>
                  <a:pt x="17" y="12"/>
                  <a:pt x="12" y="16"/>
                  <a:pt x="9" y="20"/>
                </a:cubicBezTo>
                <a:lnTo>
                  <a:pt x="9" y="13"/>
                </a:lnTo>
                <a:cubicBezTo>
                  <a:pt x="6" y="15"/>
                  <a:pt x="2" y="16"/>
                  <a:pt x="0" y="16"/>
                </a:cubicBezTo>
                <a:lnTo>
                  <a:pt x="0" y="9"/>
                </a:lnTo>
                <a:cubicBezTo>
                  <a:pt x="6" y="8"/>
                  <a:pt x="11" y="5"/>
                  <a:pt x="14" y="0"/>
                </a:cubicBezTo>
                <a:lnTo>
                  <a:pt x="22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未知"/>
          <p:cNvSpPr/>
          <p:nvPr/>
        </p:nvSpPr>
        <p:spPr>
          <a:xfrm>
            <a:off x="4243320" y="1628640"/>
            <a:ext cx="343080" cy="241560"/>
          </a:xfrm>
          <a:custGeom>
            <a:avLst/>
            <a:gdLst/>
            <a:ahLst/>
            <a:rect l="l" t="t" r="r" b="b"/>
            <a:pathLst>
              <a:path w="17" h="12">
                <a:moveTo>
                  <a:pt x="14" y="0"/>
                </a:moveTo>
                <a:cubicBezTo>
                  <a:pt x="14" y="0"/>
                  <a:pt x="11" y="8"/>
                  <a:pt x="0" y="9"/>
                </a:cubicBezTo>
                <a:lnTo>
                  <a:pt x="3" y="12"/>
                </a:lnTo>
                <a:cubicBezTo>
                  <a:pt x="3" y="12"/>
                  <a:pt x="13" y="12"/>
                  <a:pt x="17" y="3"/>
                </a:cubicBezTo>
                <a:lnTo>
                  <a:pt x="14" y="0"/>
                </a:lnTo>
              </a:path>
            </a:pathLst>
          </a:custGeom>
          <a:gradFill rotWithShape="0">
            <a:gsLst>
              <a:gs pos="0">
                <a:srgbClr val="003b76"/>
              </a:gs>
              <a:gs pos="100000">
                <a:srgbClr val="6bb4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85880" y="4032360"/>
            <a:ext cx="1237680" cy="1917360"/>
            <a:chOff x="2585880" y="4032360"/>
            <a:chExt cx="1237680" cy="1917360"/>
          </a:xfrm>
        </p:grpSpPr>
        <p:sp>
          <p:nvSpPr>
            <p:cNvPr id="101" name="未知"/>
            <p:cNvSpPr/>
            <p:nvPr/>
          </p:nvSpPr>
          <p:spPr>
            <a:xfrm>
              <a:off x="2585880" y="4786920"/>
              <a:ext cx="1192320" cy="68076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cubicBezTo>
                    <a:pt x="41" y="0"/>
                    <a:pt x="49" y="2"/>
                    <a:pt x="55" y="5"/>
                  </a:cubicBezTo>
                  <a:lnTo>
                    <a:pt x="59" y="5"/>
                  </a:lnTo>
                  <a:cubicBezTo>
                    <a:pt x="61" y="5"/>
                    <a:pt x="63" y="7"/>
                    <a:pt x="63" y="8"/>
                  </a:cubicBezTo>
                  <a:lnTo>
                    <a:pt x="63" y="20"/>
                  </a:lnTo>
                  <a:cubicBezTo>
                    <a:pt x="63" y="31"/>
                    <a:pt x="40" y="36"/>
                    <a:pt x="31" y="36"/>
                  </a:cubicBezTo>
                  <a:cubicBezTo>
                    <a:pt x="15" y="36"/>
                    <a:pt x="1" y="28"/>
                    <a:pt x="0" y="21"/>
                  </a:cubicBezTo>
                  <a:cubicBezTo>
                    <a:pt x="0" y="21"/>
                    <a:pt x="0" y="20"/>
                    <a:pt x="0" y="20"/>
                  </a:cubicBezTo>
                  <a:lnTo>
                    <a:pt x="0" y="20"/>
                  </a:lnTo>
                  <a:lnTo>
                    <a:pt x="0" y="8"/>
                  </a:lnTo>
                  <a:cubicBezTo>
                    <a:pt x="0" y="7"/>
                    <a:pt x="2" y="5"/>
                    <a:pt x="4" y="5"/>
                  </a:cubicBezTo>
                  <a:lnTo>
                    <a:pt x="8" y="5"/>
                  </a:lnTo>
                  <a:cubicBezTo>
                    <a:pt x="14" y="2"/>
                    <a:pt x="22" y="0"/>
                    <a:pt x="31" y="0"/>
                  </a:cubicBezTo>
                </a:path>
              </a:pathLst>
            </a:custGeom>
            <a:gradFill rotWithShape="0">
              <a:gsLst>
                <a:gs pos="0">
                  <a:srgbClr val="414141"/>
                </a:gs>
                <a:gs pos="100000">
                  <a:srgbClr val="ebeb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85880" y="4635360"/>
              <a:ext cx="1192320" cy="54792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e1e1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2585880" y="4900320"/>
              <a:ext cx="1192320" cy="2829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2" y="0"/>
                  </a:moveTo>
                  <a:cubicBezTo>
                    <a:pt x="62" y="0"/>
                    <a:pt x="63" y="0"/>
                    <a:pt x="63" y="0"/>
                  </a:cubicBezTo>
                  <a:cubicBezTo>
                    <a:pt x="63" y="8"/>
                    <a:pt x="48" y="15"/>
                    <a:pt x="31" y="15"/>
                  </a:cubicBezTo>
                  <a:cubicBezTo>
                    <a:pt x="14" y="15"/>
                    <a:pt x="0" y="8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15" y="13"/>
                    <a:pt x="31" y="13"/>
                  </a:cubicBezTo>
                  <a:cubicBezTo>
                    <a:pt x="48" y="13"/>
                    <a:pt x="62" y="7"/>
                    <a:pt x="62" y="0"/>
                  </a:cubicBezTo>
                </a:path>
              </a:pathLst>
            </a:custGeom>
            <a:gradFill rotWithShape="0">
              <a:gsLst>
                <a:gs pos="0">
                  <a:srgbClr val="e0e0e0"/>
                </a:gs>
                <a:gs pos="50000">
                  <a:srgbClr val="ffffff"/>
                </a:gs>
                <a:gs pos="100000">
                  <a:srgbClr val="e0e0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1680" y="4859280"/>
              <a:ext cx="757440" cy="125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743560" y="4032360"/>
              <a:ext cx="1080000" cy="879840"/>
              <a:chOff x="2743560" y="4032360"/>
              <a:chExt cx="1080000" cy="879840"/>
            </a:xfrm>
          </p:grpSpPr>
          <p:sp>
            <p:nvSpPr>
              <p:cNvPr id="106" name=""/>
              <p:cNvSpPr/>
              <p:nvPr/>
            </p:nvSpPr>
            <p:spPr>
              <a:xfrm>
                <a:off x="2743560" y="4032360"/>
                <a:ext cx="879840" cy="879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3b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2600" dir="54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43560" y="4172040"/>
                <a:ext cx="879840" cy="559800"/>
              </a:xfrm>
              <a:prstGeom prst="ellipse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ffffff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43560" y="4192920"/>
                <a:ext cx="879840" cy="516600"/>
              </a:xfrm>
              <a:prstGeom prst="ellipse">
                <a:avLst/>
              </a:prstGeom>
              <a:gradFill rotWithShape="0">
                <a:gsLst>
                  <a:gs pos="0">
                    <a:srgbClr val="8b8b8b"/>
                  </a:gs>
                  <a:gs pos="100000">
                    <a:srgbClr val="eb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2743560" y="4452120"/>
                <a:ext cx="639720" cy="459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19" y="23"/>
                    </a:moveTo>
                    <a:cubicBezTo>
                      <a:pt x="8" y="22"/>
                      <a:pt x="0" y="1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8"/>
                      <a:pt x="10" y="14"/>
                      <a:pt x="22" y="14"/>
                    </a:cubicBezTo>
                    <a:cubicBezTo>
                      <a:pt x="25" y="14"/>
                      <a:pt x="29" y="14"/>
                      <a:pt x="32" y="13"/>
                    </a:cubicBezTo>
                    <a:cubicBezTo>
                      <a:pt x="29" y="16"/>
                      <a:pt x="25" y="20"/>
                      <a:pt x="19" y="23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04120" y="4073400"/>
                <a:ext cx="539280" cy="3391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e7f2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3443760" y="4132440"/>
                <a:ext cx="379800" cy="65988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0" y="0"/>
                    </a:moveTo>
                    <a:cubicBezTo>
                      <a:pt x="0" y="0"/>
                      <a:pt x="13" y="14"/>
                      <a:pt x="0" y="33"/>
                    </a:cubicBezTo>
                    <a:cubicBezTo>
                      <a:pt x="0" y="33"/>
                      <a:pt x="19" y="17"/>
                      <a:pt x="0" y="0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78039"/>
                    </a:srgbClr>
                  </a:gs>
                  <a:gs pos="100000">
                    <a:srgbClr val="bbe0e3">
                      <a:alpha val="3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未知"/>
            <p:cNvSpPr/>
            <p:nvPr/>
          </p:nvSpPr>
          <p:spPr>
            <a:xfrm>
              <a:off x="2594520" y="5268960"/>
              <a:ext cx="1172160" cy="68076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62" y="0"/>
                  </a:moveTo>
                  <a:lnTo>
                    <a:pt x="62" y="10"/>
                  </a:lnTo>
                  <a:cubicBezTo>
                    <a:pt x="62" y="18"/>
                    <a:pt x="52" y="22"/>
                    <a:pt x="43" y="25"/>
                  </a:cubicBezTo>
                  <a:cubicBezTo>
                    <a:pt x="46" y="27"/>
                    <a:pt x="48" y="31"/>
                    <a:pt x="48" y="35"/>
                  </a:cubicBezTo>
                  <a:lnTo>
                    <a:pt x="14" y="35"/>
                  </a:lnTo>
                  <a:cubicBezTo>
                    <a:pt x="15" y="31"/>
                    <a:pt x="17" y="27"/>
                    <a:pt x="20" y="25"/>
                  </a:cubicBezTo>
                  <a:cubicBezTo>
                    <a:pt x="9" y="22"/>
                    <a:pt x="1" y="17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lnTo>
                    <a:pt x="0" y="10"/>
                  </a:lnTo>
                  <a:lnTo>
                    <a:pt x="0" y="0"/>
                  </a:lnTo>
                  <a:cubicBezTo>
                    <a:pt x="4" y="6"/>
                    <a:pt x="16" y="11"/>
                    <a:pt x="31" y="11"/>
                  </a:cubicBezTo>
                  <a:cubicBezTo>
                    <a:pt x="46" y="11"/>
                    <a:pt x="59" y="6"/>
                    <a:pt x="62" y="0"/>
                  </a:cubicBezTo>
                </a:path>
              </a:pathLst>
            </a:custGeom>
            <a:gradFill rotWithShape="0">
              <a:gsLst>
                <a:gs pos="0">
                  <a:srgbClr val="e2e2e2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968640" y="4032360"/>
            <a:ext cx="1235880" cy="1434600"/>
            <a:chOff x="3968640" y="4032360"/>
            <a:chExt cx="1235880" cy="1434600"/>
          </a:xfrm>
        </p:grpSpPr>
        <p:sp>
          <p:nvSpPr>
            <p:cNvPr id="114" name="未知"/>
            <p:cNvSpPr/>
            <p:nvPr/>
          </p:nvSpPr>
          <p:spPr>
            <a:xfrm>
              <a:off x="3968640" y="4786560"/>
              <a:ext cx="1190880" cy="6804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cubicBezTo>
                    <a:pt x="41" y="0"/>
                    <a:pt x="49" y="2"/>
                    <a:pt x="55" y="5"/>
                  </a:cubicBezTo>
                  <a:lnTo>
                    <a:pt x="59" y="5"/>
                  </a:lnTo>
                  <a:cubicBezTo>
                    <a:pt x="61" y="5"/>
                    <a:pt x="63" y="7"/>
                    <a:pt x="63" y="8"/>
                  </a:cubicBezTo>
                  <a:lnTo>
                    <a:pt x="63" y="20"/>
                  </a:lnTo>
                  <a:cubicBezTo>
                    <a:pt x="63" y="31"/>
                    <a:pt x="40" y="36"/>
                    <a:pt x="31" y="36"/>
                  </a:cubicBezTo>
                  <a:cubicBezTo>
                    <a:pt x="15" y="36"/>
                    <a:pt x="1" y="28"/>
                    <a:pt x="0" y="21"/>
                  </a:cubicBezTo>
                  <a:cubicBezTo>
                    <a:pt x="0" y="21"/>
                    <a:pt x="0" y="20"/>
                    <a:pt x="0" y="20"/>
                  </a:cubicBezTo>
                  <a:lnTo>
                    <a:pt x="0" y="20"/>
                  </a:lnTo>
                  <a:lnTo>
                    <a:pt x="0" y="8"/>
                  </a:lnTo>
                  <a:cubicBezTo>
                    <a:pt x="0" y="7"/>
                    <a:pt x="2" y="5"/>
                    <a:pt x="4" y="5"/>
                  </a:cubicBezTo>
                  <a:lnTo>
                    <a:pt x="8" y="5"/>
                  </a:lnTo>
                  <a:cubicBezTo>
                    <a:pt x="14" y="2"/>
                    <a:pt x="22" y="0"/>
                    <a:pt x="31" y="0"/>
                  </a:cubicBezTo>
                </a:path>
              </a:pathLst>
            </a:custGeom>
            <a:gradFill rotWithShape="0">
              <a:gsLst>
                <a:gs pos="0">
                  <a:srgbClr val="414141"/>
                </a:gs>
                <a:gs pos="100000">
                  <a:srgbClr val="ebeb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8640" y="4635000"/>
              <a:ext cx="1190880" cy="54792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e1e1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3968640" y="4899960"/>
              <a:ext cx="1190880" cy="2829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2" y="0"/>
                  </a:moveTo>
                  <a:cubicBezTo>
                    <a:pt x="62" y="0"/>
                    <a:pt x="63" y="0"/>
                    <a:pt x="63" y="0"/>
                  </a:cubicBezTo>
                  <a:cubicBezTo>
                    <a:pt x="63" y="8"/>
                    <a:pt x="48" y="15"/>
                    <a:pt x="31" y="15"/>
                  </a:cubicBezTo>
                  <a:cubicBezTo>
                    <a:pt x="14" y="15"/>
                    <a:pt x="0" y="8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15" y="13"/>
                    <a:pt x="31" y="13"/>
                  </a:cubicBezTo>
                  <a:cubicBezTo>
                    <a:pt x="48" y="13"/>
                    <a:pt x="62" y="7"/>
                    <a:pt x="62" y="0"/>
                  </a:cubicBezTo>
                </a:path>
              </a:pathLst>
            </a:custGeom>
            <a:gradFill rotWithShape="0">
              <a:gsLst>
                <a:gs pos="0">
                  <a:srgbClr val="e0e0e0"/>
                </a:gs>
                <a:gs pos="50000">
                  <a:srgbClr val="ffffff"/>
                </a:gs>
                <a:gs pos="100000">
                  <a:srgbClr val="e0e0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04080" y="4858920"/>
              <a:ext cx="756360" cy="125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125960" y="4032360"/>
              <a:ext cx="1078560" cy="879480"/>
              <a:chOff x="4125960" y="4032360"/>
              <a:chExt cx="1078560" cy="87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4125960" y="4032360"/>
                <a:ext cx="878760" cy="87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0b0b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2600" dir="54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125960" y="4172040"/>
                <a:ext cx="878760" cy="559800"/>
              </a:xfrm>
              <a:prstGeom prst="ellipse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ffffff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125960" y="4192920"/>
                <a:ext cx="878760" cy="516600"/>
              </a:xfrm>
              <a:prstGeom prst="ellipse">
                <a:avLst/>
              </a:prstGeom>
              <a:gradFill rotWithShape="0">
                <a:gsLst>
                  <a:gs pos="0">
                    <a:srgbClr val="8b8b8b"/>
                  </a:gs>
                  <a:gs pos="100000">
                    <a:srgbClr val="eb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4125960" y="4452120"/>
                <a:ext cx="638640" cy="45936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19" y="23"/>
                    </a:moveTo>
                    <a:cubicBezTo>
                      <a:pt x="8" y="22"/>
                      <a:pt x="0" y="1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8"/>
                      <a:pt x="10" y="14"/>
                      <a:pt x="22" y="14"/>
                    </a:cubicBezTo>
                    <a:cubicBezTo>
                      <a:pt x="25" y="14"/>
                      <a:pt x="29" y="14"/>
                      <a:pt x="32" y="13"/>
                    </a:cubicBezTo>
                    <a:cubicBezTo>
                      <a:pt x="29" y="16"/>
                      <a:pt x="25" y="20"/>
                      <a:pt x="19" y="23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86520" y="4073400"/>
                <a:ext cx="538560" cy="3387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4825080" y="4132440"/>
                <a:ext cx="379440" cy="65952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0" y="0"/>
                    </a:moveTo>
                    <a:cubicBezTo>
                      <a:pt x="0" y="0"/>
                      <a:pt x="13" y="14"/>
                      <a:pt x="0" y="33"/>
                    </a:cubicBezTo>
                    <a:cubicBezTo>
                      <a:pt x="0" y="33"/>
                      <a:pt x="19" y="17"/>
                      <a:pt x="0" y="0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78039"/>
                    </a:srgbClr>
                  </a:gs>
                  <a:gs pos="100000">
                    <a:srgbClr val="e0e0e0">
                      <a:alpha val="3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未知"/>
          <p:cNvSpPr/>
          <p:nvPr/>
        </p:nvSpPr>
        <p:spPr>
          <a:xfrm>
            <a:off x="3973680" y="5267160"/>
            <a:ext cx="1171440" cy="682920"/>
          </a:xfrm>
          <a:custGeom>
            <a:avLst/>
            <a:gdLst/>
            <a:ahLst/>
            <a:rect l="l" t="t" r="r" b="b"/>
            <a:pathLst>
              <a:path w="62" h="35">
                <a:moveTo>
                  <a:pt x="62" y="0"/>
                </a:moveTo>
                <a:lnTo>
                  <a:pt x="62" y="10"/>
                </a:lnTo>
                <a:cubicBezTo>
                  <a:pt x="62" y="18"/>
                  <a:pt x="52" y="22"/>
                  <a:pt x="43" y="25"/>
                </a:cubicBezTo>
                <a:cubicBezTo>
                  <a:pt x="46" y="27"/>
                  <a:pt x="48" y="31"/>
                  <a:pt x="48" y="35"/>
                </a:cubicBezTo>
                <a:lnTo>
                  <a:pt x="14" y="35"/>
                </a:lnTo>
                <a:cubicBezTo>
                  <a:pt x="15" y="31"/>
                  <a:pt x="17" y="27"/>
                  <a:pt x="20" y="25"/>
                </a:cubicBezTo>
                <a:cubicBezTo>
                  <a:pt x="9" y="22"/>
                  <a:pt x="1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lnTo>
                  <a:pt x="0" y="10"/>
                </a:lnTo>
                <a:lnTo>
                  <a:pt x="0" y="0"/>
                </a:lnTo>
                <a:cubicBezTo>
                  <a:pt x="4" y="6"/>
                  <a:pt x="16" y="11"/>
                  <a:pt x="31" y="11"/>
                </a:cubicBezTo>
                <a:cubicBezTo>
                  <a:pt x="46" y="11"/>
                  <a:pt x="59" y="6"/>
                  <a:pt x="62" y="0"/>
                </a:cubicBezTo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349960" y="4032360"/>
            <a:ext cx="1237320" cy="1434600"/>
            <a:chOff x="5349960" y="4032360"/>
            <a:chExt cx="1237320" cy="1434600"/>
          </a:xfrm>
        </p:grpSpPr>
        <p:sp>
          <p:nvSpPr>
            <p:cNvPr id="127" name="未知"/>
            <p:cNvSpPr/>
            <p:nvPr/>
          </p:nvSpPr>
          <p:spPr>
            <a:xfrm>
              <a:off x="5349960" y="4786560"/>
              <a:ext cx="1191960" cy="6804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1" y="0"/>
                  </a:moveTo>
                  <a:cubicBezTo>
                    <a:pt x="41" y="0"/>
                    <a:pt x="49" y="2"/>
                    <a:pt x="55" y="5"/>
                  </a:cubicBezTo>
                  <a:lnTo>
                    <a:pt x="59" y="5"/>
                  </a:lnTo>
                  <a:cubicBezTo>
                    <a:pt x="61" y="5"/>
                    <a:pt x="63" y="7"/>
                    <a:pt x="63" y="8"/>
                  </a:cubicBezTo>
                  <a:lnTo>
                    <a:pt x="63" y="20"/>
                  </a:lnTo>
                  <a:cubicBezTo>
                    <a:pt x="63" y="31"/>
                    <a:pt x="40" y="36"/>
                    <a:pt x="31" y="36"/>
                  </a:cubicBezTo>
                  <a:cubicBezTo>
                    <a:pt x="15" y="36"/>
                    <a:pt x="1" y="28"/>
                    <a:pt x="0" y="21"/>
                  </a:cubicBezTo>
                  <a:cubicBezTo>
                    <a:pt x="0" y="21"/>
                    <a:pt x="0" y="20"/>
                    <a:pt x="0" y="20"/>
                  </a:cubicBezTo>
                  <a:lnTo>
                    <a:pt x="0" y="20"/>
                  </a:lnTo>
                  <a:lnTo>
                    <a:pt x="0" y="8"/>
                  </a:lnTo>
                  <a:cubicBezTo>
                    <a:pt x="0" y="7"/>
                    <a:pt x="2" y="5"/>
                    <a:pt x="4" y="5"/>
                  </a:cubicBezTo>
                  <a:lnTo>
                    <a:pt x="8" y="5"/>
                  </a:lnTo>
                  <a:cubicBezTo>
                    <a:pt x="14" y="2"/>
                    <a:pt x="22" y="0"/>
                    <a:pt x="31" y="0"/>
                  </a:cubicBezTo>
                </a:path>
              </a:pathLst>
            </a:custGeom>
            <a:gradFill rotWithShape="0">
              <a:gsLst>
                <a:gs pos="0">
                  <a:srgbClr val="414141"/>
                </a:gs>
                <a:gs pos="100000">
                  <a:srgbClr val="ebebe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49960" y="4635000"/>
              <a:ext cx="1191960" cy="547920"/>
            </a:xfrm>
            <a:prstGeom prst="ellipse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e1e1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5349960" y="4899960"/>
              <a:ext cx="1191960" cy="2829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2" y="0"/>
                  </a:moveTo>
                  <a:cubicBezTo>
                    <a:pt x="62" y="0"/>
                    <a:pt x="63" y="0"/>
                    <a:pt x="63" y="0"/>
                  </a:cubicBezTo>
                  <a:cubicBezTo>
                    <a:pt x="63" y="8"/>
                    <a:pt x="48" y="15"/>
                    <a:pt x="31" y="15"/>
                  </a:cubicBezTo>
                  <a:cubicBezTo>
                    <a:pt x="14" y="15"/>
                    <a:pt x="0" y="8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7"/>
                    <a:pt x="15" y="13"/>
                    <a:pt x="31" y="13"/>
                  </a:cubicBezTo>
                  <a:cubicBezTo>
                    <a:pt x="48" y="13"/>
                    <a:pt x="62" y="7"/>
                    <a:pt x="62" y="0"/>
                  </a:cubicBezTo>
                </a:path>
              </a:pathLst>
            </a:custGeom>
            <a:gradFill rotWithShape="0">
              <a:gsLst>
                <a:gs pos="0">
                  <a:srgbClr val="e0e0e0"/>
                </a:gs>
                <a:gs pos="50000">
                  <a:srgbClr val="ffffff"/>
                </a:gs>
                <a:gs pos="100000">
                  <a:srgbClr val="e0e0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5760" y="4858920"/>
              <a:ext cx="757080" cy="125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7254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507640" y="4032360"/>
              <a:ext cx="1079640" cy="879480"/>
              <a:chOff x="5507640" y="4032360"/>
              <a:chExt cx="1079640" cy="87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5507640" y="4032360"/>
                <a:ext cx="879840" cy="87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0b0b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2600" dir="54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07640" y="4172040"/>
                <a:ext cx="879840" cy="559800"/>
              </a:xfrm>
              <a:prstGeom prst="ellipse">
                <a:avLst/>
              </a:prstGeom>
              <a:gradFill rotWithShape="0">
                <a:gsLst>
                  <a:gs pos="0">
                    <a:srgbClr val="575757"/>
                  </a:gs>
                  <a:gs pos="50000">
                    <a:srgbClr val="ffffff"/>
                  </a:gs>
                  <a:gs pos="100000">
                    <a:srgbClr val="5757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507640" y="4192920"/>
                <a:ext cx="879840" cy="516600"/>
              </a:xfrm>
              <a:prstGeom prst="ellipse">
                <a:avLst/>
              </a:prstGeom>
              <a:gradFill rotWithShape="0">
                <a:gsLst>
                  <a:gs pos="0">
                    <a:srgbClr val="8b8b8b"/>
                  </a:gs>
                  <a:gs pos="100000">
                    <a:srgbClr val="ebebe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5507640" y="4452120"/>
                <a:ext cx="639360" cy="45936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19" y="23"/>
                    </a:moveTo>
                    <a:cubicBezTo>
                      <a:pt x="8" y="22"/>
                      <a:pt x="0" y="1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8"/>
                      <a:pt x="10" y="14"/>
                      <a:pt x="22" y="14"/>
                    </a:cubicBezTo>
                    <a:cubicBezTo>
                      <a:pt x="25" y="14"/>
                      <a:pt x="29" y="14"/>
                      <a:pt x="32" y="13"/>
                    </a:cubicBezTo>
                    <a:cubicBezTo>
                      <a:pt x="29" y="16"/>
                      <a:pt x="25" y="20"/>
                      <a:pt x="19" y="23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68200" y="4073400"/>
                <a:ext cx="539280" cy="3387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2f2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6207480" y="4132440"/>
                <a:ext cx="379800" cy="65952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0" y="0"/>
                    </a:moveTo>
                    <a:cubicBezTo>
                      <a:pt x="0" y="0"/>
                      <a:pt x="13" y="14"/>
                      <a:pt x="0" y="33"/>
                    </a:cubicBezTo>
                    <a:cubicBezTo>
                      <a:pt x="0" y="33"/>
                      <a:pt x="19" y="17"/>
                      <a:pt x="0" y="0"/>
                    </a:cubicBezTo>
                  </a:path>
                </a:pathLst>
              </a:custGeom>
              <a:gradFill rotWithShape="0">
                <a:gsLst>
                  <a:gs pos="0">
                    <a:srgbClr val="ffffff">
                      <a:alpha val="78039"/>
                    </a:srgbClr>
                  </a:gs>
                  <a:gs pos="100000">
                    <a:srgbClr val="e0e0e0">
                      <a:alpha val="32156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未知"/>
          <p:cNvSpPr/>
          <p:nvPr/>
        </p:nvSpPr>
        <p:spPr>
          <a:xfrm>
            <a:off x="5365800" y="5267160"/>
            <a:ext cx="1171440" cy="682920"/>
          </a:xfrm>
          <a:custGeom>
            <a:avLst/>
            <a:gdLst/>
            <a:ahLst/>
            <a:rect l="l" t="t" r="r" b="b"/>
            <a:pathLst>
              <a:path w="62" h="35">
                <a:moveTo>
                  <a:pt x="62" y="0"/>
                </a:moveTo>
                <a:lnTo>
                  <a:pt x="62" y="10"/>
                </a:lnTo>
                <a:cubicBezTo>
                  <a:pt x="62" y="18"/>
                  <a:pt x="52" y="22"/>
                  <a:pt x="43" y="25"/>
                </a:cubicBezTo>
                <a:cubicBezTo>
                  <a:pt x="46" y="27"/>
                  <a:pt x="48" y="31"/>
                  <a:pt x="48" y="35"/>
                </a:cubicBezTo>
                <a:lnTo>
                  <a:pt x="14" y="35"/>
                </a:lnTo>
                <a:cubicBezTo>
                  <a:pt x="15" y="31"/>
                  <a:pt x="17" y="27"/>
                  <a:pt x="20" y="25"/>
                </a:cubicBezTo>
                <a:cubicBezTo>
                  <a:pt x="9" y="22"/>
                  <a:pt x="1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lnTo>
                  <a:pt x="0" y="10"/>
                </a:lnTo>
                <a:lnTo>
                  <a:pt x="0" y="0"/>
                </a:lnTo>
                <a:cubicBezTo>
                  <a:pt x="4" y="6"/>
                  <a:pt x="16" y="11"/>
                  <a:pt x="31" y="11"/>
                </a:cubicBezTo>
                <a:cubicBezTo>
                  <a:pt x="46" y="11"/>
                  <a:pt x="59" y="6"/>
                  <a:pt x="62" y="0"/>
                </a:cubicBezTo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55960" y="421956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92720" y="4213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56400" y="42130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6"/>
          <p:cNvSpPr/>
          <p:nvPr/>
        </p:nvSpPr>
        <p:spPr>
          <a:xfrm>
            <a:off x="3882960" y="2774880"/>
            <a:ext cx="136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sz="25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未知"/>
          <p:cNvSpPr/>
          <p:nvPr/>
        </p:nvSpPr>
        <p:spPr>
          <a:xfrm>
            <a:off x="4633920" y="4994280"/>
            <a:ext cx="3467160" cy="380880"/>
          </a:xfrm>
          <a:custGeom>
            <a:avLst/>
            <a:gdLst/>
            <a:ahLst/>
            <a:rect l="l" t="t" r="r" b="b"/>
            <a:pathLst>
              <a:path w="364" h="40">
                <a:moveTo>
                  <a:pt x="92" y="15"/>
                </a:moveTo>
                <a:lnTo>
                  <a:pt x="352" y="15"/>
                </a:lnTo>
                <a:cubicBezTo>
                  <a:pt x="359" y="15"/>
                  <a:pt x="364" y="20"/>
                  <a:pt x="364" y="27"/>
                </a:cubicBezTo>
                <a:lnTo>
                  <a:pt x="364" y="40"/>
                </a:lnTo>
                <a:lnTo>
                  <a:pt x="0" y="40"/>
                </a:lnTo>
                <a:cubicBezTo>
                  <a:pt x="4" y="18"/>
                  <a:pt x="24" y="0"/>
                  <a:pt x="47" y="0"/>
                </a:cubicBezTo>
                <a:cubicBezTo>
                  <a:pt x="62" y="0"/>
                  <a:pt x="75" y="7"/>
                  <a:pt x="84" y="17"/>
                </a:cubicBezTo>
                <a:cubicBezTo>
                  <a:pt x="86" y="16"/>
                  <a:pt x="89" y="15"/>
                  <a:pt x="92" y="15"/>
                </a:cubicBezTo>
              </a:path>
            </a:pathLst>
          </a:custGeom>
          <a:gradFill rotWithShape="0">
            <a:gsLst>
              <a:gs pos="0">
                <a:srgbClr val="cecece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67440" y="2057400"/>
            <a:ext cx="2909880" cy="63504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34040" y="2101680"/>
            <a:ext cx="2776320" cy="54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e9e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618080" y="1917720"/>
            <a:ext cx="1031760" cy="915840"/>
            <a:chOff x="4618080" y="1917720"/>
            <a:chExt cx="1031760" cy="915840"/>
          </a:xfrm>
        </p:grpSpPr>
        <p:sp>
          <p:nvSpPr>
            <p:cNvPr id="148" name=""/>
            <p:cNvSpPr/>
            <p:nvPr/>
          </p:nvSpPr>
          <p:spPr>
            <a:xfrm>
              <a:off x="4618080" y="1917720"/>
              <a:ext cx="912960" cy="91584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81440" y="1978200"/>
              <a:ext cx="789120" cy="7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3b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81440" y="2103480"/>
              <a:ext cx="789120" cy="5014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ffffff"/>
                </a:gs>
                <a:gs pos="100000">
                  <a:srgbClr val="5757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81440" y="2122560"/>
              <a:ext cx="789120" cy="461880"/>
            </a:xfrm>
            <a:prstGeom prst="ellipse">
              <a:avLst/>
            </a:prstGeom>
            <a:gradFill rotWithShape="0">
              <a:gsLst>
                <a:gs pos="0">
                  <a:srgbClr val="8b8b8b"/>
                </a:gs>
                <a:gs pos="100000">
                  <a:srgbClr val="ebeb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4681440" y="2354400"/>
              <a:ext cx="573120" cy="4111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19" y="23"/>
                  </a:moveTo>
                  <a:cubicBezTo>
                    <a:pt x="8" y="22"/>
                    <a:pt x="0" y="12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8"/>
                    <a:pt x="10" y="14"/>
                    <a:pt x="22" y="14"/>
                  </a:cubicBezTo>
                  <a:cubicBezTo>
                    <a:pt x="25" y="14"/>
                    <a:pt x="29" y="14"/>
                    <a:pt x="32" y="13"/>
                  </a:cubicBezTo>
                  <a:cubicBezTo>
                    <a:pt x="29" y="16"/>
                    <a:pt x="25" y="20"/>
                    <a:pt x="19" y="23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26160" y="2014560"/>
              <a:ext cx="482400" cy="303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5308560" y="2067120"/>
              <a:ext cx="341280" cy="59184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cubicBezTo>
                    <a:pt x="0" y="0"/>
                    <a:pt x="13" y="14"/>
                    <a:pt x="0" y="33"/>
                  </a:cubicBezTo>
                  <a:cubicBezTo>
                    <a:pt x="0" y="33"/>
                    <a:pt x="19" y="17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78039"/>
                  </a:srgbClr>
                </a:gs>
                <a:gs pos="100000">
                  <a:srgbClr val="e0e0e0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618080" y="3105000"/>
            <a:ext cx="3459240" cy="915840"/>
            <a:chOff x="4618080" y="3105000"/>
            <a:chExt cx="3459240" cy="915840"/>
          </a:xfrm>
        </p:grpSpPr>
        <p:sp>
          <p:nvSpPr>
            <p:cNvPr id="156" name=""/>
            <p:cNvSpPr/>
            <p:nvPr/>
          </p:nvSpPr>
          <p:spPr>
            <a:xfrm>
              <a:off x="5167440" y="3244680"/>
              <a:ext cx="2909880" cy="63504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18080" y="3105000"/>
              <a:ext cx="912960" cy="91584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34040" y="3289320"/>
              <a:ext cx="2776680" cy="545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9e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81440" y="3165480"/>
              <a:ext cx="789120" cy="7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0b0b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81440" y="3290760"/>
              <a:ext cx="789120" cy="50148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ffffff"/>
                </a:gs>
                <a:gs pos="100000">
                  <a:srgbClr val="5757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81440" y="3309840"/>
              <a:ext cx="789120" cy="461880"/>
            </a:xfrm>
            <a:prstGeom prst="ellipse">
              <a:avLst/>
            </a:prstGeom>
            <a:gradFill rotWithShape="0">
              <a:gsLst>
                <a:gs pos="0">
                  <a:srgbClr val="8b8b8b"/>
                </a:gs>
                <a:gs pos="100000">
                  <a:srgbClr val="ebeb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4681440" y="3541680"/>
              <a:ext cx="573120" cy="4111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19" y="23"/>
                  </a:moveTo>
                  <a:cubicBezTo>
                    <a:pt x="8" y="22"/>
                    <a:pt x="0" y="12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8"/>
                    <a:pt x="10" y="14"/>
                    <a:pt x="22" y="14"/>
                  </a:cubicBezTo>
                  <a:cubicBezTo>
                    <a:pt x="25" y="14"/>
                    <a:pt x="29" y="14"/>
                    <a:pt x="32" y="13"/>
                  </a:cubicBezTo>
                  <a:cubicBezTo>
                    <a:pt x="29" y="16"/>
                    <a:pt x="25" y="20"/>
                    <a:pt x="19" y="23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26160" y="3201840"/>
              <a:ext cx="482400" cy="3031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2f2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5308560" y="3254400"/>
              <a:ext cx="341280" cy="59184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0" y="0"/>
                  </a:moveTo>
                  <a:cubicBezTo>
                    <a:pt x="0" y="0"/>
                    <a:pt x="13" y="14"/>
                    <a:pt x="0" y="33"/>
                  </a:cubicBezTo>
                  <a:cubicBezTo>
                    <a:pt x="0" y="33"/>
                    <a:pt x="19" y="17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78039"/>
                  </a:srgbClr>
                </a:gs>
                <a:gs pos="100000">
                  <a:srgbClr val="e0e0e0">
                    <a:alpha val="3215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167440" y="4433760"/>
            <a:ext cx="2909880" cy="63504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18080" y="4294080"/>
            <a:ext cx="912600" cy="916200"/>
          </a:xfrm>
          <a:prstGeom prst="ellipse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34040" y="4478400"/>
            <a:ext cx="2776320" cy="54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e9e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1440" y="4354560"/>
            <a:ext cx="789120" cy="787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0b0b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1440" y="4479840"/>
            <a:ext cx="789120" cy="501840"/>
          </a:xfrm>
          <a:prstGeom prst="ellipse">
            <a:avLst/>
          </a:prstGeom>
          <a:gradFill rotWithShape="0">
            <a:gsLst>
              <a:gs pos="0">
                <a:srgbClr val="575757"/>
              </a:gs>
              <a:gs pos="50000">
                <a:srgbClr val="ffffff"/>
              </a:gs>
              <a:gs pos="100000">
                <a:srgbClr val="5757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1440" y="4498920"/>
            <a:ext cx="789120" cy="461880"/>
          </a:xfrm>
          <a:prstGeom prst="ellipse">
            <a:avLst/>
          </a:prstGeom>
          <a:gradFill rotWithShape="0">
            <a:gsLst>
              <a:gs pos="0">
                <a:srgbClr val="8b8b8b"/>
              </a:gs>
              <a:gs pos="100000">
                <a:srgbClr val="ebeb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未知"/>
          <p:cNvSpPr/>
          <p:nvPr/>
        </p:nvSpPr>
        <p:spPr>
          <a:xfrm>
            <a:off x="4681440" y="4730760"/>
            <a:ext cx="573120" cy="411120"/>
          </a:xfrm>
          <a:custGeom>
            <a:avLst/>
            <a:gdLst/>
            <a:ahLst/>
            <a:rect l="l" t="t" r="r" b="b"/>
            <a:pathLst>
              <a:path w="32" h="23">
                <a:moveTo>
                  <a:pt x="19" y="23"/>
                </a:moveTo>
                <a:cubicBezTo>
                  <a:pt x="8" y="22"/>
                  <a:pt x="0" y="12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8"/>
                  <a:pt x="10" y="14"/>
                  <a:pt x="22" y="14"/>
                </a:cubicBezTo>
                <a:cubicBezTo>
                  <a:pt x="25" y="14"/>
                  <a:pt x="29" y="14"/>
                  <a:pt x="32" y="13"/>
                </a:cubicBezTo>
                <a:cubicBezTo>
                  <a:pt x="29" y="16"/>
                  <a:pt x="25" y="20"/>
                  <a:pt x="19" y="23"/>
                </a:cubicBezTo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26160" y="4390920"/>
            <a:ext cx="482400" cy="3034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未知"/>
          <p:cNvSpPr/>
          <p:nvPr/>
        </p:nvSpPr>
        <p:spPr>
          <a:xfrm>
            <a:off x="5308560" y="4443480"/>
            <a:ext cx="341280" cy="592200"/>
          </a:xfrm>
          <a:custGeom>
            <a:avLst/>
            <a:gdLst/>
            <a:ahLst/>
            <a:rect l="l" t="t" r="r" b="b"/>
            <a:pathLst>
              <a:path w="19" h="33">
                <a:moveTo>
                  <a:pt x="0" y="0"/>
                </a:moveTo>
                <a:cubicBezTo>
                  <a:pt x="0" y="0"/>
                  <a:pt x="13" y="14"/>
                  <a:pt x="0" y="33"/>
                </a:cubicBezTo>
                <a:cubicBezTo>
                  <a:pt x="0" y="33"/>
                  <a:pt x="19" y="17"/>
                  <a:pt x="0" y="0"/>
                </a:cubicBezTo>
              </a:path>
            </a:pathLst>
          </a:custGeom>
          <a:gradFill rotWithShape="0">
            <a:gsLst>
              <a:gs pos="0">
                <a:srgbClr val="ffffff">
                  <a:alpha val="78039"/>
                </a:srgbClr>
              </a:gs>
              <a:gs pos="100000">
                <a:srgbClr val="e0e0e0">
                  <a:alpha val="3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8360" y="208440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8360" y="33098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8360" y="450216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5702400" y="21812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6"/>
          <p:cNvSpPr/>
          <p:nvPr/>
        </p:nvSpPr>
        <p:spPr>
          <a:xfrm>
            <a:off x="5702400" y="335592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6"/>
          <p:cNvSpPr/>
          <p:nvPr/>
        </p:nvSpPr>
        <p:spPr>
          <a:xfrm>
            <a:off x="5702400" y="4546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175428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在这里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42920" y="1844640"/>
            <a:ext cx="7127640" cy="4189320"/>
            <a:chOff x="1042920" y="1844640"/>
            <a:chExt cx="7127640" cy="4189320"/>
          </a:xfrm>
        </p:grpSpPr>
        <p:grpSp>
          <p:nvGrpSpPr>
            <p:cNvPr id="183" name=""/>
            <p:cNvGrpSpPr/>
            <p:nvPr/>
          </p:nvGrpSpPr>
          <p:grpSpPr>
            <a:xfrm>
              <a:off x="1042920" y="1844640"/>
              <a:ext cx="7127640" cy="4189320"/>
              <a:chOff x="1042920" y="1844640"/>
              <a:chExt cx="7127640" cy="4189320"/>
            </a:xfrm>
          </p:grpSpPr>
          <p:sp>
            <p:nvSpPr>
              <p:cNvPr id="184" name=""/>
              <p:cNvSpPr/>
              <p:nvPr/>
            </p:nvSpPr>
            <p:spPr>
              <a:xfrm>
                <a:off x="3725640" y="2663640"/>
                <a:ext cx="1787760" cy="1044720"/>
              </a:xfrm>
              <a:custGeom>
                <a:avLst/>
                <a:gdLst>
                  <a:gd name="textAreaLeft" fmla="*/ 279360 w 1787760"/>
                  <a:gd name="textAreaRight" fmla="*/ 1564560 w 1787760"/>
                  <a:gd name="textAreaTop" fmla="*/ 261000 h 1044720"/>
                  <a:gd name="textAreaBottom" fmla="*/ 783720 h 104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7d7d"/>
                  </a:gs>
                  <a:gs pos="100000">
                    <a:srgbClr val="e1e1e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5557680" y="3309840"/>
                <a:ext cx="2612880" cy="2724120"/>
                <a:chOff x="5557680" y="3309840"/>
                <a:chExt cx="2612880" cy="2724120"/>
              </a:xfrm>
            </p:grpSpPr>
            <p:sp>
              <p:nvSpPr>
                <p:cNvPr id="186" name="未知"/>
                <p:cNvSpPr/>
                <p:nvPr/>
              </p:nvSpPr>
              <p:spPr>
                <a:xfrm flipH="1">
                  <a:off x="5708520" y="5437080"/>
                  <a:ext cx="2311200" cy="596880"/>
                </a:xfrm>
                <a:custGeom>
                  <a:avLst/>
                  <a:gdLst/>
                  <a:ahLst/>
                  <a:rect l="l" t="t" r="r" b="b"/>
                  <a:pathLst>
                    <a:path w="81" h="30">
                      <a:moveTo>
                        <a:pt x="0" y="30"/>
                      </a:moveTo>
                      <a:cubicBezTo>
                        <a:pt x="6" y="13"/>
                        <a:pt x="22" y="0"/>
                        <a:pt x="41" y="0"/>
                      </a:cubicBezTo>
                      <a:cubicBezTo>
                        <a:pt x="60" y="0"/>
                        <a:pt x="76" y="13"/>
                        <a:pt x="81" y="30"/>
                      </a:cubicBezTo>
                      <a:lnTo>
                        <a:pt x="0" y="30"/>
                      </a:lnTo>
                    </a:path>
                  </a:pathLst>
                </a:custGeom>
                <a:gradFill rotWithShape="0">
                  <a:gsLst>
                    <a:gs pos="0">
                      <a:srgbClr val="d8d8d8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未知"/>
                <p:cNvSpPr/>
                <p:nvPr/>
              </p:nvSpPr>
              <p:spPr>
                <a:xfrm flipH="1">
                  <a:off x="5576040" y="4052880"/>
                  <a:ext cx="2593800" cy="1562040"/>
                </a:xfrm>
                <a:custGeom>
                  <a:avLst/>
                  <a:gdLst/>
                  <a:ahLst/>
                  <a:rect l="l" t="t" r="r" b="b"/>
                  <a:pathLst>
                    <a:path w="131" h="79">
                      <a:moveTo>
                        <a:pt x="130" y="2"/>
                      </a:moveTo>
                      <a:cubicBezTo>
                        <a:pt x="131" y="5"/>
                        <a:pt x="131" y="8"/>
                        <a:pt x="131" y="11"/>
                      </a:cubicBezTo>
                      <a:cubicBezTo>
                        <a:pt x="131" y="47"/>
                        <a:pt x="102" y="79"/>
                        <a:pt x="65" y="79"/>
                      </a:cubicBezTo>
                      <a:cubicBezTo>
                        <a:pt x="25" y="79"/>
                        <a:pt x="0" y="48"/>
                        <a:pt x="0" y="11"/>
                      </a:cubicBezTo>
                      <a:cubicBezTo>
                        <a:pt x="0" y="7"/>
                        <a:pt x="0" y="4"/>
                        <a:pt x="1" y="0"/>
                      </a:cubicBezTo>
                      <a:cubicBezTo>
                        <a:pt x="6" y="15"/>
                        <a:pt x="33" y="27"/>
                        <a:pt x="66" y="27"/>
                      </a:cubicBezTo>
                      <a:cubicBezTo>
                        <a:pt x="97" y="27"/>
                        <a:pt x="123" y="16"/>
                        <a:pt x="130" y="2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6d6d6d"/>
                    </a:gs>
                    <a:gs pos="50000">
                      <a:srgbClr val="b9b9b9"/>
                    </a:gs>
                    <a:gs pos="100000">
                      <a:srgbClr val="6d6d6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>
                  <a:off x="5557680" y="3309840"/>
                  <a:ext cx="2612880" cy="128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f2f2f">
                        <a:alpha val="81176"/>
                      </a:srgbClr>
                    </a:gs>
                    <a:gs pos="50000">
                      <a:srgbClr val="888888"/>
                    </a:gs>
                    <a:gs pos="100000">
                      <a:srgbClr val="2f2f2f">
                        <a:alpha val="81176"/>
                      </a:srgbClr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5557680" y="3309840"/>
                  <a:ext cx="2612880" cy="120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7a7a7"/>
                    </a:gs>
                    <a:gs pos="50000">
                      <a:srgbClr val="dbdbdb"/>
                    </a:gs>
                    <a:gs pos="100000">
                      <a:srgbClr val="a7a7a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>
                  <a:off x="5636880" y="3389040"/>
                  <a:ext cx="2454480" cy="10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7d7d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5695200" y="3389040"/>
                  <a:ext cx="2336760" cy="10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5f5f5"/>
                    </a:gs>
                    <a:gs pos="100000">
                      <a:srgbClr val="9a9a9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未知"/>
                <p:cNvSpPr/>
                <p:nvPr/>
              </p:nvSpPr>
              <p:spPr>
                <a:xfrm flipH="1">
                  <a:off x="5833800" y="4900680"/>
                  <a:ext cx="2068560" cy="711000"/>
                </a:xfrm>
                <a:custGeom>
                  <a:avLst/>
                  <a:gdLst/>
                  <a:ahLst/>
                  <a:rect l="l" t="t" r="r" b="b"/>
                  <a:pathLst>
                    <a:path w="105" h="36">
                      <a:moveTo>
                        <a:pt x="105" y="11"/>
                      </a:moveTo>
                      <a:cubicBezTo>
                        <a:pt x="93" y="26"/>
                        <a:pt x="75" y="36"/>
                        <a:pt x="54" y="36"/>
                      </a:cubicBezTo>
                      <a:cubicBezTo>
                        <a:pt x="30" y="36"/>
                        <a:pt x="11" y="24"/>
                        <a:pt x="0" y="7"/>
                      </a:cubicBezTo>
                      <a:cubicBezTo>
                        <a:pt x="10" y="3"/>
                        <a:pt x="27" y="0"/>
                        <a:pt x="43" y="9"/>
                      </a:cubicBezTo>
                      <a:cubicBezTo>
                        <a:pt x="61" y="19"/>
                        <a:pt x="83" y="22"/>
                        <a:pt x="105" y="1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1921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042920" y="3309840"/>
                <a:ext cx="2612520" cy="2723760"/>
                <a:chOff x="1042920" y="3309840"/>
                <a:chExt cx="2612520" cy="272376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042920" y="3309840"/>
                  <a:ext cx="2612520" cy="2723760"/>
                  <a:chOff x="1042920" y="3309840"/>
                  <a:chExt cx="2612520" cy="2723760"/>
                </a:xfrm>
              </p:grpSpPr>
              <p:sp>
                <p:nvSpPr>
                  <p:cNvPr id="195" name="未知"/>
                  <p:cNvSpPr/>
                  <p:nvPr/>
                </p:nvSpPr>
                <p:spPr>
                  <a:xfrm>
                    <a:off x="1194120" y="5437440"/>
                    <a:ext cx="2310480" cy="5961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0">
                        <a:moveTo>
                          <a:pt x="0" y="30"/>
                        </a:moveTo>
                        <a:cubicBezTo>
                          <a:pt x="6" y="13"/>
                          <a:pt x="22" y="0"/>
                          <a:pt x="41" y="0"/>
                        </a:cubicBezTo>
                        <a:cubicBezTo>
                          <a:pt x="60" y="0"/>
                          <a:pt x="76" y="13"/>
                          <a:pt x="81" y="30"/>
                        </a:cubicBezTo>
                        <a:lnTo>
                          <a:pt x="0" y="3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8d8d8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未知"/>
                  <p:cNvSpPr/>
                  <p:nvPr/>
                </p:nvSpPr>
                <p:spPr>
                  <a:xfrm>
                    <a:off x="1042920" y="4052160"/>
                    <a:ext cx="2593440" cy="156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79">
                        <a:moveTo>
                          <a:pt x="130" y="2"/>
                        </a:moveTo>
                        <a:cubicBezTo>
                          <a:pt x="131" y="5"/>
                          <a:pt x="131" y="8"/>
                          <a:pt x="131" y="11"/>
                        </a:cubicBezTo>
                        <a:cubicBezTo>
                          <a:pt x="131" y="47"/>
                          <a:pt x="102" y="79"/>
                          <a:pt x="65" y="79"/>
                        </a:cubicBezTo>
                        <a:cubicBezTo>
                          <a:pt x="25" y="79"/>
                          <a:pt x="0" y="48"/>
                          <a:pt x="0" y="11"/>
                        </a:cubicBezTo>
                        <a:cubicBezTo>
                          <a:pt x="0" y="7"/>
                          <a:pt x="0" y="4"/>
                          <a:pt x="1" y="0"/>
                        </a:cubicBezTo>
                        <a:cubicBezTo>
                          <a:pt x="6" y="15"/>
                          <a:pt x="33" y="27"/>
                          <a:pt x="66" y="27"/>
                        </a:cubicBezTo>
                        <a:cubicBezTo>
                          <a:pt x="97" y="27"/>
                          <a:pt x="123" y="16"/>
                          <a:pt x="130" y="2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d6d6d"/>
                      </a:gs>
                      <a:gs pos="50000">
                        <a:srgbClr val="b9b9b9"/>
                      </a:gs>
                      <a:gs pos="100000">
                        <a:srgbClr val="6d6d6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042920" y="3309840"/>
                    <a:ext cx="2612520" cy="1286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f2f2f">
                          <a:alpha val="81176"/>
                        </a:srgbClr>
                      </a:gs>
                      <a:gs pos="50000">
                        <a:srgbClr val="888888"/>
                      </a:gs>
                      <a:gs pos="100000">
                        <a:srgbClr val="2f2f2f">
                          <a:alpha val="81176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042920" y="3309840"/>
                    <a:ext cx="2612520" cy="1207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7a7a7"/>
                      </a:gs>
                      <a:gs pos="50000">
                        <a:srgbClr val="dbdbdb"/>
                      </a:gs>
                      <a:gs pos="100000">
                        <a:srgbClr val="a7a7a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121760" y="3388680"/>
                    <a:ext cx="2455200" cy="1028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180800" y="3388680"/>
                    <a:ext cx="2336760" cy="1028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5f5f5"/>
                      </a:gs>
                      <a:gs pos="100000">
                        <a:srgbClr val="9a9a9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1" name="未知"/>
                <p:cNvSpPr/>
                <p:nvPr/>
              </p:nvSpPr>
              <p:spPr>
                <a:xfrm>
                  <a:off x="1258920" y="4900680"/>
                  <a:ext cx="2068560" cy="711000"/>
                </a:xfrm>
                <a:custGeom>
                  <a:avLst/>
                  <a:gdLst/>
                  <a:ahLst/>
                  <a:rect l="l" t="t" r="r" b="b"/>
                  <a:pathLst>
                    <a:path w="105" h="36">
                      <a:moveTo>
                        <a:pt x="105" y="11"/>
                      </a:moveTo>
                      <a:cubicBezTo>
                        <a:pt x="93" y="26"/>
                        <a:pt x="75" y="36"/>
                        <a:pt x="54" y="36"/>
                      </a:cubicBezTo>
                      <a:cubicBezTo>
                        <a:pt x="30" y="36"/>
                        <a:pt x="11" y="24"/>
                        <a:pt x="0" y="7"/>
                      </a:cubicBezTo>
                      <a:cubicBezTo>
                        <a:pt x="10" y="3"/>
                        <a:pt x="27" y="0"/>
                        <a:pt x="43" y="9"/>
                      </a:cubicBezTo>
                      <a:cubicBezTo>
                        <a:pt x="61" y="19"/>
                        <a:pt x="83" y="22"/>
                        <a:pt x="105" y="11"/>
                      </a:cubicBezTo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1921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870560" y="1844640"/>
                <a:ext cx="958320" cy="2356920"/>
                <a:chOff x="1870560" y="1844640"/>
                <a:chExt cx="958320" cy="2356920"/>
              </a:xfrm>
            </p:grpSpPr>
            <p:sp>
              <p:nvSpPr>
                <p:cNvPr id="203" name="Freeform 149"/>
                <p:cNvSpPr/>
                <p:nvPr/>
              </p:nvSpPr>
              <p:spPr>
                <a:xfrm flipH="1">
                  <a:off x="2305080" y="3244320"/>
                  <a:ext cx="134640" cy="85824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51"/>
                <p:cNvSpPr/>
                <p:nvPr/>
              </p:nvSpPr>
              <p:spPr>
                <a:xfrm flipH="1">
                  <a:off x="2363400" y="2318760"/>
                  <a:ext cx="406080" cy="8748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52"/>
                <p:cNvSpPr/>
                <p:nvPr/>
              </p:nvSpPr>
              <p:spPr>
                <a:xfrm flipH="1">
                  <a:off x="2078640" y="2894400"/>
                  <a:ext cx="132120" cy="130716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53"/>
                <p:cNvSpPr/>
                <p:nvPr/>
              </p:nvSpPr>
              <p:spPr>
                <a:xfrm flipH="1">
                  <a:off x="1870200" y="1844640"/>
                  <a:ext cx="676440" cy="1623240"/>
                </a:xfrm>
                <a:prstGeom prst="pie">
                  <a:avLst/>
                </a:prstGeom>
                <a:gradFill rotWithShape="0">
                  <a:gsLst>
                    <a:gs pos="0">
                      <a:srgbClr val="dbdbdb"/>
                    </a:gs>
                    <a:gs pos="100000">
                      <a:srgbClr val="dad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54"/>
                <p:cNvSpPr/>
                <p:nvPr/>
              </p:nvSpPr>
              <p:spPr>
                <a:xfrm flipH="1">
                  <a:off x="2000160" y="1886760"/>
                  <a:ext cx="828720" cy="231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f0f0f0"/>
                    </a:gs>
                    <a:gs pos="100000">
                      <a:srgbClr val="6e6e6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384960" y="1844640"/>
                <a:ext cx="958680" cy="2357280"/>
                <a:chOff x="6384960" y="1844640"/>
                <a:chExt cx="958680" cy="2357280"/>
              </a:xfrm>
            </p:grpSpPr>
            <p:sp>
              <p:nvSpPr>
                <p:cNvPr id="209" name="Freeform 149"/>
                <p:cNvSpPr/>
                <p:nvPr/>
              </p:nvSpPr>
              <p:spPr>
                <a:xfrm>
                  <a:off x="6773760" y="3244680"/>
                  <a:ext cx="135000" cy="85896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51"/>
                <p:cNvSpPr/>
                <p:nvPr/>
              </p:nvSpPr>
              <p:spPr>
                <a:xfrm>
                  <a:off x="6443640" y="2319480"/>
                  <a:ext cx="406440" cy="8712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52"/>
                <p:cNvSpPr/>
                <p:nvPr/>
              </p:nvSpPr>
              <p:spPr>
                <a:xfrm>
                  <a:off x="7002360" y="2895480"/>
                  <a:ext cx="133560" cy="1306440"/>
                </a:xfrm>
                <a:prstGeom prst="pi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153"/>
                <p:cNvSpPr/>
                <p:nvPr/>
              </p:nvSpPr>
              <p:spPr>
                <a:xfrm>
                  <a:off x="6667560" y="1844640"/>
                  <a:ext cx="676080" cy="1623960"/>
                </a:xfrm>
                <a:prstGeom prst="pie">
                  <a:avLst/>
                </a:prstGeom>
                <a:gradFill rotWithShape="0">
                  <a:gsLst>
                    <a:gs pos="0">
                      <a:srgbClr val="dbdbdb"/>
                    </a:gs>
                    <a:gs pos="100000">
                      <a:srgbClr val="dad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54"/>
                <p:cNvSpPr/>
                <p:nvPr/>
              </p:nvSpPr>
              <p:spPr>
                <a:xfrm>
                  <a:off x="6384960" y="1887480"/>
                  <a:ext cx="828720" cy="2314440"/>
                </a:xfrm>
                <a:prstGeom prst="pie">
                  <a:avLst/>
                </a:prstGeom>
                <a:gradFill rotWithShape="0">
                  <a:gsLst>
                    <a:gs pos="0">
                      <a:srgbClr val="81c0ff"/>
                    </a:gs>
                    <a:gs pos="100000">
                      <a:srgbClr val="0064c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Text Box 36"/>
            <p:cNvSpPr/>
            <p:nvPr/>
          </p:nvSpPr>
          <p:spPr>
            <a:xfrm>
              <a:off x="1861920" y="2514600"/>
              <a:ext cx="10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6"/>
            <p:cNvSpPr/>
            <p:nvPr/>
          </p:nvSpPr>
          <p:spPr>
            <a:xfrm>
              <a:off x="6253200" y="2514600"/>
              <a:ext cx="104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6"/>
            <p:cNvSpPr/>
            <p:nvPr/>
          </p:nvSpPr>
          <p:spPr>
            <a:xfrm>
              <a:off x="3949560" y="2987640"/>
              <a:ext cx="134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0760" y="4602240"/>
              <a:ext cx="171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.ADD TEXT 02.ADD TEXT 03.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0280" y="4602240"/>
              <a:ext cx="1716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.ADD TEXT 02.ADD TEXT 03.ADD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05080" y="2133720"/>
            <a:ext cx="6335640" cy="3921120"/>
            <a:chOff x="1405080" y="2133720"/>
            <a:chExt cx="6335640" cy="3921120"/>
          </a:xfrm>
        </p:grpSpPr>
        <p:grpSp>
          <p:nvGrpSpPr>
            <p:cNvPr id="222" name=""/>
            <p:cNvGrpSpPr/>
            <p:nvPr/>
          </p:nvGrpSpPr>
          <p:grpSpPr>
            <a:xfrm>
              <a:off x="1405080" y="2133720"/>
              <a:ext cx="6335640" cy="3921120"/>
              <a:chOff x="1405080" y="2133720"/>
              <a:chExt cx="6335640" cy="3921120"/>
            </a:xfrm>
          </p:grpSpPr>
          <p:sp>
            <p:nvSpPr>
              <p:cNvPr id="223" name="未知"/>
              <p:cNvSpPr/>
              <p:nvPr/>
            </p:nvSpPr>
            <p:spPr>
              <a:xfrm>
                <a:off x="2338560" y="2784600"/>
                <a:ext cx="4470480" cy="2486160"/>
              </a:xfrm>
              <a:custGeom>
                <a:avLst/>
                <a:gdLst/>
                <a:ahLst/>
                <a:rect l="l" t="t" r="r" b="b"/>
                <a:pathLst>
                  <a:path w="2816" h="1566">
                    <a:moveTo>
                      <a:pt x="7" y="1234"/>
                    </a:moveTo>
                    <a:cubicBezTo>
                      <a:pt x="7" y="1234"/>
                      <a:pt x="543" y="992"/>
                      <a:pt x="807" y="408"/>
                    </a:cubicBezTo>
                    <a:lnTo>
                      <a:pt x="553" y="408"/>
                    </a:lnTo>
                    <a:lnTo>
                      <a:pt x="1421" y="0"/>
                    </a:lnTo>
                    <a:lnTo>
                      <a:pt x="2289" y="408"/>
                    </a:lnTo>
                    <a:lnTo>
                      <a:pt x="2026" y="408"/>
                    </a:lnTo>
                    <a:cubicBezTo>
                      <a:pt x="2026" y="408"/>
                      <a:pt x="1997" y="705"/>
                      <a:pt x="2816" y="1201"/>
                    </a:cubicBezTo>
                    <a:lnTo>
                      <a:pt x="2816" y="1550"/>
                    </a:lnTo>
                    <a:lnTo>
                      <a:pt x="0" y="1566"/>
                    </a:lnTo>
                    <a:lnTo>
                      <a:pt x="7" y="1234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417760" y="2133720"/>
                <a:ext cx="4312800" cy="538920"/>
                <a:chOff x="2417760" y="2133720"/>
                <a:chExt cx="4312800" cy="538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2417760" y="2135160"/>
                  <a:ext cx="4311720" cy="534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d6d6d"/>
                    </a:gs>
                    <a:gs pos="50000">
                      <a:srgbClr val="dddddd"/>
                    </a:gs>
                    <a:gs pos="100000">
                      <a:srgbClr val="6d6d6d"/>
                    </a:gs>
                  </a:gsLst>
                  <a:lin ang="5400000"/>
                </a:gradFill>
                <a:ln w="28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2419200" y="2135160"/>
                  <a:ext cx="4311360" cy="534240"/>
                  <a:chOff x="2419200" y="2135160"/>
                  <a:chExt cx="4311360" cy="534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2419200" y="2135160"/>
                    <a:ext cx="4311360" cy="534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>
                          <a:alpha val="46274"/>
                        </a:srgbClr>
                      </a:gs>
                      <a:gs pos="100000">
                        <a:srgbClr val="4f4f4f">
                          <a:alpha val="0"/>
                        </a:srgbClr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526840" y="2161800"/>
                    <a:ext cx="4096080" cy="1954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>
                          <a:alpha val="82352"/>
                        </a:srgbClr>
                      </a:gs>
                      <a:gs pos="100000">
                        <a:srgbClr val="004d9a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2419200" y="2133720"/>
                  <a:ext cx="4309560" cy="538920"/>
                  <a:chOff x="2419200" y="2133720"/>
                  <a:chExt cx="4309560" cy="538920"/>
                </a:xfrm>
              </p:grpSpPr>
              <p:sp>
                <p:nvSpPr>
                  <p:cNvPr id="230" name="未知"/>
                  <p:cNvSpPr/>
                  <p:nvPr/>
                </p:nvSpPr>
                <p:spPr>
                  <a:xfrm>
                    <a:off x="2419200" y="2133720"/>
                    <a:ext cx="27612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w="742" h="1483">
                        <a:moveTo>
                          <a:pt x="0" y="742"/>
                        </a:moveTo>
                        <a:cubicBezTo>
                          <a:pt x="0" y="1151"/>
                          <a:pt x="332" y="1483"/>
                          <a:pt x="742" y="1483"/>
                        </a:cubicBezTo>
                        <a:cubicBezTo>
                          <a:pt x="742" y="0"/>
                          <a:pt x="742" y="0"/>
                          <a:pt x="742" y="0"/>
                        </a:cubicBezTo>
                        <a:cubicBezTo>
                          <a:pt x="332" y="0"/>
                          <a:pt x="0" y="332"/>
                          <a:pt x="0" y="74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7e7e7">
                          <a:alpha val="0"/>
                        </a:srgbClr>
                      </a:gs>
                      <a:gs pos="100000">
                        <a:srgbClr val="8b8b8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未知"/>
                  <p:cNvSpPr/>
                  <p:nvPr/>
                </p:nvSpPr>
                <p:spPr>
                  <a:xfrm flipH="1">
                    <a:off x="6455880" y="2133720"/>
                    <a:ext cx="272880" cy="538920"/>
                  </a:xfrm>
                  <a:custGeom>
                    <a:avLst/>
                    <a:gdLst/>
                    <a:ahLst/>
                    <a:rect l="l" t="t" r="r" b="b"/>
                    <a:pathLst>
                      <a:path w="742" h="1483">
                        <a:moveTo>
                          <a:pt x="0" y="742"/>
                        </a:moveTo>
                        <a:cubicBezTo>
                          <a:pt x="0" y="1151"/>
                          <a:pt x="332" y="1483"/>
                          <a:pt x="742" y="1483"/>
                        </a:cubicBezTo>
                        <a:cubicBezTo>
                          <a:pt x="742" y="0"/>
                          <a:pt x="742" y="0"/>
                          <a:pt x="742" y="0"/>
                        </a:cubicBezTo>
                        <a:cubicBezTo>
                          <a:pt x="332" y="0"/>
                          <a:pt x="0" y="332"/>
                          <a:pt x="0" y="742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7e7e7">
                          <a:alpha val="0"/>
                        </a:srgbClr>
                      </a:gs>
                      <a:gs pos="100000">
                        <a:srgbClr val="8b8b8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1405080" y="4429080"/>
                <a:ext cx="6335640" cy="1625760"/>
                <a:chOff x="1405080" y="4429080"/>
                <a:chExt cx="6335640" cy="162576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405080" y="4429080"/>
                  <a:ext cx="6335640" cy="1301760"/>
                  <a:chOff x="1405080" y="4429080"/>
                  <a:chExt cx="6335640" cy="13017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405080" y="4429080"/>
                    <a:ext cx="1301760" cy="1301760"/>
                  </a:xfrm>
                  <a:prstGeom prst="ellipse">
                    <a:avLst/>
                  </a:prstGeom>
                  <a:solidFill>
                    <a:srgbClr val="6262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6438960" y="4429080"/>
                    <a:ext cx="1301760" cy="1301760"/>
                  </a:xfrm>
                  <a:prstGeom prst="ellipse">
                    <a:avLst/>
                  </a:prstGeom>
                  <a:solidFill>
                    <a:srgbClr val="6262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083040" y="4429080"/>
                    <a:ext cx="1301760" cy="1301760"/>
                  </a:xfrm>
                  <a:prstGeom prst="ellipse">
                    <a:avLst/>
                  </a:prstGeom>
                  <a:solidFill>
                    <a:srgbClr val="6262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761000" y="4429080"/>
                    <a:ext cx="1301760" cy="1301760"/>
                  </a:xfrm>
                  <a:prstGeom prst="ellipse">
                    <a:avLst/>
                  </a:prstGeom>
                  <a:solidFill>
                    <a:srgbClr val="6262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405080" y="4481640"/>
                  <a:ext cx="1301760" cy="1573200"/>
                  <a:chOff x="1405080" y="4481640"/>
                  <a:chExt cx="1301760" cy="1573200"/>
                </a:xfrm>
              </p:grpSpPr>
              <p:sp>
                <p:nvSpPr>
                  <p:cNvPr id="239" name="未知"/>
                  <p:cNvSpPr/>
                  <p:nvPr/>
                </p:nvSpPr>
                <p:spPr>
                  <a:xfrm flipH="1">
                    <a:off x="1413720" y="5700960"/>
                    <a:ext cx="1281240" cy="353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0">
                        <a:moveTo>
                          <a:pt x="0" y="30"/>
                        </a:moveTo>
                        <a:cubicBezTo>
                          <a:pt x="6" y="13"/>
                          <a:pt x="22" y="0"/>
                          <a:pt x="41" y="0"/>
                        </a:cubicBezTo>
                        <a:cubicBezTo>
                          <a:pt x="60" y="0"/>
                          <a:pt x="76" y="13"/>
                          <a:pt x="81" y="30"/>
                        </a:cubicBezTo>
                        <a:lnTo>
                          <a:pt x="0" y="3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cecece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1405080" y="4481640"/>
                    <a:ext cx="1301760" cy="1301760"/>
                    <a:chOff x="1405080" y="4481640"/>
                    <a:chExt cx="1301760" cy="130176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1405080" y="4481640"/>
                      <a:ext cx="1301760" cy="1301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a4a4a4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381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447920" y="4735800"/>
                      <a:ext cx="493560" cy="73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e0e0">
                            <a:alpha val="0"/>
                          </a:srgbClr>
                        </a:gs>
                        <a:gs pos="100000">
                          <a:srgbClr val="ffffff">
                            <a:alpha val="63137"/>
                          </a:srgbClr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2308320" y="4778640"/>
                      <a:ext cx="358920" cy="731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57254"/>
                          </a:srgbClr>
                        </a:gs>
                        <a:gs pos="100000">
                          <a:srgbClr val="e0e0e0">
                            <a:alpha val="0"/>
                          </a:srgbClr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438960" y="4481640"/>
                  <a:ext cx="1301760" cy="1573200"/>
                  <a:chOff x="6438960" y="4481640"/>
                  <a:chExt cx="1301760" cy="1573200"/>
                </a:xfrm>
              </p:grpSpPr>
              <p:sp>
                <p:nvSpPr>
                  <p:cNvPr id="245" name="未知"/>
                  <p:cNvSpPr/>
                  <p:nvPr/>
                </p:nvSpPr>
                <p:spPr>
                  <a:xfrm flipH="1">
                    <a:off x="6449400" y="5700960"/>
                    <a:ext cx="1281240" cy="353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0">
                        <a:moveTo>
                          <a:pt x="0" y="30"/>
                        </a:moveTo>
                        <a:cubicBezTo>
                          <a:pt x="6" y="13"/>
                          <a:pt x="22" y="0"/>
                          <a:pt x="41" y="0"/>
                        </a:cubicBezTo>
                        <a:cubicBezTo>
                          <a:pt x="60" y="0"/>
                          <a:pt x="76" y="13"/>
                          <a:pt x="81" y="30"/>
                        </a:cubicBezTo>
                        <a:lnTo>
                          <a:pt x="0" y="3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cecece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6438960" y="4481640"/>
                    <a:ext cx="1301760" cy="1301760"/>
                    <a:chOff x="6438960" y="4481640"/>
                    <a:chExt cx="1301760" cy="13017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438960" y="4481640"/>
                      <a:ext cx="1301760" cy="1301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a4a4a4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381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6481800" y="4735800"/>
                      <a:ext cx="493560" cy="73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e0e0">
                            <a:alpha val="0"/>
                          </a:srgbClr>
                        </a:gs>
                        <a:gs pos="100000">
                          <a:srgbClr val="ffffff">
                            <a:alpha val="63137"/>
                          </a:srgbClr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7342200" y="4778640"/>
                      <a:ext cx="358920" cy="731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57254"/>
                          </a:srgbClr>
                        </a:gs>
                        <a:gs pos="100000">
                          <a:srgbClr val="e0e0e0">
                            <a:alpha val="0"/>
                          </a:srgbClr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083040" y="4481640"/>
                  <a:ext cx="1301760" cy="1573200"/>
                  <a:chOff x="3083040" y="4481640"/>
                  <a:chExt cx="1301760" cy="1573200"/>
                </a:xfrm>
              </p:grpSpPr>
              <p:sp>
                <p:nvSpPr>
                  <p:cNvPr id="251" name="未知"/>
                  <p:cNvSpPr/>
                  <p:nvPr/>
                </p:nvSpPr>
                <p:spPr>
                  <a:xfrm flipH="1">
                    <a:off x="3091680" y="5700960"/>
                    <a:ext cx="1281240" cy="353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0">
                        <a:moveTo>
                          <a:pt x="0" y="30"/>
                        </a:moveTo>
                        <a:cubicBezTo>
                          <a:pt x="6" y="13"/>
                          <a:pt x="22" y="0"/>
                          <a:pt x="41" y="0"/>
                        </a:cubicBezTo>
                        <a:cubicBezTo>
                          <a:pt x="60" y="0"/>
                          <a:pt x="76" y="13"/>
                          <a:pt x="81" y="30"/>
                        </a:cubicBezTo>
                        <a:lnTo>
                          <a:pt x="0" y="3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9fceff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3083040" y="4481640"/>
                    <a:ext cx="1301760" cy="1301760"/>
                    <a:chOff x="3083040" y="4481640"/>
                    <a:chExt cx="1301760" cy="130176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3083040" y="4481640"/>
                      <a:ext cx="1301760" cy="1301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1b0ff"/>
                        </a:gs>
                        <a:gs pos="100000">
                          <a:srgbClr val="0072d7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3125880" y="4735800"/>
                      <a:ext cx="493560" cy="73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ffffff">
                            <a:alpha val="67058"/>
                          </a:srgbClr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986280" y="4778640"/>
                      <a:ext cx="358920" cy="731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8117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4754880" y="4481640"/>
                  <a:ext cx="1301400" cy="1573200"/>
                  <a:chOff x="4754880" y="4481640"/>
                  <a:chExt cx="1301400" cy="1573200"/>
                </a:xfrm>
              </p:grpSpPr>
              <p:sp>
                <p:nvSpPr>
                  <p:cNvPr id="257" name="未知"/>
                  <p:cNvSpPr/>
                  <p:nvPr/>
                </p:nvSpPr>
                <p:spPr>
                  <a:xfrm flipH="1">
                    <a:off x="4763880" y="5700960"/>
                    <a:ext cx="1280880" cy="353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0">
                        <a:moveTo>
                          <a:pt x="0" y="30"/>
                        </a:moveTo>
                        <a:cubicBezTo>
                          <a:pt x="6" y="13"/>
                          <a:pt x="22" y="0"/>
                          <a:pt x="41" y="0"/>
                        </a:cubicBezTo>
                        <a:cubicBezTo>
                          <a:pt x="60" y="0"/>
                          <a:pt x="76" y="13"/>
                          <a:pt x="81" y="30"/>
                        </a:cubicBezTo>
                        <a:lnTo>
                          <a:pt x="0" y="3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cecece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4754880" y="4481640"/>
                    <a:ext cx="1301400" cy="1301760"/>
                    <a:chOff x="4754880" y="4481640"/>
                    <a:chExt cx="1301400" cy="13017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4754880" y="4481640"/>
                      <a:ext cx="1301400" cy="1301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a4a4a4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3816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797360" y="4735800"/>
                      <a:ext cx="493200" cy="731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e0e0e0">
                            <a:alpha val="0"/>
                          </a:srgbClr>
                        </a:gs>
                        <a:gs pos="100000">
                          <a:srgbClr val="ffffff">
                            <a:alpha val="63137"/>
                          </a:srgbClr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5657760" y="4778640"/>
                      <a:ext cx="358560" cy="731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57254"/>
                          </a:srgbClr>
                        </a:gs>
                        <a:gs pos="100000">
                          <a:srgbClr val="e0e0e0">
                            <a:alpha val="0"/>
                          </a:srgbClr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62" name="Text Box 36"/>
            <p:cNvSpPr/>
            <p:nvPr/>
          </p:nvSpPr>
          <p:spPr>
            <a:xfrm>
              <a:off x="3422880" y="2219400"/>
              <a:ext cx="23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ceholde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6"/>
            <p:cNvSpPr/>
            <p:nvPr/>
          </p:nvSpPr>
          <p:spPr>
            <a:xfrm>
              <a:off x="1533600" y="4896000"/>
              <a:ext cx="1044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3211560" y="4896000"/>
              <a:ext cx="1044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6"/>
            <p:cNvSpPr/>
            <p:nvPr/>
          </p:nvSpPr>
          <p:spPr>
            <a:xfrm>
              <a:off x="4886640" y="4896000"/>
              <a:ext cx="1044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6"/>
            <p:cNvSpPr/>
            <p:nvPr/>
          </p:nvSpPr>
          <p:spPr>
            <a:xfrm>
              <a:off x="6567480" y="4896000"/>
              <a:ext cx="1044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zh-CN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sz="25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02160" y="3060720"/>
              <a:ext cx="3693960" cy="13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osi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zh-CN" sz="1800" spc="-1" strike="noStrike">
                  <a:solidFill>
                    <a:srgbClr val="333333"/>
                  </a:solidFill>
                  <a:latin typeface="Arial"/>
                </a:rPr>
                <a:t>ThemeGall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f5f5f"/>
                  </a:solidFill>
                  <a:latin typeface="Arial"/>
                </a:rPr>
                <a:t>ThemeGallery  is a Des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f5f5f"/>
                  </a:solidFill>
                  <a:latin typeface="Arial"/>
                </a:rPr>
                <a:t>Digital Content &amp;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f5f5f"/>
                  </a:solidFill>
                  <a:latin typeface="Arial"/>
                </a:rPr>
                <a:t>Mall developed by Gu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5f5f5f"/>
                  </a:solidFill>
                  <a:latin typeface="Arial"/>
                </a:rPr>
                <a:t>Design Inc.</a:t>
              </a:r>
              <a:r>
                <a:rPr b="0" lang="zh-CN" sz="1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693800" y="2927520"/>
            <a:ext cx="4175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89898"/>
                  </a:outerShdw>
                </a:effectLst>
                <a:latin typeface="微软雅黑"/>
              </a:rPr>
              <a:t>谢谢观赏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989898"/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32:35Z</dcterms:created>
  <dc:creator/>
  <dc:description/>
  <dc:language>en-US</dc:language>
  <cp:lastModifiedBy/>
  <dcterms:modified xsi:type="dcterms:W3CDTF">2015-01-08T08:32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