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799763" cy="6065838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DC1D-5B91-4673-ABC8-3A740E4CB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0360" cy="101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415520"/>
            <a:ext cx="972036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9280" y="3506040"/>
            <a:ext cx="972036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8660-7C35-4062-AA47-8C853099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0360" cy="101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9280" y="1415520"/>
            <a:ext cx="474336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20240" y="1415520"/>
            <a:ext cx="474336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9280" y="3506040"/>
            <a:ext cx="474336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20240" y="3506040"/>
            <a:ext cx="474336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DA05-ABF6-44F5-BEF8-9BB42A369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0360" cy="101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9280" y="1415520"/>
            <a:ext cx="312984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26080" y="1415520"/>
            <a:ext cx="312984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112880" y="1415520"/>
            <a:ext cx="312984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9280" y="3506040"/>
            <a:ext cx="312984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26080" y="3506040"/>
            <a:ext cx="312984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112880" y="3506040"/>
            <a:ext cx="312984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09A3-D979-4F58-8260-6787C7529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C870-7C0A-431F-845A-AE98DCFF8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0360" cy="101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9280" y="1415520"/>
            <a:ext cx="972036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6493-AE13-4CC2-ABCC-B975E06E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0360" cy="101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280" y="1415520"/>
            <a:ext cx="9720360" cy="4002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9420-10AC-46C9-978C-3AFB81EA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0360" cy="101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280" y="1415520"/>
            <a:ext cx="4743360" cy="4002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520240" y="1415520"/>
            <a:ext cx="4743360" cy="4002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86E6-AF16-4548-8749-3FE1706E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0360" cy="101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10121-59F4-49AD-8241-9A49BD1C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39280" y="242640"/>
            <a:ext cx="972036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4871-033C-4D16-9E59-069CE28C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0360" cy="101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280" y="1415520"/>
            <a:ext cx="474336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520240" y="1415520"/>
            <a:ext cx="4743360" cy="4002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9280" y="3506040"/>
            <a:ext cx="474336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99F9-4F4C-4B35-98AF-4B648A14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0360" cy="101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9280" y="1415520"/>
            <a:ext cx="972036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2536-E465-4B18-93D1-2F77F96E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0360" cy="101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280" y="1415520"/>
            <a:ext cx="4743360" cy="4002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520240" y="1415520"/>
            <a:ext cx="474336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520240" y="3506040"/>
            <a:ext cx="474336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E822-C110-46D6-B885-341E8280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0360" cy="101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280" y="1415520"/>
            <a:ext cx="474336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520240" y="1415520"/>
            <a:ext cx="474336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9280" y="3506040"/>
            <a:ext cx="972036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530CE-1613-40B5-9659-13A5DCE3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0360" cy="101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280" y="1415520"/>
            <a:ext cx="972036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9280" y="3506040"/>
            <a:ext cx="972036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1B66F-2883-4238-ACE4-05B08DF7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0360" cy="101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280" y="1415520"/>
            <a:ext cx="474336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520240" y="1415520"/>
            <a:ext cx="474336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9280" y="3506040"/>
            <a:ext cx="474336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20240" y="3506040"/>
            <a:ext cx="474336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A67A-8FB0-4464-9F12-BC64DF016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0360" cy="101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280" y="1415520"/>
            <a:ext cx="312984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26080" y="1415520"/>
            <a:ext cx="312984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112880" y="1415520"/>
            <a:ext cx="312984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9280" y="3506040"/>
            <a:ext cx="312984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26080" y="3506040"/>
            <a:ext cx="312984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112880" y="3506040"/>
            <a:ext cx="312984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A848-B854-44EA-BC4E-9AC25E5CA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0360" cy="101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280" y="1415520"/>
            <a:ext cx="9720360" cy="4002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8985-E339-4D33-AD5C-A614D011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0360" cy="101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9280" y="1415520"/>
            <a:ext cx="4743360" cy="4002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20240" y="1415520"/>
            <a:ext cx="4743360" cy="4002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ACDD-945B-4B05-932A-3839891A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0360" cy="101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92EB-EA1E-4458-8C94-7438EC21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9280" y="242640"/>
            <a:ext cx="972036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409C-5A3A-4339-890E-0FCB96D4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0360" cy="101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280" y="1415520"/>
            <a:ext cx="474336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20240" y="1415520"/>
            <a:ext cx="4743360" cy="4002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9280" y="3506040"/>
            <a:ext cx="474336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ED54-5EDC-4584-A71B-C2CD83DB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0360" cy="101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9280" y="1415520"/>
            <a:ext cx="4743360" cy="4002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20240" y="1415520"/>
            <a:ext cx="474336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20240" y="3506040"/>
            <a:ext cx="474336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C9BD-E02F-4064-981E-4F0E3960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0360" cy="101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9280" y="1415520"/>
            <a:ext cx="474336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20240" y="1415520"/>
            <a:ext cx="474336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9280" y="3506040"/>
            <a:ext cx="972036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6B93-04C2-4401-AEDE-0048AC85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920" y="-17640"/>
            <a:ext cx="10791720" cy="6075720"/>
            <a:chOff x="7920" y="-17640"/>
            <a:chExt cx="10791720" cy="607572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7920" y="-17640"/>
              <a:ext cx="10791720" cy="607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rcRect l="5396" t="5349" r="74912" b="80615"/>
            <a:stretch/>
          </p:blipFill>
          <p:spPr>
            <a:xfrm>
              <a:off x="468720" y="225000"/>
              <a:ext cx="1807560" cy="96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0360" cy="101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9280" y="1415520"/>
            <a:ext cx="9720360" cy="4002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 fontScale="94000"/>
          </a:bodyPr>
          <a:p>
            <a:pPr marL="332640" indent="-33264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61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10240" indent="-2221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553400" indent="-2224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1996560" indent="-220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1996560" indent="-220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1996560" indent="-220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9280" y="5524560"/>
            <a:ext cx="2521080" cy="420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688920" y="5524560"/>
            <a:ext cx="3419640" cy="420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738560" y="5524560"/>
            <a:ext cx="2521080" cy="420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AD57-3D5F-44EC-8CED-71C04C848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09280" y="1884240"/>
            <a:ext cx="9178920" cy="1300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39280" y="5524560"/>
            <a:ext cx="2521080" cy="420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688920" y="5524560"/>
            <a:ext cx="3419640" cy="420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738560" y="5524560"/>
            <a:ext cx="2521080" cy="420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46CB-8834-4D69-99A4-E3D88CC6E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40000" y="1419120"/>
            <a:ext cx="9719640" cy="35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73040" indent="0" algn="ctr">
              <a:spcBef>
                <a:spcPts val="700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464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158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892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892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892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10799640" cy="6056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628120" y="562608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09280" y="1884240"/>
            <a:ext cx="9178920" cy="1300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618920" y="3436920"/>
            <a:ext cx="7559640" cy="15508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7996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09280" y="1884240"/>
            <a:ext cx="9178920" cy="1300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18920" y="3436920"/>
            <a:ext cx="7559640" cy="15508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0" t="606" r="0" b="0"/>
          <a:stretch/>
        </p:blipFill>
        <p:spPr>
          <a:xfrm>
            <a:off x="1440" y="547560"/>
            <a:ext cx="1079820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09280" y="1884240"/>
            <a:ext cx="9178920" cy="1300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618920" y="3436920"/>
            <a:ext cx="7559640" cy="15508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10799640" cy="6216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628120" y="584208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09280" y="1884240"/>
            <a:ext cx="9178920" cy="1300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18920" y="3436920"/>
            <a:ext cx="7559640" cy="15508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0144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9280" y="1884240"/>
            <a:ext cx="9178920" cy="1300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618920" y="3436920"/>
            <a:ext cx="7559640" cy="15508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10802880" cy="60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0" y="0"/>
            <a:ext cx="9999720" cy="6066000"/>
            <a:chOff x="0" y="0"/>
            <a:chExt cx="9999720" cy="6066000"/>
          </a:xfrm>
        </p:grpSpPr>
        <p:sp>
          <p:nvSpPr>
            <p:cNvPr id="104" name="矩形 4"/>
            <p:cNvSpPr/>
            <p:nvPr/>
          </p:nvSpPr>
          <p:spPr>
            <a:xfrm>
              <a:off x="129384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516320"/>
              <a:ext cx="9999720" cy="45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Box 7"/>
            <p:cNvSpPr/>
            <p:nvPr/>
          </p:nvSpPr>
          <p:spPr>
            <a:xfrm rot="20926800">
              <a:off x="2278440" y="3158640"/>
              <a:ext cx="551232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7T13:46:24Z</dcterms:created>
  <dc:creator>rachel</dc:creator>
  <dc:description/>
  <dc:language>en-US</dc:language>
  <cp:lastModifiedBy/>
  <dcterms:modified xsi:type="dcterms:W3CDTF">2015-01-08T08:18:04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