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004F2-DF49-4BFA-8580-885916222B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82072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4198320"/>
            <a:ext cx="82072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3E3D6-815F-4FC8-895C-6052947C47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20905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41983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41983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5CE51-6A89-4E97-B60B-1299261A55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26424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2090520"/>
            <a:ext cx="26424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2090520"/>
            <a:ext cx="26424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4198320"/>
            <a:ext cx="26424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4198320"/>
            <a:ext cx="26424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4198320"/>
            <a:ext cx="26424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0368A-FF09-4507-A717-BC8372E00D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2090520"/>
            <a:ext cx="820728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82072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40050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2090520"/>
            <a:ext cx="40050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842920" y="116172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2090520"/>
            <a:ext cx="40050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360" y="41983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2090520"/>
            <a:ext cx="820728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6A495-9919-423B-A31A-7EFB33CA06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40050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20905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41983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20905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4198320"/>
            <a:ext cx="82072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82072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60" y="4198320"/>
            <a:ext cx="82072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20905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41983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41983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26424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3240" y="2090520"/>
            <a:ext cx="26424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8120" y="2090520"/>
            <a:ext cx="26424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360" y="4198320"/>
            <a:ext cx="26424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3240" y="4198320"/>
            <a:ext cx="26424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8120" y="4198320"/>
            <a:ext cx="26424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82072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43187-FC22-4E02-8CBC-47821A6DA0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40050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2090520"/>
            <a:ext cx="40050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96CAD-8A73-4027-9CDC-7138AC5BE0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34B45-7E31-461C-8A75-90C2B81A56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842920" y="116172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8AA58-4A00-466D-BE09-DF06DD4DFD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2090520"/>
            <a:ext cx="40050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41983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57207-D786-49E5-958C-E8DBD706C1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40050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20905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41983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5F330-B4F4-450E-B4E7-DB68FED65B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20905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4198320"/>
            <a:ext cx="82072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F1F6E-4B14-48BF-A301-5408714E39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28440" y="0"/>
            <a:ext cx="917244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2090520"/>
            <a:ext cx="82072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b4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b4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b4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b4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235640" y="64018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03D4E39-7D35-4CAC-834F-45435F754E95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-28440" y="-19080"/>
            <a:ext cx="9172440" cy="68770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67000" y="4741920"/>
            <a:ext cx="54086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b4de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b4de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67000" y="4741920"/>
            <a:ext cx="54086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六一儿童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下载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274920" y="568764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32440" y="6426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82072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46548-2F5F-42C5-BDAC-BD025D8CC7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67000" y="4741920"/>
            <a:ext cx="54086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谢谢欣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274920" y="568764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6F166-293F-42C6-A8AA-8B247EDB3B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User</cp:lastModifiedBy>
  <dcterms:modified xsi:type="dcterms:W3CDTF">2015-01-09T03:22:31Z</dcterms:modified>
  <cp:revision>16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