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265-8054-4562-BF1D-211CFAAC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007D-4F24-462B-8C60-6C9C13674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1832-CCD1-4DE4-8063-A885503F5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622-4F4B-4662-8AA9-E3191E6F8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BC70-C83F-4AB2-9793-E577AB586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A9A96-3F94-466D-99A3-3FE4160C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9725-5261-4464-86B5-45D8818C2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2CBDE-E33C-4868-94EA-61BF1D154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D6D5-6578-40FC-9329-13B136BEF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52DB-A9B0-4854-A0F2-421FD554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AC8E-68D1-4C27-A911-816722355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AEEE-368B-487B-AD03-ECCAB214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3C189-2F2C-48B7-840E-9FE116B8F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-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7161840" y="632448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44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9T06:49:33Z</dcterms:created>
  <dc:creator/>
  <dc:description/>
  <dc:language>en-US</dc:language>
  <cp:lastModifiedBy>董锋</cp:lastModifiedBy>
  <dcterms:modified xsi:type="dcterms:W3CDTF">2015-01-08T12:47:32Z</dcterms:modified>
  <cp:revision>3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