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65B3-4B7C-4C41-8CA4-00938464E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A8BA-C919-4E1B-B89E-CC384277A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5D4A-DCBF-4C11-A3CC-0BB990994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D165-6718-4EB7-86BC-EA32B95F3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53B56-3A27-42B9-9751-C806FADB8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8BBF3-C79A-4709-B4CA-01CCAA7F0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A8E43-9A06-43E9-AF02-F88228C8A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10468-A325-4494-B285-36D7296D8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4D3DB-76C4-4C15-A688-76CC3E3C8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8466C-BC40-4CA1-AB68-DC7A3A066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5D564-F74E-4B15-998D-05F86E62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E43E-D471-4391-922E-A9FCBA06C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7FF88-B5FD-436F-BB44-907197E5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A73A9-72E4-4239-A424-FB95EE49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EF2BC-0295-40E0-B744-A54A4F836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8F22F-4B55-4AC5-8857-9C0430003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F037C-D40A-4A88-A61D-95F125735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7186-F1D6-4BF3-80CF-7870895EE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05CB-BF2A-4AA3-99DD-EADBFB913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FCD7-B2E2-4C58-89B4-9617187BF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C744-5D08-48B9-8EE1-1C349E6EA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6B39-2A04-4A8A-8746-C4BFF9E5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0BF6-5E57-422D-9C6F-46521849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05FB-56EE-4CEF-8433-83DFB5CF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0BB71-63E8-423C-86C9-815A184715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8817A-1872-4443-95AF-D47207447D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-12600" y="6381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159240" y="836640"/>
            <a:ext cx="1521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曾子曰：“慎终追远，民德归厚矣。”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040" y="6381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847280" y="907920"/>
            <a:ext cx="850680" cy="46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子禽问于子贡曰：夫子至于是邦也，必闻其政，求之与，抑与之与？”子贡曰：“夫子温、良、恭、俭、让以得之。夫子之求之也，其诸异乎人之求之与？”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440400" y="1125360"/>
            <a:ext cx="1521000" cy="44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子曰：“父在，观其志；父没，观其行；三年无改于父之道，可谓孝矣。”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587000" y="981000"/>
            <a:ext cx="85068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有子曰：“礼之用，和为贵。先王之道，斯为美。小大由之，有所不行。知和而和，不以礼节之，亦不可行也。”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656040" y="907920"/>
            <a:ext cx="1521000" cy="47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有子曰：“信近于义，言可复也；恭近于礼，远耻辱也；因不失其亲，亦可宗也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967440" y="1197000"/>
            <a:ext cx="152100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子曰：“君子食无求饱，居无求安，敏于事而慎于言，就有道而正焉，可谓好学也已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304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100280" y="981000"/>
            <a:ext cx="2008800" cy="45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子贡曰：“贫而无谄，富而无骄，何如？”子曰：“可也；未若贫而乐，富而好礼者也。” 子贡曰：“《诗》云：‘如切如磋，如琢如磨’，其斯之谓与？”子曰：“赐也，始可与言《诗》已矣，告诸往而知来者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613200" y="1052640"/>
            <a:ext cx="15210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子曰：“不患人之不己知，患不知人也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43280" y="2708280"/>
            <a:ext cx="3898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谢谢大家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574720" y="981000"/>
            <a:ext cx="6029640" cy="48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子曰：“学而时习之，不亦说乎！有朋自远方来，不亦乐乎！人不知，而不愠，不亦君子乎！”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753680" y="981000"/>
            <a:ext cx="850680" cy="48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有子曰：“其为人也孝悌，而好犯上者，鲜矣；不好犯上，而好作乱者，未之有也。君子务本，本立而道生。孝悌也者，其为人之本与？”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477200" y="907920"/>
            <a:ext cx="850680" cy="48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子曰：巧言令色，鲜矣仁。”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72040" y="1125360"/>
            <a:ext cx="1521000" cy="42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曾子曰：“吾日三省吾身。为人谋而不忠乎？与朋友交而不信乎？传不习乎？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5400" y="6381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707160" y="1125360"/>
            <a:ext cx="1521000" cy="42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子曰：“道千乘之国，敬事而信，节用而爱人，使民以时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656040" y="1125360"/>
            <a:ext cx="152100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子曰：“弟子入则孝，出则弟，谨而信，泛爱众，而亲仁，行有余力，则以学文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558200" y="981000"/>
            <a:ext cx="85068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子夏曰：“贤贤易色；事父母能竭其力；事君，能致其身；与朋友交，言而有信。虽曰未学，吾必谓之学矣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326360" y="907920"/>
            <a:ext cx="850680" cy="47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子曰：“君子，不重则不威；学则不固。主忠信。无友不如己者；过则勿惮改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5T12:28:55Z</dcterms:created>
  <dc:creator>MC SYSTEM</dc:creator>
  <dc:description/>
  <dc:language>en-US</dc:language>
  <cp:lastModifiedBy>MC SYSTEM</cp:lastModifiedBy>
  <dcterms:modified xsi:type="dcterms:W3CDTF">2015-01-08T13:06:33Z</dcterms:modified>
  <cp:revision>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